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224-F1AB-4E23-870D-F2F06262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DC5-4E4A-4484-907F-ED8F23B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C02-C25E-43D7-85E0-568CCA2D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036-C571-4805-BCC3-10E2CA3A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7CFC-60D7-4C47-A9FF-092E7B27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AE45-76DA-4AF8-9F8D-08CF6863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94BF-6A5E-47DE-BCD9-4B7662FE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A751-3D6E-4BC7-B477-C046BEDD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5FB5-97B7-4CD3-8D7C-B4CCE78A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50720" y="84240"/>
            <a:ext cx="77929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6013-06F1-4D03-91B7-A827187A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51D5-E0F9-44CB-B24A-9F061EE9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137-90A5-4A9F-8F7C-4C235A43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E92F-EB3F-46E3-AA63-48C5523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131C-148C-46DD-9D0B-5A879471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BABF-F1E5-4FA9-99C6-7BBE86BD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1765-BB8D-488E-9873-5DA22EED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11E7-0E7B-4970-B158-049E9295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449-E35A-45E4-92B9-0B9D5203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659-A07F-4A27-A55B-5095932F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648-F75A-488D-8D67-4E928087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50720" y="84240"/>
            <a:ext cx="77929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0A5-788C-4A74-8347-BEB5EFEA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8B2-0989-4530-9E0E-DB395324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9C8-7E04-47EF-936A-FC4216FA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792-F5F1-48C7-9C8D-A9210B72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843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843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066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6066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5335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763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8668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E81D-9B71-4787-A40E-377919E4FC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5D1F-8B08-4F3E-A6AB-20FE4F676C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cstc.org/~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tsc.ieee.org/ltsc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tc.org/" TargetMode="External"/><Relationship Id="rId2" Type="http://schemas.openxmlformats.org/officeDocument/2006/relationships/hyperlink" Target="http://www.cstc.org/~cri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urriculum Resources in Interactive Multimedi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CRIM) http://www.cstc.org/~cri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CM Multimedia’99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lando, Florida - Nov. 2,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ward Fox (VT), Rachelle Heller (GWU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a Long (GWU), David Watkins (V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gging 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bmitting to CRIM - Choosing a Topic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’s Avail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Els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617840"/>
            <a:ext cx="9144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ep by Step Overview of Softwa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Ac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ng an Ac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ging 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nteer to be a Revie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mit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er Privile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or Privile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er Accounts - Creating an Account (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er Accounts - Creating an Account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er Accounts - Logging 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rowsing (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rowsing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ssures for Multimedia Edu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sciplines claim multi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, Computer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al Software/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 &amp; Computer Engineering, Electron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uter) Graphics, HCI, Media Arts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different pedagogical techniques presented and outcomes sou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ing (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ing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bmitting a Resource (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bmitting a Resource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bmitting a Resource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bmitting a Resource (4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bmitting a Resource (5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bmitting a Resource (6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er Accounts – Volunteer to be Review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viewer Privileges (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merging Requests for Education on M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50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will go to teachers (who have more to build upon) and students (who will have a richer environment for learn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M field needs properly trained perso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this with resources + curricu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gether these help us move toward a DL for MM -&gt; CS -&gt; SMETE -&gt; NSDL - NSF DUE      (~$50M funding will be announced soon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viewer Privileges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viewer Privileg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viewer Privileges (4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ditor Privileges (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ditor Privileges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ditor Privileg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ditor Privileges (4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RC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RC – Search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RC – Search Resul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M as a 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9000" y="1981080"/>
          <a:ext cx="880272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1981080"/>
                    <a:ext cx="88027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RC – Display Record (Dublin Cor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RC – Display Record (DC HTML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RC – Display Record (DC RDF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RC – Display Record (MARC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RC – Create Record (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RC – Create Record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RC – Create Record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: Ways of Using CRI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tc.org/~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ri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mit / nomina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8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dap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dop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e of Metadata Tag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2600" y="2529000"/>
          <a:ext cx="77724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529000"/>
                    <a:ext cx="77724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istributed Repositor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Instructional Authoring and Distribution Network for Europe http://ariadne.unil.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ment of tools and methodologies for producing, managing and reusing computer-based pedagogical elements and telematics supported training curricul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ther Distributed Repositor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40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EE Learning Technology Standa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, recommended practices, and guides for software components, tools, technologies and design methods for the computer implementations of education and training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ltsc.ieee.org/lt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-Learning TO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ng ‘telematics’ into courses http://teletop.edte.utwente.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is CRI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97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SF Division of Undergraduate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M: Education Board, SIGCSE, SIGM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TC: Deborah Knox, Scott Grissom(, Fo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r Science Teaching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tc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tc.org/~cr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iculum Resources in Interactive Multi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50720" y="8424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Does CRIM Exi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97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llect, review, make availab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ncourage developing resourc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ncourage sharing of syllab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ork together to develop a “union syllabi”, publish guidelin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agstuhl meeting June 20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14:42:06Z</dcterms:created>
  <dc:creator>David A. Watkins</dc:creator>
  <dc:description/>
  <dc:language>en-US</dc:language>
  <cp:lastModifiedBy>Ed Fox</cp:lastModifiedBy>
  <dcterms:modified xsi:type="dcterms:W3CDTF">1999-11-04T13:37:18Z</dcterms:modified>
  <cp:revision>24</cp:revision>
  <dc:subject/>
  <dc:title>Curriculum Resources in Interactive Multimedia  (CRIM)</dc:title>
</cp:coreProperties>
</file>