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B72-E6BE-4BAA-B191-360A17BC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31082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2753640"/>
            <a:ext cx="31082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F3C-1708-4376-9C3D-20C85BC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8EF-0469-458A-9AAF-CBA8080D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5520" y="13208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13208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27536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5520" y="27536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2753640"/>
            <a:ext cx="10004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7F6-AA33-483E-AFD3-81BD50D6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20840"/>
            <a:ext cx="3108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51-C705-46E4-B589-BE829450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310824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A6F-963E-4FD4-A1EE-854C77D5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216-0907-49A1-804D-8292B1CC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55C-894E-4E2E-BC87-7581B05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407520"/>
            <a:ext cx="3108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6C3-3D78-478E-B936-B0BCC204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1CB-CD2C-4BD9-A076-20517F3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27536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22F-FF78-4108-B8C0-82B5D48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1320840"/>
            <a:ext cx="151668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2753640"/>
            <a:ext cx="3108240" cy="1308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F78-3328-4B3A-A5E5-E28AC7C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407520"/>
            <a:ext cx="310824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20840"/>
            <a:ext cx="3108240" cy="2743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824040" indent="-119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320" y="4165200"/>
            <a:ext cx="762120" cy="306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5200"/>
            <a:ext cx="1159200" cy="306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5200"/>
            <a:ext cx="762120" cy="306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85A457B3-7AB4-42BC-9511-D3668110F6B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02680" y="190440"/>
            <a:ext cx="3170520" cy="876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pare is flat Then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3840" y="1409760"/>
            <a:ext cx="2444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523880"/>
            <a:ext cx="12193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 N Ti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nscrew a n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3840" y="2666880"/>
            <a:ext cx="2444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781360"/>
            <a:ext cx="12193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 N Ti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rew on a n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800" y="1082520"/>
            <a:ext cx="20844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rmAutofit/>
          </a:bodyPr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up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crew the 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Wh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on S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ew on the 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Ca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30040" y="334800"/>
            <a:ext cx="3152880" cy="347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der the integers (unique) a, b,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5000" y="755640"/>
            <a:ext cx="857160" cy="3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389240"/>
            <a:ext cx="85716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389240"/>
            <a:ext cx="85752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7360" y="2162160"/>
            <a:ext cx="631800" cy="3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3960" y="2144880"/>
            <a:ext cx="57636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&gt;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8600" y="2168640"/>
            <a:ext cx="5619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, a,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29080" y="2146320"/>
            <a:ext cx="56016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, b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00" y="2951280"/>
            <a:ext cx="56052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0400" y="2951280"/>
            <a:ext cx="56052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, c,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0280" y="2949480"/>
            <a:ext cx="56196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, a,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84280" y="2949480"/>
            <a:ext cx="5605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, c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252080" y="1068480"/>
            <a:ext cx="22716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69920" y="1068480"/>
            <a:ext cx="35100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27200" y="1708200"/>
            <a:ext cx="2966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70080" y="1724040"/>
            <a:ext cx="10476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98520" y="1724040"/>
            <a:ext cx="17496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3000" y="1724040"/>
            <a:ext cx="26352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0760" y="2513160"/>
            <a:ext cx="22860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1960" y="2496960"/>
            <a:ext cx="2286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82800" y="2479680"/>
            <a:ext cx="20952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03640" y="2463840"/>
            <a:ext cx="33156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06848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400" y="175104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760" y="260496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80036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1720" y="255600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8400" y="107784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2400" y="182736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11520" y="182736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41400" y="2600280"/>
            <a:ext cx="316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8000" y="2549520"/>
            <a:ext cx="315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52880" cy="906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 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‘L’ ‘X’ ‘V’ ‘I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in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nt to give each a value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6200" y="1092240"/>
            <a:ext cx="2777760" cy="1692000"/>
            <a:chOff x="376200" y="1092240"/>
            <a:chExt cx="2777760" cy="1692000"/>
          </a:xfrm>
        </p:grpSpPr>
        <p:sp>
          <p:nvSpPr>
            <p:cNvPr id="165" name=""/>
            <p:cNvSpPr/>
            <p:nvPr/>
          </p:nvSpPr>
          <p:spPr>
            <a:xfrm>
              <a:off x="1671840" y="10922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9200" y="1239840"/>
              <a:ext cx="647640" cy="328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200" y="1946520"/>
              <a:ext cx="525600" cy="26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0480" y="1957680"/>
              <a:ext cx="525600" cy="26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75960" y="1956960"/>
              <a:ext cx="525600" cy="26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28360" y="1957680"/>
              <a:ext cx="525600" cy="26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" rIns="3240" tIns="1800" bIns="18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= 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37920" y="1502640"/>
              <a:ext cx="77076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409040" y="1568520"/>
              <a:ext cx="157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94960" y="1551960"/>
              <a:ext cx="31464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2280" y="1470240"/>
              <a:ext cx="91080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9840" y="25866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920" y="2209680"/>
              <a:ext cx="103248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8880" y="2209680"/>
              <a:ext cx="2275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706400" y="2225520"/>
              <a:ext cx="43740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706760" y="2209680"/>
              <a:ext cx="1156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1440" y="2768760"/>
            <a:ext cx="31701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ch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case ‘I’: n = 1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break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case ‘V’: n = 5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break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default:  cout &lt;&lt; “error”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break;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640" y="3736800"/>
            <a:ext cx="27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Given as input 3 integers representing a date (MM / DD / YYYY) output the date of the next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onth, day, yea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17 / 199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18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/ 31 / 199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1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 / 31 / 199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/ 1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/ 28 / 199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/ 1 /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ed days_in_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00240" y="219240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92320" y="2416320"/>
            <a:ext cx="47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2200" y="2624040"/>
            <a:ext cx="47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79360" y="2847960"/>
            <a:ext cx="47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52880" cy="4122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5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7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8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0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2: days_in_month = 3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4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6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9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1: days_in_month = 3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2:  if (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s_in_month = 29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s_in_month = 28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2: days_in_month = 3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day == days_in_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month == 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nth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ear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nth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ay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9360" y="9777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880" y="14479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itch statement    p. 278-2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break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letter is ‘X’, ‘L’, ‘M’, ‘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witch (let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X’: stateme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L’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M’: stateme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se ‘S’: stateme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ault:  statement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ment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 Coer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ven the decl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someI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someFloa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Float = 12; // stores 12.0 i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some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Int = 4.6; // stores 4 i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some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make programs as clear as possibl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 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 RHS put   int(        )  OR  float(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Float = float(2 * someInt + 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omeInt = int(someFloat / 2.5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ket Calculator (+, -, *, 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 / 5 = 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 / 5 - 1.2 =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*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  /  5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ult   oper   value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ming       while          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   *    4                            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ult  oper 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4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73240" y="11905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28920" y="116172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173240" y="116172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4000" y="169056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90840" y="166176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24000" y="166176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185840" y="1862280"/>
            <a:ext cx="2034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571760" y="18716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754280" y="1852200"/>
            <a:ext cx="1620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9200" y="26906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17680" y="279576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279576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89240" y="26431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***********************************************************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PROGRAM: Pocket Calc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PURPOSE: This program simulates the operation of a pock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         calculator.  Allowed operations are addition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         subtraction, multiplication and divisio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***********************************************************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float result;  // holds intermediate and final resul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float value;   // the new oper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har oper;     // the new oper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resul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oper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while (oper != ‘=’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witch (op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+’: result = result +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-’: result = result -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*’: result = result *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ase ‘/’: result = result / value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default:  cout &lt;&lt; “Incorrect operator” &lt;&lt; endl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in &gt;&gt; oper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cout &lt;&lt; resul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compact notation for a W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grades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 (i = 1; i &lt;= 25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grad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grades = sumgrades + grad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nitialization           Test            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 ( InitStatement;  Expression1; Expression2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tem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3040" y="228600"/>
            <a:ext cx="1016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040" y="1333440"/>
            <a:ext cx="1016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5440" y="2705040"/>
            <a:ext cx="1177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12840" y="190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0200" y="8002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0200" y="3808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2840" y="6094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2840" y="102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7920" y="1257480"/>
            <a:ext cx="187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12840" y="1333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70200" y="1523880"/>
            <a:ext cx="487080" cy="344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80960" y="1943280"/>
            <a:ext cx="447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97240" y="1943280"/>
            <a:ext cx="447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3"/>
            <a:endCxn id="59" idx="0"/>
          </p:cNvCxnSpPr>
          <p:nvPr/>
        </p:nvCxnSpPr>
        <p:spPr>
          <a:xfrm>
            <a:off x="2357280" y="1697040"/>
            <a:ext cx="26424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7" idx="1"/>
            <a:endCxn id="58" idx="0"/>
          </p:cNvCxnSpPr>
          <p:nvPr/>
        </p:nvCxnSpPr>
        <p:spPr>
          <a:xfrm flipV="1" rot="10800000">
            <a:off x="1604160" y="1696680"/>
            <a:ext cx="26604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2112840" y="24004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8" idx="2"/>
            <a:endCxn id="62" idx="0"/>
          </p:cNvCxnSpPr>
          <p:nvPr/>
        </p:nvCxnSpPr>
        <p:spPr>
          <a:xfrm flipH="1" rot="16200000">
            <a:off x="1743480" y="2031840"/>
            <a:ext cx="229320" cy="508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9" idx="2"/>
            <a:endCxn id="62" idx="0"/>
          </p:cNvCxnSpPr>
          <p:nvPr/>
        </p:nvCxnSpPr>
        <p:spPr>
          <a:xfrm rot="5400000">
            <a:off x="2251800" y="2031840"/>
            <a:ext cx="229320" cy="508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1219320" y="2630520"/>
            <a:ext cx="1869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2840" y="2666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0200" y="28576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2840" y="3086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0200" y="3276720"/>
            <a:ext cx="487080" cy="3427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2840" y="361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0200" y="3809880"/>
            <a:ext cx="446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2720" y="3330720"/>
            <a:ext cx="446400" cy="2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9" idx="3"/>
            <a:endCxn id="72" idx="1"/>
          </p:cNvCxnSpPr>
          <p:nvPr/>
        </p:nvCxnSpPr>
        <p:spPr>
          <a:xfrm flipV="1">
            <a:off x="2357280" y="3446280"/>
            <a:ext cx="326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2111400" y="31543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16360" y="315576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46120" y="3152880"/>
            <a:ext cx="569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90760" y="151128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92200" y="327024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3960" y="149688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720" y="3600360"/>
            <a:ext cx="1490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6720" y="4049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sted FOR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es in 2 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or (lastnum = 1; lastnum &lt;= 7; lastnum++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or (number = 1; number &lt;= lastnum; number++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number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ll 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2345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9680" y="187200"/>
            <a:ext cx="3170520" cy="4221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m the first 10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LE                        DO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0;           sum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 = 1;             i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 (i &lt;= 100)  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                 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sum + i;     sum = sum +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++;               i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              } while(i &lt;= 10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 (i = 1; i &lt;= 100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12400" y="171360"/>
            <a:ext cx="3189240" cy="11160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  Value retu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1068480" y="1287720"/>
            <a:ext cx="328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6280" y="1512720"/>
            <a:ext cx="31892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rmAutofit/>
          </a:bodyPr>
          <a:p>
            <a:pPr marL="90360" indent="-90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176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3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 Void (retur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 return stat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15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ample      To print thi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55000"/>
              </a:lnSpc>
              <a:spcBef>
                <a:spcPts val="150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elcome Hom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 ...... 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5920" y="2101680"/>
            <a:ext cx="19692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12400" y="171000"/>
            <a:ext cx="3189240" cy="421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int2line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“ Welcome Home!”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int4line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re the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Print2line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“**** ......  **”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“**** ......  **”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compiler needs to know that Print2lines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t4lines are VOID functions with no parame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s.  Therefore, PROTOTYPING declarations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eeded before they are called in ‘main’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include &lt;iostream.h&gt;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Print2lines(); // prot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Print4line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12400" y="171000"/>
            <a:ext cx="3189240" cy="421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better solution is to us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nction that prints a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ber of lines indicated i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met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li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oid Printlines(int); // function proto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rintlines(2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“ Welcome Home!” &lt;&lt; end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rintlines(4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oid Printlines(int numl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int coun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or (count = 1; count &lt;= numlines; count++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ut &lt;&lt; “**** ......  **” &lt;&lt; endl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9680" y="186840"/>
            <a:ext cx="3170520" cy="40006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Declarations an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TryThis(int, int&amp;, float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nt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nt2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someFloa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This(int1, int2, someFloat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TryThis(int param1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&amp; param2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param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  statements involving “params” 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280" y="16095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520" y="192420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040" y="34131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" y="375588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when the only role of the paramete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 to carry value(s) into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writemeters(int feet, int inch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lengthin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meter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engthins = 12 * feet + inche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ters = lengthins / 39.39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setw(6) &lt;&lt; setprecisio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&lt;&lt; meter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e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ch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re VALUE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sible c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emeters(6, 4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emeters(ft, ins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ft+2, ins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255680" y="3711240"/>
            <a:ext cx="4464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625400" y="3720600"/>
            <a:ext cx="270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carry value(s) into and back from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: to swap or exchange the values of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swap(int&amp; a, int&amp; 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temp;  // temporary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 = a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ssible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wap(x, y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wap(m, n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here the actual parameters must be inte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must have already been assign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.g. writemeters(ft, ins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void writemeters(int fee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 inch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ap(x, y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void swap(int&amp; a, int&amp; 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ss by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copy of the value of the parameter is passed into th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es in the calling FUNCTIO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ss by REFERENCE (Addr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ddress of the parameter is passed into th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changes made inside the FUNCTION are perma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i.e. values of x and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2040" y="861840"/>
            <a:ext cx="20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3800" y="11826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230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ameter Passing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alc(int&amp; p1, float p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in ma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ze = 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tance = 4.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c(size, distanc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TUAL PARAMETERS mat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o FORMAL PARAMETERS on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o 1 ba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te: Type and Ord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be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IN FUNCTIO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CALLED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lc(size, distance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void calc(int&amp; p1, float p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655640" y="2021040"/>
            <a:ext cx="217440" cy="20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4440" y="131436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0960" y="20239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81200" y="330048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65280" y="3786120"/>
            <a:ext cx="74448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85680" y="4024440"/>
            <a:ext cx="3589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54120" y="414648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965240" y="4032360"/>
            <a:ext cx="106056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485720" y="3776760"/>
            <a:ext cx="10760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6680" y="130320"/>
            <a:ext cx="3110040" cy="42796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 1  1  2  3  5  8  13 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value of the first term greater than 10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a program to accept as inpu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mber of sums of money less than $1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resented as 2 integers separated by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ace and to output both the numeric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its alphabetic equivalent for each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 Input of   132 45   should produce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2 45   ONE HUNDRED THIRTY-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AND FORTY-FIVE C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he input sequence is terminated by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 whose dollar amount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 of this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ing of Computerized Bank 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2 45   67 0   0 83   0 0   1 20  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wise 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(dollars, c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dollars, cents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HO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dollars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 dollar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‘DOLLAR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cents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‘AN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cents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 cent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(‘CENT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32040" y="509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27320" y="5032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90560" y="5032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08080" y="495360"/>
            <a:ext cx="0" cy="16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84280" y="503280"/>
            <a:ext cx="0" cy="16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dollar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(dollars &gt;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c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dollars &lt;&lt; " " &lt;&lt; c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dollars == 0 &amp;&amp; cents =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NIL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dollars &gt;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 dollars into word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DOLLARS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cents &gt;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AND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cents &gt;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 cents into word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" CENTS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dollar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nts in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 . . . .  void convert(int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function calls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 Why is x a value parameter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o refine "conver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lit x into its hundreds, tens, units dig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 H &gt; 0  convert1 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 T = 1  convert2 T    (a number between 10 and 1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vert3 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vert4 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 Can any of these 4 converts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6120" y="0"/>
            <a:ext cx="314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9240" y="237960"/>
            <a:ext cx="73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2360" y="255600"/>
            <a:ext cx="876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gges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65400" y="1979640"/>
            <a:ext cx="333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65360" y="1965240"/>
            <a:ext cx="333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47960" y="1974960"/>
            <a:ext cx="331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(int);  // PROTO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(dollar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(cent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(int 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1(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2(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convert3(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1(H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2(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3(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vert1(U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69920" y="1987560"/>
            <a:ext cx="822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0920" y="2316240"/>
            <a:ext cx="1015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T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8600" y="2940120"/>
            <a:ext cx="24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920" y="3246480"/>
            <a:ext cx="24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920" y="3557520"/>
            <a:ext cx="24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5080" y="968400"/>
            <a:ext cx="277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30040" y="187200"/>
            <a:ext cx="3189600" cy="41148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convert(int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  T 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 = 1 3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= value / 100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 = value % 10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30040" y="122400"/>
            <a:ext cx="3189600" cy="41796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8000"/>
          </a:bodyPr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lem:  A company employ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 of fifty salespersons (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erence numbers 0 - 49) who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id commission if their individ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 exceeds two-thirds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verage sales of the group.  Write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ram to read in the sales of ea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 the 50 salespersons and print 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ference number of tho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persons who qualify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ission together with their s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(sales0, sales1, …, sales4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 commission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(sales0 &gt; comlevel) write(0, sales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(sales1 &gt; comlevel) write(1, sales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24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(sales49 &gt; comlevel) write(49, sales4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8400" y="3678120"/>
            <a:ext cx="277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6000"/>
          </a:bodyPr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 the single data item, sal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have 50 compon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… sale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note these component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[0]  sales[1] … sales[49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ment part of solution might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50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sales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um = sum + sales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mlevel = 2.0/3 * (sum / 5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50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sales[i] &gt; com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i &lt;&lt; sales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ution assumes 2 language featu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-168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ility to denote a group of variables by a single identifier,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840" indent="-168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ility to distinguish a particular variable or component of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Reverse a string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e 1: Length known  abcd     dc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 ch[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= 0; i &lt; 4; i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n &gt;&gt; ch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= 3; i &gt;= 0; i-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ch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81240" y="109224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Reverse a string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e 2: Length unknown   abadce … b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ar stack[30]; // max no. of 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ar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(chr != '*'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ack[i] =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in &gt;&gt;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(i !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r = stack[i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t &lt;&lt; ch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74680" y="114120"/>
            <a:ext cx="3108240" cy="394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76400" y="204840"/>
            <a:ext cx="946080" cy="288720"/>
            <a:chOff x="1076400" y="204840"/>
            <a:chExt cx="946080" cy="288720"/>
          </a:xfrm>
        </p:grpSpPr>
        <p:sp>
          <p:nvSpPr>
            <p:cNvPr id="85" name=""/>
            <p:cNvSpPr/>
            <p:nvPr/>
          </p:nvSpPr>
          <p:spPr>
            <a:xfrm>
              <a:off x="1076400" y="204840"/>
              <a:ext cx="94608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     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605600" y="356040"/>
              <a:ext cx="1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69920" y="649440"/>
            <a:ext cx="963720" cy="231480"/>
            <a:chOff x="1069920" y="649440"/>
            <a:chExt cx="963720" cy="231480"/>
          </a:xfrm>
        </p:grpSpPr>
        <p:sp>
          <p:nvSpPr>
            <p:cNvPr id="88" name=""/>
            <p:cNvSpPr/>
            <p:nvPr/>
          </p:nvSpPr>
          <p:spPr>
            <a:xfrm>
              <a:off x="1069920" y="649440"/>
              <a:ext cx="963720" cy="23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ST      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608840" y="770760"/>
              <a:ext cx="1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39800" y="1047600"/>
            <a:ext cx="1752480" cy="287640"/>
            <a:chOff x="739800" y="1047600"/>
            <a:chExt cx="1752480" cy="287640"/>
          </a:xfrm>
        </p:grpSpPr>
        <p:sp>
          <p:nvSpPr>
            <p:cNvPr id="91" name=""/>
            <p:cNvSpPr/>
            <p:nvPr/>
          </p:nvSpPr>
          <p:spPr>
            <a:xfrm>
              <a:off x="739800" y="1047600"/>
              <a:ext cx="175248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        LAST + 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153080" y="11984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31960" y="1552680"/>
            <a:ext cx="1419120" cy="466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UM &gt;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50880" y="13460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1520" y="8874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39720" y="49212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3000" y="1495440"/>
            <a:ext cx="709560" cy="5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23400" bIns="2340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51080" y="17827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49320" y="2251080"/>
            <a:ext cx="1192320" cy="574560"/>
            <a:chOff x="949320" y="2251080"/>
            <a:chExt cx="1192320" cy="574560"/>
          </a:xfrm>
        </p:grpSpPr>
        <p:sp>
          <p:nvSpPr>
            <p:cNvPr id="100" name=""/>
            <p:cNvSpPr/>
            <p:nvPr/>
          </p:nvSpPr>
          <p:spPr>
            <a:xfrm>
              <a:off x="949320" y="2251080"/>
              <a:ext cx="1192320" cy="57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 algn="ctr"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       LAS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ST        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487160" y="24570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87520" y="2640600"/>
              <a:ext cx="1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50880" y="202104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8800" y="28242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79040" y="294948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1000" y="294948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79800" y="1536840"/>
            <a:ext cx="420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92280" y="2021040"/>
            <a:ext cx="412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600" y="3054240"/>
            <a:ext cx="330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gt;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     1           1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          1           2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           2           3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          3           5       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015560" y="3597120"/>
            <a:ext cx="33012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25640" y="3776760"/>
            <a:ext cx="36504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31760" y="3967200"/>
            <a:ext cx="3319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66720" y="3586320"/>
            <a:ext cx="33984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584000" y="375120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84360" y="3957480"/>
            <a:ext cx="26496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040" y="42037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4160" y="4214880"/>
            <a:ext cx="2772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42120" y="4216320"/>
            <a:ext cx="277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2440" y="1161720"/>
            <a:ext cx="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440" y="11556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74680" y="171000"/>
            <a:ext cx="3108240" cy="41720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Write a program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a string of characte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whether or not the st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a PALIND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g.  LEVEL, MADAM, RED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LE WAS I ERE I SAW EL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ck[i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 = i-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hile(J &lt; I &amp;&amp; Stack[I] == Stack[J]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++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J &gt;= 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"String is a palindrome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"String is NOT a palindrome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5760" y="1946160"/>
            <a:ext cx="2819160" cy="312840"/>
            <a:chOff x="455760" y="1946160"/>
            <a:chExt cx="2819160" cy="312840"/>
          </a:xfrm>
        </p:grpSpPr>
        <p:sp>
          <p:nvSpPr>
            <p:cNvPr id="270" name=""/>
            <p:cNvSpPr/>
            <p:nvPr/>
          </p:nvSpPr>
          <p:spPr>
            <a:xfrm>
              <a:off x="455760" y="1946160"/>
              <a:ext cx="2819160" cy="31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400" bIns="23400" anchor="ctr">
              <a:noAutofit/>
            </a:bodyPr>
            <a:p>
              <a:pPr>
                <a:tabLst>
                  <a:tab algn="l" pos="0"/>
                  <a:tab algn="l" pos="469800"/>
                  <a:tab algn="l" pos="939960"/>
                  <a:tab algn="l" pos="1409760"/>
                  <a:tab algn="l" pos="1879560"/>
                  <a:tab algn="l" pos="2349360"/>
                  <a:tab algn="l" pos="2819520"/>
                  <a:tab algn="l" pos="3289320"/>
                  <a:tab algn="l" pos="3759120"/>
                  <a:tab algn="l" pos="4229280"/>
                  <a:tab algn="l" pos="4699080"/>
                  <a:tab algn="l" pos="5168880"/>
                  <a:tab algn="l" pos="5638680"/>
                  <a:tab algn="l" pos="6108840"/>
                  <a:tab algn="l" pos="6578640"/>
                  <a:tab algn="l" pos="7048440"/>
                  <a:tab algn="l" pos="7518240"/>
                  <a:tab algn="l" pos="7988400"/>
                  <a:tab algn="l" pos="8458200"/>
                  <a:tab algn="l" pos="8928000"/>
                  <a:tab algn="l" pos="93981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……  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60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98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56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1944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8088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4480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88400" y="19461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 Student Gr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t int NUMSTUDENTS = 5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r grade[NUMSTUDENTS]; // array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// letter gr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dNbr;               // Student ID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0] 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1] 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2] 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3] 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rade[4] 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idNbr=0; idNbr&lt;NUMSTUDENTS; idNbr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grade[idNbr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ut &lt;&lt; "Student " &lt;&lt; idNb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&lt;&lt; "Grade " &lt;&lt; grade[idNbr] &lt;&lt; endl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9240" y="3178080"/>
            <a:ext cx="19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umerated Types in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t int Numcities = 1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um Climate {SUN, RAIN, FROST, SNOW}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imate Weather[Numcities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id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eather[0] = RAI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eather[9] = SNOW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set all cities to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wIndex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wIndex = 0; wIndex &lt; Numcitie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ndex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eather[wIndex] = SU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920" y="1635120"/>
            <a:ext cx="27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-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ing charact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_lines = 6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_cols = 12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ar page[num_lines][num_cols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set each of the 7200 character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 the array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the blank charac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s a neste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num_lines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j = 0; j &lt; num_cols; j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age[i][j] = ' '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41558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-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2-D array is often us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resent the mathematical conce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 a MATRIX (call i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-1177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ually squa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by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0">
              <a:lnSpc>
                <a:spcPct val="45000"/>
              </a:lnSpc>
              <a:spcBef>
                <a:spcPts val="249"/>
              </a:spcBef>
              <a:buNone/>
              <a:tabLst>
                <a:tab algn="l" pos="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ows           c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587520" indent="0">
              <a:spcBef>
                <a:spcPts val="300"/>
              </a:spcBef>
              <a:buNone/>
              <a:tabLst>
                <a:tab algn="l" pos="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 a[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] - mathematically a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a) UNIT matrix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(b) UPPER TRIANGULAR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ing square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t int size = 4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a[size][size]; // square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i, j;      // indices or subscrip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73080" y="2631960"/>
                <a:ext cx="8877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46120" y="2616120"/>
                <a:ext cx="825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-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set up a unit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i = 0; i &lt; size; i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j = 0; j &lt; size; j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i == 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[i][j] =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[i][j]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ing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cores for a number of students on a number of quiz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put:  Student number, student’s average score, list of quiz scores for student, average score of all students for each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 students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 quizzes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34800" y="2884320"/>
          <a:ext cx="1198800" cy="7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884320"/>
                    <a:ext cx="11988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131920" y="2882880"/>
          <a:ext cx="408240" cy="78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1920" y="2882880"/>
                    <a:ext cx="4082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628640" y="297324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31880" y="316404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337176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25760" y="356868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00280" y="2867040"/>
            <a:ext cx="614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02080" y="3057480"/>
            <a:ext cx="614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12880" y="3241800"/>
            <a:ext cx="614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16120" y="3432240"/>
            <a:ext cx="614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43080" y="3900600"/>
          <a:ext cx="1206360" cy="199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080" y="3900600"/>
                    <a:ext cx="12063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585800" y="3875040"/>
            <a:ext cx="403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7960" y="36781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39960" y="36720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60440" y="36813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ing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Stud = 4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int NumQuiz = 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Scores[NumStud][NumQuiz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StudAv[NumStud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QuizAv[NumQuiz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quizzes(Score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QuizAverages(Scores, QuizA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udAverages(Scores, StudA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(   ,   ,  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9360" y="2363760"/>
            <a:ext cx="277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240" y="3459240"/>
            <a:ext cx="27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ing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oid QuizAverages(int Scores[][NumQuiz]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loat QuizAv[]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Snum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Qnum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Qnum = 0; Qnum &lt; NumQuiz; Qnum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(Snum = 0; Snum &lt; NumStud; Snum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 = Sum + Scores[Snum][Qnum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QuizAv[Qnum] = float(Sum) / NumStud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ample:  To store descriptive information in a computerized payroll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e D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SN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3-45-67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. dependents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urly wag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6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is description cont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character st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integ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floa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74680" y="267840"/>
            <a:ext cx="3144960" cy="40496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bonacci Code Examp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*************************************************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PROGRAM: Test                        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                            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PURPOSE: This program computes the value of the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first Fibonacci term greater than the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limit.  The limit is specified by the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          user.                                 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/**************************************************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nt limi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ex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ast,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in &gt;&gt; limi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ext =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ast = 1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m = next + las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while (sum &lt;= limi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ext = las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ast = 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m = next + las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ut &lt;&lt; su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char longstring[2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char shortstring[12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ongstring nam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rtstring ss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ndepen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oat ra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mployee cler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erk.name[2]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erk.rate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1800" y="2644920"/>
            <a:ext cx="29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1800" y="3220920"/>
            <a:ext cx="29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1800" y="264492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1800" y="2784600"/>
            <a:ext cx="2907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ne Doe       123-45-6789     2     6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2600" y="2644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63600" y="2644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52680" y="2644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6640" y="264492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FACTORIAL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!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! = 5 * 4 * 3 * 2 *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5 * 4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5) = 5 * fact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4) = 4 * fact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3) = 3 * fact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2) = 2 * fact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1) = 1 *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act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qual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(n) = n * fact(n -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th fact(0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795320" y="3112560"/>
            <a:ext cx="192240" cy="1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ursiv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inition: A function defined in terms of the function its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the factor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t(0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t(n) = n * fact(n-1), for n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C++ structures have this recur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the syntactic definition of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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(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ame technique can be us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be a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fact(int 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n ==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n * fact(n - 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fact(int 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x = 1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u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(count = 2; count &lt;= n; count++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= x * cou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ample: Process to output an integer (N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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vers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723             3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tractl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output last digit of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if(digits re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erse remaining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reverse(int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t &lt;&lt; N % 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/ 10 !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verse (N / 1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1133640"/>
            <a:ext cx="33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74680" y="270000"/>
            <a:ext cx="310824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Sum (int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&lt;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n + Sum(n + 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s the value of the expression Sum(5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74320" y="270000"/>
            <a:ext cx="3236760" cy="38923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bonacci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 algn="ctr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b(n)   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  n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,  n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b(n-1) + Fib(n-2),  n &gt;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fib (int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if (n ==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7000"/>
          </a:bodyPr>
          <a:p>
            <a:pPr marL="170640" indent="0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-170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physical components of the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keyboard, monitor, mouse, memory, CPU, hard drive, floppy disk dr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0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0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0640" indent="-1706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set of all programs availa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indows NT (operating syste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icrosoft Visual C++ (compil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160" indent="-1429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our C++ 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 algn="ctr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ch program should conta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Comment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GRAM: name of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your name and S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STEM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compiler and opera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POSE:   short description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problem which progr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“solv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 Header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include (all header f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99000"/>
          </a:bodyPr>
          <a:p>
            <a:pPr marL="174240" indent="0" algn="ctr">
              <a:spcBef>
                <a:spcPts val="49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 Declaration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realistic names for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realistic names for variables (and explain their 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4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 Statement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lude about 10% comments on subtasks to b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lude blank lines f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indentation (~ 4 spa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clude prompts for keyboard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 up long “cin” and “cou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 cout &lt;&lt; . . . . &lt;&lt; . . . . &lt;&lt;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&lt; . . . . &lt;&lt; . . . .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30040" y="334440"/>
            <a:ext cx="3152880" cy="37292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: 3 distinct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 them in descending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4        5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5 4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0">
              <a:spcBef>
                <a:spcPts val="3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5        4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3         5 4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3880" y="153504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7701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39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17683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0" y="17701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17:08:50Z</dcterms:created>
  <dc:creator>peon</dc:creator>
  <dc:description/>
  <dc:language>en-US</dc:language>
  <cp:lastModifiedBy>Marc Bjorklund</cp:lastModifiedBy>
  <cp:lastPrinted>1999-01-19T21:19:25Z</cp:lastPrinted>
  <dcterms:modified xsi:type="dcterms:W3CDTF">1999-05-06T05:20:45Z</dcterms:modified>
  <cp:revision>29</cp:revision>
  <dc:subject/>
  <dc:title>No Slide Title</dc:title>
</cp:coreProperties>
</file>