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3657600" cy="4572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EC86-951F-4E06-88CE-B65E59637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680" y="407520"/>
            <a:ext cx="310824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680" y="1320840"/>
            <a:ext cx="3108240" cy="1308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680" y="2753640"/>
            <a:ext cx="3108240" cy="1308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F86F-F4C8-4F97-921C-14FC6F87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680" y="407520"/>
            <a:ext cx="310824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680" y="1320840"/>
            <a:ext cx="1516680" cy="1308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7680" y="1320840"/>
            <a:ext cx="1516680" cy="1308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680" y="2753640"/>
            <a:ext cx="1516680" cy="1308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7680" y="2753640"/>
            <a:ext cx="1516680" cy="1308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AA07-1FFC-41DA-8B76-1178DC034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680" y="407520"/>
            <a:ext cx="310824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680" y="1320840"/>
            <a:ext cx="1000440" cy="1308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25520" y="1320840"/>
            <a:ext cx="1000440" cy="1308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76360" y="1320840"/>
            <a:ext cx="1000440" cy="1308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680" y="2753640"/>
            <a:ext cx="1000440" cy="1308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25520" y="2753640"/>
            <a:ext cx="1000440" cy="1308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76360" y="2753640"/>
            <a:ext cx="1000440" cy="1308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8678-EDA8-47A3-932C-297C45B3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680" y="407520"/>
            <a:ext cx="310824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680" y="1320840"/>
            <a:ext cx="310824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D021-F589-49F6-B585-1F41C768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680" y="407520"/>
            <a:ext cx="310824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680" y="1320840"/>
            <a:ext cx="3108240" cy="27432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3EF5-5EF8-4C58-8826-0F1B3472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680" y="407520"/>
            <a:ext cx="310824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680" y="1320840"/>
            <a:ext cx="1516680" cy="27432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7680" y="1320840"/>
            <a:ext cx="1516680" cy="27432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69E1-9640-4250-BDF9-49C5BC19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680" y="407520"/>
            <a:ext cx="310824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0568-A223-4768-95F2-341EE013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680" y="407520"/>
            <a:ext cx="3108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B4DE-2BE3-49B3-A9E8-46F198AF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680" y="407520"/>
            <a:ext cx="310824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680" y="1320840"/>
            <a:ext cx="1516680" cy="1308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7680" y="1320840"/>
            <a:ext cx="1516680" cy="27432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680" y="2753640"/>
            <a:ext cx="1516680" cy="1308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D744-5AE5-4521-A9A5-1AD174D2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680" y="407520"/>
            <a:ext cx="310824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680" y="1320840"/>
            <a:ext cx="1516680" cy="27432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7680" y="1320840"/>
            <a:ext cx="1516680" cy="1308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7680" y="2753640"/>
            <a:ext cx="1516680" cy="1308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4691-32C0-420D-B1E7-E32D9FB8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680" y="407520"/>
            <a:ext cx="310824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680" y="1320840"/>
            <a:ext cx="1516680" cy="1308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7680" y="1320840"/>
            <a:ext cx="1516680" cy="1308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680" y="2753640"/>
            <a:ext cx="3108240" cy="1308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E637-2DBB-4E4D-ABE3-1C697A68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680" y="407520"/>
            <a:ext cx="310824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680" y="1320840"/>
            <a:ext cx="3108240" cy="27432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-1760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2680" indent="-147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87520" indent="-1177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824040" indent="-1191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057320" indent="-11736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057320" indent="-11736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057320" indent="-11736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74320" y="4165200"/>
            <a:ext cx="762120" cy="306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4165200"/>
            <a:ext cx="1159200" cy="306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4165200"/>
            <a:ext cx="762120" cy="306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Autofit/>
          </a:bodyPr>
          <a:lstStyle>
            <a:lvl1pPr indent="0" algn="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6BCD12A0-D6D9-4AAD-A8AC-901ACF1DD386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02680" y="190440"/>
            <a:ext cx="3170520" cy="876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spare is flat Then . . 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93840" y="1409760"/>
            <a:ext cx="24444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2313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1523880"/>
            <a:ext cx="121932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o N Ti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unscrew a nu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93840" y="2666880"/>
            <a:ext cx="24444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2313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2781360"/>
            <a:ext cx="121932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o N Ti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crew on a nu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800" y="1082520"/>
            <a:ext cx="2084400" cy="26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rmAutofit/>
          </a:bodyPr>
          <a:p>
            <a:pPr marL="90360" indent="-90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ck up C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crew the N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move Whe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t on Sp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rew on the N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ck Car 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30040" y="334800"/>
            <a:ext cx="3152880" cy="3477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der the integers (unique) a, b,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05000" y="755640"/>
            <a:ext cx="857160" cy="34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23400" bIns="23400" anchor="ctr">
            <a:noAutofit/>
          </a:bodyPr>
          <a:p>
            <a:pPr algn="ctr"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&gt;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" y="1389240"/>
            <a:ext cx="857160" cy="34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23400" bIns="23400" anchor="ctr">
            <a:noAutofit/>
          </a:bodyPr>
          <a:p>
            <a:pPr algn="ctr"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&gt;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35080" y="1389240"/>
            <a:ext cx="857520" cy="34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23400" bIns="23400" anchor="ctr">
            <a:noAutofit/>
          </a:bodyPr>
          <a:p>
            <a:pPr algn="ctr"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 &gt;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7360" y="2162160"/>
            <a:ext cx="631800" cy="34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23400" bIns="23400" anchor="ctr">
            <a:noAutofit/>
          </a:bodyPr>
          <a:p>
            <a:pPr algn="ctr"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 &gt;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93960" y="2144880"/>
            <a:ext cx="576360" cy="34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23400" bIns="23400" anchor="ctr">
            <a:noAutofit/>
          </a:bodyPr>
          <a:p>
            <a:pPr algn="ctr"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&gt;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28600" y="2168640"/>
            <a:ext cx="561960" cy="3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23400" bIns="23400" anchor="ctr">
            <a:noAutofit/>
          </a:bodyPr>
          <a:p>
            <a:pPr algn="ctr"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, a,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29080" y="2146320"/>
            <a:ext cx="560160" cy="32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23400" bIns="23400" anchor="ctr">
            <a:noAutofit/>
          </a:bodyPr>
          <a:p>
            <a:pPr algn="ctr"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, b,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200" y="2951280"/>
            <a:ext cx="560520" cy="3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23400" bIns="23400" anchor="ctr">
            <a:noAutofit/>
          </a:bodyPr>
          <a:p>
            <a:pPr algn="ctr"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60400" y="2951280"/>
            <a:ext cx="560520" cy="3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23400" bIns="23400" anchor="ctr">
            <a:noAutofit/>
          </a:bodyPr>
          <a:p>
            <a:pPr algn="ctr"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, c,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00280" y="2949480"/>
            <a:ext cx="561960" cy="32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23400" bIns="23400" anchor="ctr">
            <a:noAutofit/>
          </a:bodyPr>
          <a:p>
            <a:pPr algn="ctr"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, a,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84280" y="2949480"/>
            <a:ext cx="560520" cy="32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23400" bIns="23400" anchor="ctr">
            <a:noAutofit/>
          </a:bodyPr>
          <a:p>
            <a:pPr algn="ctr"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, c,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252080" y="1068480"/>
            <a:ext cx="22716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69920" y="1068480"/>
            <a:ext cx="35100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27200" y="1708200"/>
            <a:ext cx="296640" cy="4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70080" y="1724040"/>
            <a:ext cx="104760" cy="4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198520" y="1724040"/>
            <a:ext cx="174960" cy="42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83000" y="1724040"/>
            <a:ext cx="263520" cy="42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10760" y="2513160"/>
            <a:ext cx="228600" cy="42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1960" y="2496960"/>
            <a:ext cx="228600" cy="4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882800" y="2479680"/>
            <a:ext cx="20952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03640" y="2463840"/>
            <a:ext cx="331560" cy="49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71640" y="1068480"/>
            <a:ext cx="3157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3400" y="1751040"/>
            <a:ext cx="316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2760" y="2604960"/>
            <a:ext cx="3157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81080" y="1800360"/>
            <a:ext cx="316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01720" y="2556000"/>
            <a:ext cx="316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38400" y="1077840"/>
            <a:ext cx="3157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2400" y="1827360"/>
            <a:ext cx="3157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11520" y="1827360"/>
            <a:ext cx="3157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41400" y="2600280"/>
            <a:ext cx="316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48000" y="2549520"/>
            <a:ext cx="3157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30040" y="187200"/>
            <a:ext cx="3152880" cy="906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har ch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‘L’ ‘X’ ‘V’ ‘I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 in Roman num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ant to give each a value,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76200" y="1092240"/>
            <a:ext cx="2777760" cy="1692000"/>
            <a:chOff x="376200" y="1092240"/>
            <a:chExt cx="2777760" cy="1692000"/>
          </a:xfrm>
        </p:grpSpPr>
        <p:sp>
          <p:nvSpPr>
            <p:cNvPr id="165" name=""/>
            <p:cNvSpPr/>
            <p:nvPr/>
          </p:nvSpPr>
          <p:spPr>
            <a:xfrm>
              <a:off x="1671840" y="109224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240" rIns="324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39200" y="1239840"/>
              <a:ext cx="647640" cy="328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" rIns="3240" tIns="1800" bIns="1800" anchor="ctr">
              <a:noAutofit/>
            </a:bodyPr>
            <a:p>
              <a:pPr algn="ctr">
                <a:tabLst>
                  <a:tab algn="l" pos="0"/>
                  <a:tab algn="l" pos="469800"/>
                  <a:tab algn="l" pos="939960"/>
                  <a:tab algn="l" pos="1409760"/>
                  <a:tab algn="l" pos="1879560"/>
                  <a:tab algn="l" pos="2349360"/>
                  <a:tab algn="l" pos="2819520"/>
                  <a:tab algn="l" pos="3289320"/>
                  <a:tab algn="l" pos="3759120"/>
                  <a:tab algn="l" pos="4229280"/>
                  <a:tab algn="l" pos="4699080"/>
                  <a:tab algn="l" pos="5168880"/>
                  <a:tab algn="l" pos="5638680"/>
                  <a:tab algn="l" pos="6108840"/>
                  <a:tab algn="l" pos="6578640"/>
                  <a:tab algn="l" pos="7048440"/>
                  <a:tab algn="l" pos="7518240"/>
                  <a:tab algn="l" pos="7988400"/>
                  <a:tab algn="l" pos="8458200"/>
                  <a:tab algn="l" pos="8928000"/>
                  <a:tab algn="l" pos="93981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6200" y="1946520"/>
              <a:ext cx="525600" cy="262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" rIns="3240" tIns="1800" bIns="1800" anchor="ctr">
              <a:noAutofit/>
            </a:bodyPr>
            <a:p>
              <a:pPr algn="ctr">
                <a:tabLst>
                  <a:tab algn="l" pos="0"/>
                  <a:tab algn="l" pos="469800"/>
                  <a:tab algn="l" pos="939960"/>
                  <a:tab algn="l" pos="1409760"/>
                  <a:tab algn="l" pos="1879560"/>
                  <a:tab algn="l" pos="2349360"/>
                  <a:tab algn="l" pos="2819520"/>
                  <a:tab algn="l" pos="3289320"/>
                  <a:tab algn="l" pos="3759120"/>
                  <a:tab algn="l" pos="4229280"/>
                  <a:tab algn="l" pos="4699080"/>
                  <a:tab algn="l" pos="5168880"/>
                  <a:tab algn="l" pos="5638680"/>
                  <a:tab algn="l" pos="6108840"/>
                  <a:tab algn="l" pos="6578640"/>
                  <a:tab algn="l" pos="7048440"/>
                  <a:tab algn="l" pos="7518240"/>
                  <a:tab algn="l" pos="7988400"/>
                  <a:tab algn="l" pos="8458200"/>
                  <a:tab algn="l" pos="8928000"/>
                  <a:tab algn="l" pos="93981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n =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40480" y="1957680"/>
              <a:ext cx="525600" cy="262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" rIns="3240" tIns="1800" bIns="1800" anchor="ctr">
              <a:noAutofit/>
            </a:bodyPr>
            <a:p>
              <a:pPr algn="ctr">
                <a:tabLst>
                  <a:tab algn="l" pos="0"/>
                  <a:tab algn="l" pos="469800"/>
                  <a:tab algn="l" pos="939960"/>
                  <a:tab algn="l" pos="1409760"/>
                  <a:tab algn="l" pos="1879560"/>
                  <a:tab algn="l" pos="2349360"/>
                  <a:tab algn="l" pos="2819520"/>
                  <a:tab algn="l" pos="3289320"/>
                  <a:tab algn="l" pos="3759120"/>
                  <a:tab algn="l" pos="4229280"/>
                  <a:tab algn="l" pos="4699080"/>
                  <a:tab algn="l" pos="5168880"/>
                  <a:tab algn="l" pos="5638680"/>
                  <a:tab algn="l" pos="6108840"/>
                  <a:tab algn="l" pos="6578640"/>
                  <a:tab algn="l" pos="7048440"/>
                  <a:tab algn="l" pos="7518240"/>
                  <a:tab algn="l" pos="7988400"/>
                  <a:tab algn="l" pos="8458200"/>
                  <a:tab algn="l" pos="8928000"/>
                  <a:tab algn="l" pos="93981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n =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75960" y="1956960"/>
              <a:ext cx="525600" cy="262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" rIns="3240" tIns="1800" bIns="1800" anchor="ctr">
              <a:noAutofit/>
            </a:bodyPr>
            <a:p>
              <a:pPr algn="ctr">
                <a:tabLst>
                  <a:tab algn="l" pos="0"/>
                  <a:tab algn="l" pos="469800"/>
                  <a:tab algn="l" pos="939960"/>
                  <a:tab algn="l" pos="1409760"/>
                  <a:tab algn="l" pos="1879560"/>
                  <a:tab algn="l" pos="2349360"/>
                  <a:tab algn="l" pos="2819520"/>
                  <a:tab algn="l" pos="3289320"/>
                  <a:tab algn="l" pos="3759120"/>
                  <a:tab algn="l" pos="4229280"/>
                  <a:tab algn="l" pos="4699080"/>
                  <a:tab algn="l" pos="5168880"/>
                  <a:tab algn="l" pos="5638680"/>
                  <a:tab algn="l" pos="6108840"/>
                  <a:tab algn="l" pos="6578640"/>
                  <a:tab algn="l" pos="7048440"/>
                  <a:tab algn="l" pos="7518240"/>
                  <a:tab algn="l" pos="7988400"/>
                  <a:tab algn="l" pos="8458200"/>
                  <a:tab algn="l" pos="8928000"/>
                  <a:tab algn="l" pos="93981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n = 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628360" y="1957680"/>
              <a:ext cx="525600" cy="262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" rIns="3240" tIns="1800" bIns="1800" anchor="ctr">
              <a:noAutofit/>
            </a:bodyPr>
            <a:p>
              <a:pPr algn="ctr">
                <a:tabLst>
                  <a:tab algn="l" pos="0"/>
                  <a:tab algn="l" pos="469800"/>
                  <a:tab algn="l" pos="939960"/>
                  <a:tab algn="l" pos="1409760"/>
                  <a:tab algn="l" pos="1879560"/>
                  <a:tab algn="l" pos="2349360"/>
                  <a:tab algn="l" pos="2819520"/>
                  <a:tab algn="l" pos="3289320"/>
                  <a:tab algn="l" pos="3759120"/>
                  <a:tab algn="l" pos="4229280"/>
                  <a:tab algn="l" pos="4699080"/>
                  <a:tab algn="l" pos="5168880"/>
                  <a:tab algn="l" pos="5638680"/>
                  <a:tab algn="l" pos="6108840"/>
                  <a:tab algn="l" pos="6578640"/>
                  <a:tab algn="l" pos="7048440"/>
                  <a:tab algn="l" pos="7518240"/>
                  <a:tab algn="l" pos="7988400"/>
                  <a:tab algn="l" pos="8458200"/>
                  <a:tab algn="l" pos="8928000"/>
                  <a:tab algn="l" pos="93981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n = 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637920" y="1502640"/>
              <a:ext cx="770760" cy="44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240" rIns="324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409040" y="1568520"/>
              <a:ext cx="15732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240" rIns="324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94960" y="1551960"/>
              <a:ext cx="31464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240" rIns="324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52280" y="1470240"/>
              <a:ext cx="91080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240" rIns="324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89840" y="2586600"/>
              <a:ext cx="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240" rIns="324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3920" y="2209680"/>
              <a:ext cx="103248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240" rIns="324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478880" y="2209680"/>
              <a:ext cx="22752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240" rIns="324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1706400" y="2225520"/>
              <a:ext cx="437400" cy="37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240" rIns="324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1706760" y="2209680"/>
              <a:ext cx="115632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240" rIns="324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71440" y="2768760"/>
            <a:ext cx="317016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witch (ch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case ‘I’: n = 1;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 break;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case ‘V’: n = 5;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 break;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default:  cout &lt;&lt; “error”;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 break;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6640" y="3736800"/>
            <a:ext cx="277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30040" y="334440"/>
            <a:ext cx="3152880" cy="3729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blem: Given as input 3 integers representing a date (MM / DD / YYYY) output the date of the next 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 month, day, yea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/ 17 / 1999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/ 18 /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 / 31 / 1999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/ 1 /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2 / 31 / 1998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 / 1 /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/ 28 / 1999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 / 1 /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ed days_in_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00240" y="2192400"/>
            <a:ext cx="47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92320" y="2416320"/>
            <a:ext cx="474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22200" y="2624040"/>
            <a:ext cx="47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79360" y="2847960"/>
            <a:ext cx="474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30040" y="187200"/>
            <a:ext cx="3152880" cy="41227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witch (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se 1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se 3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se 5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se 7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se 8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se 10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se 12: days_in_month = 3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se 4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se 6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se 9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se 11: days_in_month = 3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se 2:  if (     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ays_in_month = 29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ays_in_month = 28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29680" y="187200"/>
            <a:ext cx="3170520" cy="4221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witch (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se 1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se 3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se 12: days_in_month = 3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(day == days_in_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ay = 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(month == 1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month = 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ear++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month++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ay++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29360" y="977760"/>
            <a:ext cx="27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2880" y="1447920"/>
            <a:ext cx="27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229680" y="187200"/>
            <a:ext cx="3170520" cy="4221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witch statement    p. 278-2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ed break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f letter is ‘X’, ‘L’, ‘M’, ‘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witch (let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se ‘X’: statement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se ‘L’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se ‘M’: statement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se ‘S’: statement3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fault:  statement4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tement5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29680" y="187200"/>
            <a:ext cx="3170520" cy="4221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ype Coer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ven the decla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t someIn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oat someFloa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omeFloat = 12; // stores 12.0 i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      someFlo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omeInt = 4.6; // stores 4 i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     some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 make programs as clear as possible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ype Ca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n RHS put   int(        )  OR  float(  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omeFloat = float(2 * someInt + 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omeInt = int(someFloat / 2.5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29680" y="187200"/>
            <a:ext cx="3170520" cy="4221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cket Calculator (+, -, *, /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 * 4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 * 4 / 5 = 2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 * 4 / 5 - 1.2 = 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4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4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4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4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 *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2  /  5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sult   oper   value  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iming       while           swi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    *    4                            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sult  oper 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4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73240" y="119052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528920" y="1161720"/>
            <a:ext cx="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173240" y="1161720"/>
            <a:ext cx="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24000" y="1690560"/>
            <a:ext cx="36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590840" y="1661760"/>
            <a:ext cx="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224000" y="1661760"/>
            <a:ext cx="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185840" y="1862280"/>
            <a:ext cx="20340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571760" y="187164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1754280" y="1852200"/>
            <a:ext cx="16200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89200" y="269064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17680" y="2795760"/>
            <a:ext cx="1620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43040" y="2795760"/>
            <a:ext cx="1620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89240" y="264312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29680" y="187200"/>
            <a:ext cx="3170520" cy="4221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***********************************************************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PROGRAM: Pocket Calcul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PURPOSE: This program simulates the operation of a pocke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         calculator.  Allowed operations are addition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         subtraction, multiplication and division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***********************************************************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#include &lt;iostream.h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float result;  // holds intermediate and final resul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float value;   // the new operan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char oper;     // the new oper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cin &gt;&gt; resul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cin &gt;&gt; oper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while (oper != ‘=’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cin &gt;&gt; value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witch (oper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case ‘+’: result = result + value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case ‘-’: result = result - value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case ‘*’: result = result * value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case ‘/’: result = result / value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default:  cout &lt;&lt; “Incorrect operator” &lt;&lt; endl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cin &gt;&gt; oper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cout &lt;&lt; resul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29680" y="187200"/>
            <a:ext cx="3170520" cy="4221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st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 algn="ctr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 compact notation for a W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.g.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umgrades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 (i = 1; i &lt;= 25; i++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in &gt;&gt; grad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umgrades = sumgrades + grad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yntax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Initialization           Test            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 ( InitStatement;  Expression1; Expression2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tatemen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3040" y="228600"/>
            <a:ext cx="10162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4040" y="1333440"/>
            <a:ext cx="10162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5440" y="2705040"/>
            <a:ext cx="117792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IT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12840" y="190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70200" y="800280"/>
            <a:ext cx="446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70200" y="380880"/>
            <a:ext cx="446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12840" y="609480"/>
            <a:ext cx="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12840" y="10288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77920" y="1257480"/>
            <a:ext cx="18702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12840" y="1333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70200" y="1523880"/>
            <a:ext cx="487080" cy="34452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80960" y="1943280"/>
            <a:ext cx="447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97240" y="1943280"/>
            <a:ext cx="447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>
            <a:stCxn id="57" idx="3"/>
            <a:endCxn id="59" idx="0"/>
          </p:cNvCxnSpPr>
          <p:nvPr/>
        </p:nvCxnSpPr>
        <p:spPr>
          <a:xfrm>
            <a:off x="2357280" y="1697040"/>
            <a:ext cx="264240" cy="246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7" idx="1"/>
            <a:endCxn id="58" idx="0"/>
          </p:cNvCxnSpPr>
          <p:nvPr/>
        </p:nvCxnSpPr>
        <p:spPr>
          <a:xfrm flipV="1" rot="10800000">
            <a:off x="1604160" y="1696680"/>
            <a:ext cx="266040" cy="246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2112840" y="24004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8" idx="2"/>
            <a:endCxn id="62" idx="0"/>
          </p:cNvCxnSpPr>
          <p:nvPr/>
        </p:nvCxnSpPr>
        <p:spPr>
          <a:xfrm flipH="1" rot="16200000">
            <a:off x="1743480" y="2031840"/>
            <a:ext cx="229320" cy="508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59" idx="2"/>
            <a:endCxn id="62" idx="0"/>
          </p:cNvCxnSpPr>
          <p:nvPr/>
        </p:nvCxnSpPr>
        <p:spPr>
          <a:xfrm rot="5400000">
            <a:off x="2251800" y="2031840"/>
            <a:ext cx="229320" cy="508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1219320" y="2630520"/>
            <a:ext cx="18698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12840" y="2666880"/>
            <a:ext cx="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70200" y="2857680"/>
            <a:ext cx="446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12840" y="30862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70200" y="3276720"/>
            <a:ext cx="487080" cy="34272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12840" y="3619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70200" y="3809880"/>
            <a:ext cx="446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82720" y="3330720"/>
            <a:ext cx="446400" cy="23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69" idx="3"/>
            <a:endCxn id="72" idx="1"/>
          </p:cNvCxnSpPr>
          <p:nvPr/>
        </p:nvCxnSpPr>
        <p:spPr>
          <a:xfrm flipV="1">
            <a:off x="2357280" y="3446280"/>
            <a:ext cx="326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2111400" y="315432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916360" y="3155760"/>
            <a:ext cx="0" cy="17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2346120" y="3152880"/>
            <a:ext cx="569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90760" y="1511280"/>
            <a:ext cx="1494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92200" y="3270240"/>
            <a:ext cx="1494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23960" y="1496880"/>
            <a:ext cx="1494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60720" y="3600360"/>
            <a:ext cx="14904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6720" y="40496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29680" y="187200"/>
            <a:ext cx="3170520" cy="4221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sted FOR st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 algn="ctr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cesses in 2 dimen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for (lastnum = 1; lastnum &lt;= 7; lastnum++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for (number = 1; number &lt;= lastnum; number++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cout &lt;&lt; number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cout &lt;&lt; endl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ill pr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2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23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234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2345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29680" y="187200"/>
            <a:ext cx="3170520" cy="4221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m the first 100 integ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ILE                        DO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um = 0;           sum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 = 1;             i = 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while (i &lt;= 100)   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                 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um = sum + i;     sum = sum +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++;               i++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              } while(i &lt;= 100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um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 (i = 1; i &lt;= 100; i++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um = sum +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12400" y="171360"/>
            <a:ext cx="3189240" cy="1116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)  Value retur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1068480" y="1287720"/>
            <a:ext cx="3283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6280" y="1512720"/>
            <a:ext cx="318924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rmAutofit/>
          </a:bodyPr>
          <a:p>
            <a:pPr marL="90360" indent="-90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spcBef>
                <a:spcPts val="176"/>
              </a:spcBef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spcBef>
                <a:spcPts val="349"/>
              </a:spcBef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b) Void (return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spcBef>
                <a:spcPts val="249"/>
              </a:spcBef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o return stat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spcBef>
                <a:spcPts val="150"/>
              </a:spcBef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spcBef>
                <a:spcPts val="249"/>
              </a:spcBef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ample      To print this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55000"/>
              </a:lnSpc>
              <a:spcBef>
                <a:spcPts val="150"/>
              </a:spcBef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**** ...... 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**** ...... 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Welcome Home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**** ...... 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**** ...... 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**** ...... 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**** ...... 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55000"/>
              </a:lnSpc>
              <a:spcBef>
                <a:spcPts val="249"/>
              </a:spcBef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475920" y="2101680"/>
            <a:ext cx="196920" cy="37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12400" y="171000"/>
            <a:ext cx="3189240" cy="42195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int2lines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ut &lt;&lt; “ Welcome Home!” &lt;&lt; end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int4lines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ere the 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oid Print2lines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ut &lt;&lt; “**** ......  **” &lt;&lt; end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ut &lt;&lt; “**** ......  **” &lt;&lt; end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he compiler needs to know that Print2lines 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int4lines are VOID functions with no paramet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sts.  Therefore, PROTOTYPING declarations 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eeded before they are called in ‘main’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fter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#include &lt;iostream.h&gt;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oid Print2lines(); // prototyp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oid Print4lines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12400" y="171000"/>
            <a:ext cx="3189240" cy="42195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 better solution is to use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unction that prints a var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umber of lines indicated in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arameter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li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#include &lt;iostream.h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void Printlines(int); // function prototy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rintlines(2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cout &lt;&lt; “ Welcome Home!” &lt;&lt; endl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rintlines(4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void Printlines(int numlin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int coun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for (count = 1; count &lt;= numlines; count++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cout &lt;&lt; “**** ......  **” &lt;&lt; endl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29680" y="186840"/>
            <a:ext cx="3170520" cy="40006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unction Declarations and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void TryThis(int, int&amp;, float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t int1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t int2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loat someFloa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ryThis(int1, int2, someFloat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void TryThis(int param1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t&amp; param2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loat param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loat x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(  statements involving “params”  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6280" y="1609560"/>
            <a:ext cx="27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9520" y="1924200"/>
            <a:ext cx="27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6040" y="3413160"/>
            <a:ext cx="27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5760" y="3755880"/>
            <a:ext cx="27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30040" y="187200"/>
            <a:ext cx="3189600" cy="4114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alue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d when the only role of the parameter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 to carry value(s) into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void writemeters(int feet, int inche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t lengthins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loat meters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engthins = 12 * feet + inches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eters = lengthins / 39.39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ut &lt;&lt; setw(6) &lt;&lt; setprecision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&lt;&lt; meters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ee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che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are VALUE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ssible call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writemeters(6, 4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writemeters(ft, ins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ft+2, ins-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255680" y="3711240"/>
            <a:ext cx="44640" cy="34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1625400" y="3720600"/>
            <a:ext cx="27000" cy="34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30040" y="187200"/>
            <a:ext cx="3189600" cy="4114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ference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d to carry value(s) into and back from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: to swap or exchange the values of tw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void swap(int&amp; a, int&amp; b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t temp;  // temporary vari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emp = a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 = b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 = temp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ossible cal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wap(x, y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wap(m, n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here the actual parameters must be integ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must have already been assign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30040" y="187200"/>
            <a:ext cx="3189600" cy="4114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ameter Pa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.g. writemeters(ft, ins)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void writemeters(int fee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 inch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wap(x, y)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void swap(int&amp; a, int&amp; b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ss by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copy of the value of the parameter is passed into the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alues in the calling FUNCTIO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ss by REFERENCE (Addre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address of the parameter is passed into the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ll changes made inside the FUNCTION are perma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i.e. values of x and 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62040" y="861840"/>
            <a:ext cx="20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3800" y="11826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30040" y="187200"/>
            <a:ext cx="3189600" cy="42307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ameter Passing Mechanis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oid calc(int&amp; p1, float p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in mai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ize = 3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tance = 4.5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c(size, distanc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CTUAL PARAMETERS match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o FORMAL PARAMETERS on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 to 1 ba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ote: Type and Order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must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be the s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IN FUNCTION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CALLED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lc(size, distance)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void calc(int&amp; p1, float p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.5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4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1655640" y="2021040"/>
            <a:ext cx="217440" cy="20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4440" y="1314360"/>
            <a:ext cx="27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0960" y="2023920"/>
            <a:ext cx="27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81200" y="3300480"/>
            <a:ext cx="0" cy="107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65280" y="3786120"/>
            <a:ext cx="744480" cy="13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85680" y="4024440"/>
            <a:ext cx="35892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54120" y="4146480"/>
            <a:ext cx="1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1965240" y="4032360"/>
            <a:ext cx="1060560" cy="12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1485720" y="3776760"/>
            <a:ext cx="10760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56680" y="130320"/>
            <a:ext cx="3110040" cy="42796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  1  1  2  3  5  8  13  . . 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is the value of the first term greater than 1000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30040" y="187200"/>
            <a:ext cx="3189600" cy="4114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 a program to accept as inpu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umber of sums of money less than $1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resented as 2 integers separated by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pace and to output both the numeric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its alphabetic equivalent for each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.g.  Input of   132 45   should produce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32 45   ONE HUNDRED THIRTY-TW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LLARS AND FORTY-FIVE C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te: The input sequence is terminated by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m whose dollar amount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pplication of this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nting of Computerized Bank Che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230040" y="187200"/>
            <a:ext cx="3189600" cy="4114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32 45   67 0   0 83   0 0   1 20   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epwise 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ad(dollars, ce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(dollars, cents)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HO pr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f dollars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vert dollars into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(‘DOLLARS’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f cents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(‘AND’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f cents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vert cents into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(‘CENTS’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32040" y="5097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27320" y="50328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90560" y="50328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08080" y="495360"/>
            <a:ext cx="0" cy="164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84280" y="503280"/>
            <a:ext cx="0" cy="164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230040" y="187200"/>
            <a:ext cx="3189600" cy="4114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in &gt;&gt; dollar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while(dollars &gt;=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in &gt;&gt; cent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ut &lt;&lt; dollars &lt;&lt; " " &lt;&lt; cent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(dollars == 0 &amp;&amp; cents ==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ut &lt;&lt; " NIL"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(dollars &gt;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vert dollars into word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ut &lt;&lt; " DOLLARS"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(cents &gt;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ut &lt;&lt; " AND"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(cents &gt;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vert cents into word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ut &lt;&lt; " CENTS"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ut &lt;&lt; end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in &gt;&gt; dollar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230040" y="187200"/>
            <a:ext cx="3189600" cy="4114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llars into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ents into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UNCTION . . . .  void convert(int 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function calls will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estion: Why is x a value parameter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To refine "convert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plit x into its hundreds, tens, units digi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f H &gt; 0  convert1 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f T = 1  convert2 T    (a number between 10 and 19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nvert3 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nvert4 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estion: Can any of these 4 converts 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bin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16120" y="0"/>
            <a:ext cx="3142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2313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19240" y="237960"/>
            <a:ext cx="7333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92360" y="255600"/>
            <a:ext cx="8762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gges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65400" y="1979640"/>
            <a:ext cx="3333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65360" y="1965240"/>
            <a:ext cx="3333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47960" y="1974960"/>
            <a:ext cx="3315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230040" y="187200"/>
            <a:ext cx="3189600" cy="4114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oid convert(int);  // PROTO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vert(dollar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vert(cent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oid convert(int 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oid convert1(int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oid convert2(int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oid convert3(int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vert1(H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vert2(T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vert3(T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vert1(U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69920" y="1987560"/>
            <a:ext cx="82260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320920" y="2316240"/>
            <a:ext cx="10159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TOTYP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8600" y="2940120"/>
            <a:ext cx="24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 vert="eaVer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3920" y="3246480"/>
            <a:ext cx="24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 vert="eaVer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3920" y="3557520"/>
            <a:ext cx="24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 vert="eaVer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5080" y="968400"/>
            <a:ext cx="2772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. 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230040" y="187200"/>
            <a:ext cx="3189600" cy="4114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id convert(int val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  T  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lue = 1 3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 = value / 100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 =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 = value % 10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30040" y="122400"/>
            <a:ext cx="3189600" cy="41796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8000"/>
          </a:bodyPr>
          <a:p>
            <a:pPr marL="1724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4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blem:  A company employs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4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roup of fifty salespersons (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4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ference numbers 0 - 49) who a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4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id commission if their individu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4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les exceeds two-thirds of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4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verage sales of the group.  Write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4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gram to read in the sales of ea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4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f the 50 salespersons and print ou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4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reference number of tho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4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lespersons who qualify f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4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mission together with their sa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4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4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ad(sales0, sales1, …, sales4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24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24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lculate commission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24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24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f(sales0 &gt; comlevel) write(0, sales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24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f(sales1 &gt; comlevel) write(1, sales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24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24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24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24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f(sales49 &gt; comlevel) write(49, sales4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8400" y="3678120"/>
            <a:ext cx="2772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274680" y="270000"/>
            <a:ext cx="3108240" cy="3892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6000"/>
          </a:bodyPr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ider the single data item, sale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 have 50 componen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sale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… sale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88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note these components b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les[0]  sales[1] … sales[49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88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ment part of solution might 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88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688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um = 0.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688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(i = 0; i &lt; 50; i++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688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688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in &gt;&gt; sales[i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688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um = sum + sales[i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688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688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mlevel = 2.0/3 * (sum / 50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688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(i = 0; i &lt; 50; i++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688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(sales[i] &gt; com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688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ut &lt;&lt; i &lt;&lt; sales[i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688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6884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lution assumes 2 language featur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8840" indent="-16884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bility to denote a group of variables by a single identifier, s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8840" indent="-16884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bility to distinguish a particular variable or component of a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74680" y="270000"/>
            <a:ext cx="3108240" cy="3892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blem: Reverse a string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se 1: Length known  abcd     dc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har ch[4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= 0; i &lt; 4; i++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n &gt;&gt; ch[i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= 3; i &gt;= 0; i-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t &lt;&lt; ch[i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81240" y="1092240"/>
            <a:ext cx="192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274680" y="270000"/>
            <a:ext cx="3108240" cy="3892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blem: Reverse a string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se 2: Length unknown   abadce … ba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har stack[30]; // max no. of cha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har chr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in &gt;&gt; chr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while(chr != '*'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tack[i] = chr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in &gt;&gt; chr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while(i !=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hr = stack[i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ut &lt;&lt; chr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74680" y="114120"/>
            <a:ext cx="3108240" cy="39495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076400" y="204840"/>
            <a:ext cx="946080" cy="288720"/>
            <a:chOff x="1076400" y="204840"/>
            <a:chExt cx="946080" cy="288720"/>
          </a:xfrm>
        </p:grpSpPr>
        <p:sp>
          <p:nvSpPr>
            <p:cNvPr id="85" name=""/>
            <p:cNvSpPr/>
            <p:nvPr/>
          </p:nvSpPr>
          <p:spPr>
            <a:xfrm>
              <a:off x="1076400" y="204840"/>
              <a:ext cx="94608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160" rIns="47160" tIns="23400" bIns="23400" anchor="ctr">
              <a:noAutofit/>
            </a:bodyPr>
            <a:p>
              <a:pPr algn="ctr">
                <a:tabLst>
                  <a:tab algn="l" pos="0"/>
                  <a:tab algn="l" pos="469800"/>
                  <a:tab algn="l" pos="939960"/>
                  <a:tab algn="l" pos="1409760"/>
                  <a:tab algn="l" pos="1879560"/>
                  <a:tab algn="l" pos="2349360"/>
                  <a:tab algn="l" pos="2819520"/>
                  <a:tab algn="l" pos="3289320"/>
                  <a:tab algn="l" pos="3759120"/>
                  <a:tab algn="l" pos="4229280"/>
                  <a:tab algn="l" pos="4699080"/>
                  <a:tab algn="l" pos="5168880"/>
                  <a:tab algn="l" pos="5638680"/>
                  <a:tab algn="l" pos="6108840"/>
                  <a:tab algn="l" pos="6578640"/>
                  <a:tab algn="l" pos="7048440"/>
                  <a:tab algn="l" pos="7518240"/>
                  <a:tab algn="l" pos="7988400"/>
                  <a:tab algn="l" pos="8458200"/>
                  <a:tab algn="l" pos="8928000"/>
                  <a:tab algn="l" pos="93981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XT       0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1605600" y="356040"/>
              <a:ext cx="13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069920" y="649440"/>
            <a:ext cx="963720" cy="231480"/>
            <a:chOff x="1069920" y="649440"/>
            <a:chExt cx="963720" cy="231480"/>
          </a:xfrm>
        </p:grpSpPr>
        <p:sp>
          <p:nvSpPr>
            <p:cNvPr id="88" name=""/>
            <p:cNvSpPr/>
            <p:nvPr/>
          </p:nvSpPr>
          <p:spPr>
            <a:xfrm>
              <a:off x="1069920" y="649440"/>
              <a:ext cx="963720" cy="231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160" rIns="47160" tIns="23400" bIns="23400" anchor="ctr">
              <a:noAutofit/>
            </a:bodyPr>
            <a:p>
              <a:pPr algn="ctr">
                <a:tabLst>
                  <a:tab algn="l" pos="0"/>
                  <a:tab algn="l" pos="469800"/>
                  <a:tab algn="l" pos="939960"/>
                  <a:tab algn="l" pos="1409760"/>
                  <a:tab algn="l" pos="1879560"/>
                  <a:tab algn="l" pos="2349360"/>
                  <a:tab algn="l" pos="2819520"/>
                  <a:tab algn="l" pos="3289320"/>
                  <a:tab algn="l" pos="3759120"/>
                  <a:tab algn="l" pos="4229280"/>
                  <a:tab algn="l" pos="4699080"/>
                  <a:tab algn="l" pos="5168880"/>
                  <a:tab algn="l" pos="5638680"/>
                  <a:tab algn="l" pos="6108840"/>
                  <a:tab algn="l" pos="6578640"/>
                  <a:tab algn="l" pos="7048440"/>
                  <a:tab algn="l" pos="7518240"/>
                  <a:tab algn="l" pos="7988400"/>
                  <a:tab algn="l" pos="8458200"/>
                  <a:tab algn="l" pos="8928000"/>
                  <a:tab algn="l" pos="93981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AST      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1608840" y="770760"/>
              <a:ext cx="13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739800" y="1047600"/>
            <a:ext cx="1752480" cy="287640"/>
            <a:chOff x="739800" y="1047600"/>
            <a:chExt cx="1752480" cy="287640"/>
          </a:xfrm>
        </p:grpSpPr>
        <p:sp>
          <p:nvSpPr>
            <p:cNvPr id="91" name=""/>
            <p:cNvSpPr/>
            <p:nvPr/>
          </p:nvSpPr>
          <p:spPr>
            <a:xfrm>
              <a:off x="739800" y="1047600"/>
              <a:ext cx="175248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160" rIns="47160" tIns="23400" bIns="23400" anchor="ctr">
              <a:noAutofit/>
            </a:bodyPr>
            <a:p>
              <a:pPr algn="ctr">
                <a:tabLst>
                  <a:tab algn="l" pos="0"/>
                  <a:tab algn="l" pos="469800"/>
                  <a:tab algn="l" pos="939960"/>
                  <a:tab algn="l" pos="1409760"/>
                  <a:tab algn="l" pos="1879560"/>
                  <a:tab algn="l" pos="2349360"/>
                  <a:tab algn="l" pos="2819520"/>
                  <a:tab algn="l" pos="3289320"/>
                  <a:tab algn="l" pos="3759120"/>
                  <a:tab algn="l" pos="4229280"/>
                  <a:tab algn="l" pos="4699080"/>
                  <a:tab algn="l" pos="5168880"/>
                  <a:tab algn="l" pos="5638680"/>
                  <a:tab algn="l" pos="6108840"/>
                  <a:tab algn="l" pos="6578640"/>
                  <a:tab algn="l" pos="7048440"/>
                  <a:tab algn="l" pos="7518240"/>
                  <a:tab algn="l" pos="7988400"/>
                  <a:tab algn="l" pos="8458200"/>
                  <a:tab algn="l" pos="8928000"/>
                  <a:tab algn="l" pos="93981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M        LAST + N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1153080" y="1198440"/>
              <a:ext cx="23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831960" y="1552680"/>
            <a:ext cx="1419120" cy="4665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23400" bIns="23400" anchor="ctr">
            <a:noAutofit/>
          </a:bodyPr>
          <a:p>
            <a:pPr algn="ctr"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UM &gt; 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50880" y="1346040"/>
            <a:ext cx="0" cy="20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41520" y="8874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39720" y="492120"/>
            <a:ext cx="0" cy="15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83000" y="1495440"/>
            <a:ext cx="709560" cy="56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23400" bIns="23400" anchor="ctr">
            <a:noAutofit/>
          </a:bodyPr>
          <a:p>
            <a:pPr algn="ctr"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51080" y="178272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49320" y="2251080"/>
            <a:ext cx="1192320" cy="574560"/>
            <a:chOff x="949320" y="2251080"/>
            <a:chExt cx="1192320" cy="574560"/>
          </a:xfrm>
        </p:grpSpPr>
        <p:sp>
          <p:nvSpPr>
            <p:cNvPr id="100" name=""/>
            <p:cNvSpPr/>
            <p:nvPr/>
          </p:nvSpPr>
          <p:spPr>
            <a:xfrm>
              <a:off x="949320" y="2251080"/>
              <a:ext cx="1192320" cy="57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160" rIns="47160" tIns="23400" bIns="23400" anchor="ctr">
              <a:noAutofit/>
            </a:bodyPr>
            <a:p>
              <a:pPr algn="ctr">
                <a:tabLst>
                  <a:tab algn="l" pos="0"/>
                  <a:tab algn="l" pos="469800"/>
                  <a:tab algn="l" pos="939960"/>
                  <a:tab algn="l" pos="1409760"/>
                  <a:tab algn="l" pos="1879560"/>
                  <a:tab algn="l" pos="2349360"/>
                  <a:tab algn="l" pos="2819520"/>
                  <a:tab algn="l" pos="3289320"/>
                  <a:tab algn="l" pos="3759120"/>
                  <a:tab algn="l" pos="4229280"/>
                  <a:tab algn="l" pos="4699080"/>
                  <a:tab algn="l" pos="5168880"/>
                  <a:tab algn="l" pos="5638680"/>
                  <a:tab algn="l" pos="6108840"/>
                  <a:tab algn="l" pos="6578640"/>
                  <a:tab algn="l" pos="7048440"/>
                  <a:tab algn="l" pos="7518240"/>
                  <a:tab algn="l" pos="7988400"/>
                  <a:tab algn="l" pos="8458200"/>
                  <a:tab algn="l" pos="8928000"/>
                  <a:tab algn="l" pos="93981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XT        LAST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AST        S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1487160" y="2457000"/>
              <a:ext cx="18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1487520" y="2640600"/>
              <a:ext cx="18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1550880" y="2021040"/>
            <a:ext cx="0" cy="23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58800" y="282420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779040" y="2949480"/>
            <a:ext cx="77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51000" y="2949480"/>
            <a:ext cx="42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79800" y="1536840"/>
            <a:ext cx="4204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92280" y="2021040"/>
            <a:ext cx="4125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4600" y="3054240"/>
            <a:ext cx="33019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EX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A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&gt;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            1           1         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           1           2         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           2           3         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           3           5         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015560" y="3597120"/>
            <a:ext cx="330120" cy="13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025640" y="3776760"/>
            <a:ext cx="365040" cy="13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031760" y="3967200"/>
            <a:ext cx="331920" cy="12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566720" y="3586320"/>
            <a:ext cx="339840" cy="14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584000" y="3751200"/>
            <a:ext cx="304920" cy="14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584360" y="3957480"/>
            <a:ext cx="264960" cy="12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88040" y="4203720"/>
            <a:ext cx="27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34160" y="4214880"/>
            <a:ext cx="2772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42120" y="4216320"/>
            <a:ext cx="2772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52440" y="1161720"/>
            <a:ext cx="0" cy="17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2440" y="1155600"/>
            <a:ext cx="38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274680" y="171000"/>
            <a:ext cx="3108240" cy="41720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blem: Write a program 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put a string of character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whether or not the str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s a PALINDR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.g.  LEVEL, MADAM, REDDE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BLE WAS I ERE I SAW EL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ack[i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 = i-1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J = 0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while(J &lt; I &amp;&amp; Stack[I] == Stack[J]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J++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J &gt;= I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ut &lt;&lt; "String is a palindrome"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ut &lt;&lt; "String is NOT a palindrome"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55760" y="1946160"/>
            <a:ext cx="2819160" cy="312840"/>
            <a:chOff x="455760" y="1946160"/>
            <a:chExt cx="2819160" cy="312840"/>
          </a:xfrm>
        </p:grpSpPr>
        <p:sp>
          <p:nvSpPr>
            <p:cNvPr id="270" name=""/>
            <p:cNvSpPr/>
            <p:nvPr/>
          </p:nvSpPr>
          <p:spPr>
            <a:xfrm>
              <a:off x="455760" y="1946160"/>
              <a:ext cx="2819160" cy="31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160" rIns="47160" tIns="23400" bIns="23400" anchor="ctr">
              <a:noAutofit/>
            </a:bodyPr>
            <a:p>
              <a:pPr>
                <a:tabLst>
                  <a:tab algn="l" pos="0"/>
                  <a:tab algn="l" pos="469800"/>
                  <a:tab algn="l" pos="939960"/>
                  <a:tab algn="l" pos="1409760"/>
                  <a:tab algn="l" pos="1879560"/>
                  <a:tab algn="l" pos="2349360"/>
                  <a:tab algn="l" pos="2819520"/>
                  <a:tab algn="l" pos="3289320"/>
                  <a:tab algn="l" pos="3759120"/>
                  <a:tab algn="l" pos="4229280"/>
                  <a:tab algn="l" pos="4699080"/>
                  <a:tab algn="l" pos="5168880"/>
                  <a:tab algn="l" pos="5638680"/>
                  <a:tab algn="l" pos="6108840"/>
                  <a:tab algn="l" pos="6578640"/>
                  <a:tab algn="l" pos="7048440"/>
                  <a:tab algn="l" pos="7518240"/>
                  <a:tab algn="l" pos="7988400"/>
                  <a:tab algn="l" pos="8458200"/>
                  <a:tab algn="l" pos="8928000"/>
                  <a:tab algn="l" pos="93981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……      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06040" y="194616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149840" y="194616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75640" y="194616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19440" y="194616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80880" y="194616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44800" y="194616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88400" y="194616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74680" y="270000"/>
            <a:ext cx="3108240" cy="3892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cessing Student Gr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nst int NUMSTUDENTS = 5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har grade[NUMSTUDENTS]; // array o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// letter gra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t idNbr;               // Student ID#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rade[0]  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rade[1] 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rade[2] 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rade[3] 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rade[4]  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or(idNbr=0; idNbr&lt;NUMSTUDENTS; idNbr++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ut &lt;&lt; grade[idNbr]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ut &lt;&lt; "Student " &lt;&lt; idNb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&lt;&lt; "Grade " &lt;&lt; grade[idNbr] &lt;&lt; endl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49240" y="3178080"/>
            <a:ext cx="199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74680" y="270000"/>
            <a:ext cx="3108240" cy="3892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umerated Types in Arr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nst int Numcities = 10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num Climate {SUN, RAIN, FROST, SNOW}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limate Weather[Numcities]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alid assig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Weather[0] = RAIN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Weather[9] = SNOW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 set all cities to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t wIndex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or(wIndex = 0; wIndex &lt; Numcities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wIndex++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Weather[wIndex] = SUN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0920" y="1635120"/>
            <a:ext cx="27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274680" y="270000"/>
            <a:ext cx="3108240" cy="3892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-D Arr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 algn="ctr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 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cessing character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st int num_lines = 6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st int num_cols = 12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har page[num_lines][num_cols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 set each of the 7200 character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f the array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pag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the blank charac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ires a nested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(i = 0; i &lt; num_lines; i++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(j = 0; j &lt; num_cols; j++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age[i][j] = ' '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274680" y="270000"/>
            <a:ext cx="3108240" cy="41558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-D Arr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 algn="ctr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 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2-D array is often used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resent the mathematical concep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f a MATRIX (call it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587520" indent="-11772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ually squar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by  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587520" indent="0">
              <a:lnSpc>
                <a:spcPct val="45000"/>
              </a:lnSpc>
              <a:spcBef>
                <a:spcPts val="249"/>
              </a:spcBef>
              <a:buNone/>
              <a:tabLst>
                <a:tab algn="l" pos="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ows           col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587520" indent="0">
              <a:spcBef>
                <a:spcPts val="300"/>
              </a:spcBef>
              <a:buNone/>
              <a:tabLst>
                <a:tab algn="l" pos="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 a[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][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] - mathematically a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pecial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(a) UNIT matrix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(b) UPPER TRIANGULAR matri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cessing square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nst int size = 4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t a[size][size]; // square matri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t i, j;      // indices or subscrip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873080" y="2631960"/>
                <a:ext cx="88776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546120" y="2616120"/>
                <a:ext cx="8254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274680" y="270000"/>
            <a:ext cx="3108240" cy="3892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-D Arr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 set up a unit 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(i = 0; i &lt; size; i++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(j = 0; j &lt; size; j++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(i == j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a[i][j] = 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a[i][j]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274680" y="270000"/>
            <a:ext cx="3108240" cy="3892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ading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cores for a number of students on a number of quizz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utput:  Student number, student’s average score, list of quiz scores for student, average score of all students for each qu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# students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# quizzes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core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34800" y="2884320"/>
          <a:ext cx="1198800" cy="77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2884320"/>
                    <a:ext cx="119880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2131920" y="2882880"/>
          <a:ext cx="408240" cy="785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1920" y="2882880"/>
                    <a:ext cx="40824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1628640" y="2973240"/>
            <a:ext cx="43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31880" y="3164040"/>
            <a:ext cx="428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23960" y="3371760"/>
            <a:ext cx="43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25760" y="3568680"/>
            <a:ext cx="428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00280" y="2867040"/>
            <a:ext cx="6145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[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02080" y="3057480"/>
            <a:ext cx="6141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[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612880" y="3241800"/>
            <a:ext cx="6145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[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616120" y="3432240"/>
            <a:ext cx="6145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[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343080" y="3900600"/>
          <a:ext cx="1206360" cy="199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3080" y="3900600"/>
                    <a:ext cx="12063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1585800" y="3875040"/>
            <a:ext cx="4032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7960" y="367812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39960" y="367200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60440" y="368136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274680" y="270000"/>
            <a:ext cx="3108240" cy="3892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ading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st int NumStud = 4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st int NumQuiz = 3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t Scores[NumStud][NumQuiz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oat StudAv[NumStud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oat QuizAv[NumQuiz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quizzes(Score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QuizAverages(Scores, QuizA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tudAverages(Scores, StudA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(   ,   ,   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9360" y="2363760"/>
            <a:ext cx="277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240" y="3459240"/>
            <a:ext cx="2772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274680" y="270000"/>
            <a:ext cx="3108240" cy="3892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ading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void QuizAverages(int Scores[][NumQuiz]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loat QuizAv[]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t Snum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t Qnum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t Sum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or(Qnum = 0; Qnum &lt; NumQuiz; Qnum++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um = 0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or(Snum = 0; Snum &lt; NumStud; Snum++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um = Sum + Scores[Snum][Qnum]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QuizAv[Qnum] = float(Sum) / NumStud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274680" y="270000"/>
            <a:ext cx="3108240" cy="3892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ample:  To store descriptive information in a computerized payroll 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e Do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SN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3-45-67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. dependents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urly wage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$6.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is description cont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 character str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 integer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 float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74680" y="267840"/>
            <a:ext cx="3144960" cy="40496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marL="17424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bonacci Code Examp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#include &lt;iostream.h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/**************************************************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/* PROGRAM: Test                                  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/*                                                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/* PURPOSE: This program computes the value of the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/*          first Fibonacci term greater than the 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/*          limit.  The limit is specified by the 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/*          user.                                 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/**************************************************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int limit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next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last,</a:t>
            </a:r>
            <a:br>
              <a:rPr sz="700"/>
            </a:b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sum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cin &gt;&gt; limi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next = 0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last = 1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sum = next + las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while (sum &lt;= limit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next = las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last = sum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sum = next + las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cout &lt;&lt; sum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74680" y="270000"/>
            <a:ext cx="3108240" cy="3892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typedef char longstring[2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typedef char shortstring[12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truct employ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ongstring nam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hortstring ss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t ndepend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oat rat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mployee clerk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erk.name[2] =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erk.rate =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61800" y="2644920"/>
            <a:ext cx="290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1800" y="3220920"/>
            <a:ext cx="290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61800" y="264492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61800" y="2784600"/>
            <a:ext cx="29070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ane Doe       123-45-6789     2     6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82600" y="2644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163600" y="2644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52680" y="2644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06640" y="264492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274680" y="270000"/>
            <a:ext cx="3108240" cy="3892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marL="1742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FACTORIAL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!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! = 5 * 4 * 3 * 2 *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 5 * 4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act(5) = 5 * fact(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act(4) = 4 * fact(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act(3) = 3 * fact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act(2) = 2 * fact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act(1) = 1 *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act(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qual to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 gen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act(n) = n * fact(n - 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ith fact(0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1795320" y="3112560"/>
            <a:ext cx="192240" cy="15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274680" y="270000"/>
            <a:ext cx="3108240" cy="3892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cursive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finition: A function defined in terms of the function itsel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.g. the factorial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ct(0)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ct(n) = n * fact(n-1), for n&gt;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me C++ structures have this recurs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.g. the syntactic definition of a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atement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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f (    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ame technique can be used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scribe a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274680" y="270000"/>
            <a:ext cx="3108240" cy="3892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t fact(int 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(n ==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turn n * fact(n - 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t fact(int 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t x = 1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un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(count = 2; count &lt;= n; count++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 = x * coun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274680" y="270000"/>
            <a:ext cx="3108240" cy="3892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ample: Process to output an integer (N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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 reverse 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.g. 723             3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bstractly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output last digit of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if(digits re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verse remaining dig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id reverse(int 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t &lt;&lt; N % 1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(N / 10 != 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verse (N / 1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74840" y="1133640"/>
            <a:ext cx="33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274680" y="270000"/>
            <a:ext cx="3108240" cy="3892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iv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 Sum (int 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(n &lt; 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n + Sum(n + 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hat is the value of the expression Sum(5)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274320" y="270000"/>
            <a:ext cx="3236760" cy="3892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 algn="ctr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bonacci Nu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 algn="ctr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b(n)    =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  n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,  n =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b(n-1) + Fib(n-2),  n &gt;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 fib (int 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(n ==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lse if (n ==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fib(n-1) + fib(n-2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30040" y="334440"/>
            <a:ext cx="3152880" cy="3729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7000"/>
          </a:bodyPr>
          <a:p>
            <a:pPr marL="170640" indent="0">
              <a:spcBef>
                <a:spcPts val="49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0640" indent="-1706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physical components of the comp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71160" indent="-14292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keyboard, monitor, mouse, memory, CPU, hard drive, floppy disk driv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0640" indent="0">
              <a:spcBef>
                <a:spcPts val="49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0640" indent="0">
              <a:spcBef>
                <a:spcPts val="49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0640" indent="-17064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he set of all programs availab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71160" indent="-14292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Windows NT (operating system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371160" indent="-14292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icrosoft Visual C++ (compiler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371160" indent="-14292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Your C++ progr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30040" y="334440"/>
            <a:ext cx="3152880" cy="3729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 algn="ctr">
              <a:spcBef>
                <a:spcPts val="49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ach program should contai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.  Comment S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GRAM: name of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your name and S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YSTEM: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compiler and operating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RPOSE:   short description of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problem which progra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“solv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.  Header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#include (all header f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30040" y="334440"/>
            <a:ext cx="3152880" cy="3729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marL="174240" indent="0" algn="ctr">
              <a:spcBef>
                <a:spcPts val="49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.  Declaration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-1742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 realistic names for cons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-1742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 realistic names for variables (and explain their u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.  Statement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-1742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clude about 10% comments on subtasks to be per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-1742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clude blank lines for read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-1742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 indentation (~ 4 spa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-1742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clude prompts for keyboard 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-1742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e up long “cin” and “cou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.g.  cout &lt;&lt; . . . . &lt;&lt; . . . . &lt;&lt;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&lt; . . . . &lt;&lt; . . . . &lt;&lt; 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30040" y="334440"/>
            <a:ext cx="3152880" cy="3729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blem: 3 distinct integ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rder them in descending 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b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3 5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4        5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3 4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5 4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3 4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5        4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3 5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4 5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3         5 4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3880" y="153504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1770120"/>
            <a:ext cx="245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1539720"/>
            <a:ext cx="245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20760" y="17683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43200" y="1770120"/>
            <a:ext cx="245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5T17:08:50Z</dcterms:created>
  <dc:creator>peon</dc:creator>
  <dc:description/>
  <dc:language>en-US</dc:language>
  <cp:lastModifiedBy>Marc Bjorklund</cp:lastModifiedBy>
  <cp:lastPrinted>1999-01-19T21:19:25Z</cp:lastPrinted>
  <dcterms:modified xsi:type="dcterms:W3CDTF">1999-05-06T05:20:45Z</dcterms:modified>
  <cp:revision>29</cp:revision>
  <dc:subject/>
  <dc:title>No Slide Title</dc:title>
</cp:coreProperties>
</file>