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15200" y="514440"/>
            <a:ext cx="1068480" cy="69228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1055520" y="450720"/>
            <a:ext cx="861840" cy="936720"/>
            <a:chOff x="1055520" y="450720"/>
            <a:chExt cx="861840" cy="93672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055520" y="450720"/>
              <a:ext cx="86184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 txBox="1"/>
            <p:nvPr/>
          </p:nvSpPr>
          <p:spPr>
            <a:xfrm>
              <a:off x="1203480" y="822240"/>
              <a:ext cx="573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838080" y="1523880"/>
            <a:ext cx="7620120" cy="763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432080" y="2193840"/>
            <a:ext cx="6583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 Lecture on Introduction to Distribu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s and Even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336840" y="3565440"/>
            <a:ext cx="2054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unxiang Xi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413160" y="4327560"/>
            <a:ext cx="1886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ginia 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876320" y="1219320"/>
            <a:ext cx="5958000" cy="48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ng Agent’s Behavior by Milner’s Axi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52640" y="2346480"/>
            <a:ext cx="701676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ling agents behaviors in concurrent computation by C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ation tree to represent the entire behavior of any 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ioms of Action, Communication, relabelling, restriction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used to infer an agent behavior in a specific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 behaviors in concurrent computation could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ted by simple  algebraic laws in C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0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haviors are repet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gent’s behavior could repeat itself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638440" y="990720"/>
            <a:ext cx="3654360" cy="48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of Algebraic P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279440" y="1812960"/>
            <a:ext cx="6734160" cy="4114800"/>
            <a:chOff x="1279440" y="1812960"/>
            <a:chExt cx="6734160" cy="411480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5962680" y="1981080"/>
              <a:ext cx="2050920" cy="359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590920" y="2286000"/>
              <a:ext cx="152640" cy="457560"/>
            </a:xfrm>
            <a:custGeom>
              <a:avLst/>
              <a:gdLst/>
              <a:ahLst/>
              <a:rect l="0" t="0" r="r" b="b"/>
              <a:pathLst>
                <a:path w="424" h="1271">
                  <a:moveTo>
                    <a:pt x="0" y="422"/>
                  </a:moveTo>
                  <a:lnTo>
                    <a:pt x="0" y="846"/>
                  </a:lnTo>
                  <a:lnTo>
                    <a:pt x="297" y="846"/>
                  </a:lnTo>
                  <a:lnTo>
                    <a:pt x="297" y="1271"/>
                  </a:lnTo>
                  <a:lnTo>
                    <a:pt x="424" y="635"/>
                  </a:lnTo>
                  <a:lnTo>
                    <a:pt x="297" y="0"/>
                  </a:lnTo>
                  <a:lnTo>
                    <a:pt x="297" y="422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2498760" y="1812960"/>
              <a:ext cx="404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2346480" y="2727360"/>
              <a:ext cx="641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A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812960" y="4327560"/>
              <a:ext cx="2293920" cy="685800"/>
              <a:chOff x="1812960" y="4327560"/>
              <a:chExt cx="2293920" cy="685800"/>
            </a:xfrm>
          </p:grpSpPr>
          <p:sp>
            <p:nvSpPr>
              <p:cNvPr id="56" name=""/>
              <p:cNvSpPr txBox="1"/>
              <p:nvPr/>
            </p:nvSpPr>
            <p:spPr>
              <a:xfrm>
                <a:off x="1812960" y="4556160"/>
                <a:ext cx="6681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|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 txBox="1"/>
              <p:nvPr/>
            </p:nvSpPr>
            <p:spPr>
              <a:xfrm>
                <a:off x="3336840" y="4556160"/>
                <a:ext cx="7700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’|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552760" y="4686120"/>
                <a:ext cx="686160" cy="152640"/>
              </a:xfrm>
              <a:custGeom>
                <a:avLst/>
                <a:gdLst/>
                <a:ahLst/>
                <a:rect l="0" t="0" r="r" b="b"/>
                <a:pathLst>
                  <a:path w="1906" h="424">
                    <a:moveTo>
                      <a:pt x="0" y="140"/>
                    </a:moveTo>
                    <a:lnTo>
                      <a:pt x="0" y="282"/>
                    </a:lnTo>
                    <a:lnTo>
                      <a:pt x="1334" y="282"/>
                    </a:lnTo>
                    <a:lnTo>
                      <a:pt x="1334" y="424"/>
                    </a:lnTo>
                    <a:lnTo>
                      <a:pt x="1906" y="211"/>
                    </a:lnTo>
                    <a:lnTo>
                      <a:pt x="1334" y="0"/>
                    </a:lnTo>
                    <a:lnTo>
                      <a:pt x="1334" y="14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727360" y="43275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1279440" y="5241960"/>
              <a:ext cx="3848400" cy="685800"/>
              <a:chOff x="1279440" y="5241960"/>
              <a:chExt cx="3848400" cy="685800"/>
            </a:xfrm>
          </p:grpSpPr>
          <p:sp>
            <p:nvSpPr>
              <p:cNvPr id="61" name=""/>
              <p:cNvSpPr txBox="1"/>
              <p:nvPr/>
            </p:nvSpPr>
            <p:spPr>
              <a:xfrm>
                <a:off x="1279440" y="5470560"/>
                <a:ext cx="1666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A|B)\{c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 txBox="1"/>
              <p:nvPr/>
            </p:nvSpPr>
            <p:spPr>
              <a:xfrm>
                <a:off x="3641760" y="5470560"/>
                <a:ext cx="14860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A’|B)\{c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781360" y="5600520"/>
                <a:ext cx="686160" cy="152640"/>
              </a:xfrm>
              <a:custGeom>
                <a:avLst/>
                <a:gdLst/>
                <a:ahLst/>
                <a:rect l="0" t="0" r="r" b="b"/>
                <a:pathLst>
                  <a:path w="1906" h="424">
                    <a:moveTo>
                      <a:pt x="0" y="140"/>
                    </a:moveTo>
                    <a:lnTo>
                      <a:pt x="0" y="282"/>
                    </a:lnTo>
                    <a:lnTo>
                      <a:pt x="1334" y="282"/>
                    </a:lnTo>
                    <a:lnTo>
                      <a:pt x="1334" y="424"/>
                    </a:lnTo>
                    <a:lnTo>
                      <a:pt x="1906" y="211"/>
                    </a:lnTo>
                    <a:lnTo>
                      <a:pt x="1334" y="0"/>
                    </a:lnTo>
                    <a:lnTo>
                      <a:pt x="1334" y="14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 txBox="1"/>
              <p:nvPr/>
            </p:nvSpPr>
            <p:spPr>
              <a:xfrm>
                <a:off x="2879640" y="5241960"/>
                <a:ext cx="3841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590920" y="3124080"/>
              <a:ext cx="152640" cy="457560"/>
            </a:xfrm>
            <a:custGeom>
              <a:avLst/>
              <a:gdLst/>
              <a:ahLst/>
              <a:rect l="0" t="0" r="r" b="b"/>
              <a:pathLst>
                <a:path w="424" h="1271">
                  <a:moveTo>
                    <a:pt x="0" y="422"/>
                  </a:moveTo>
                  <a:lnTo>
                    <a:pt x="0" y="846"/>
                  </a:lnTo>
                  <a:lnTo>
                    <a:pt x="297" y="846"/>
                  </a:lnTo>
                  <a:lnTo>
                    <a:pt x="297" y="1271"/>
                  </a:lnTo>
                  <a:lnTo>
                    <a:pt x="424" y="635"/>
                  </a:lnTo>
                  <a:lnTo>
                    <a:pt x="297" y="0"/>
                  </a:lnTo>
                  <a:lnTo>
                    <a:pt x="297" y="422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2422440" y="3489480"/>
              <a:ext cx="506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90920" y="3962520"/>
              <a:ext cx="152640" cy="457560"/>
            </a:xfrm>
            <a:custGeom>
              <a:avLst/>
              <a:gdLst/>
              <a:ahLst/>
              <a:rect l="0" t="0" r="r" b="b"/>
              <a:pathLst>
                <a:path w="424" h="1271">
                  <a:moveTo>
                    <a:pt x="0" y="422"/>
                  </a:moveTo>
                  <a:lnTo>
                    <a:pt x="0" y="846"/>
                  </a:lnTo>
                  <a:lnTo>
                    <a:pt x="297" y="846"/>
                  </a:lnTo>
                  <a:lnTo>
                    <a:pt x="297" y="1271"/>
                  </a:lnTo>
                  <a:lnTo>
                    <a:pt x="424" y="635"/>
                  </a:lnTo>
                  <a:lnTo>
                    <a:pt x="297" y="0"/>
                  </a:lnTo>
                  <a:lnTo>
                    <a:pt x="297" y="422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90920" y="4952880"/>
              <a:ext cx="152640" cy="457560"/>
            </a:xfrm>
            <a:custGeom>
              <a:avLst/>
              <a:gdLst/>
              <a:ahLst/>
              <a:rect l="0" t="0" r="r" b="b"/>
              <a:pathLst>
                <a:path w="424" h="1271">
                  <a:moveTo>
                    <a:pt x="0" y="422"/>
                  </a:moveTo>
                  <a:lnTo>
                    <a:pt x="0" y="846"/>
                  </a:lnTo>
                  <a:lnTo>
                    <a:pt x="297" y="846"/>
                  </a:lnTo>
                  <a:lnTo>
                    <a:pt x="297" y="1271"/>
                  </a:lnTo>
                  <a:lnTo>
                    <a:pt x="424" y="635"/>
                  </a:lnTo>
                  <a:lnTo>
                    <a:pt x="297" y="0"/>
                  </a:lnTo>
                  <a:lnTo>
                    <a:pt x="297" y="422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2803680" y="3032280"/>
              <a:ext cx="3189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3260880" y="2316240"/>
              <a:ext cx="608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3260880" y="3078000"/>
              <a:ext cx="522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3184560" y="376380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3336840" y="5059440"/>
              <a:ext cx="5508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 txBox="1"/>
          <p:nvPr/>
        </p:nvSpPr>
        <p:spPr>
          <a:xfrm>
            <a:off x="2498760" y="4327560"/>
            <a:ext cx="31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083040" y="1177920"/>
            <a:ext cx="2122560" cy="50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5181480"/>
            <a:ext cx="3441600" cy="768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419720" y="4952880"/>
            <a:ext cx="3943440" cy="1071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1066680" y="2057400"/>
            <a:ext cx="6359400" cy="29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ppened Before” relation (--</a:t>
            </a:r>
            <a:r>
              <a:rPr b="0" lang="en-US" sz="3600" spc="-1" strike="noStrike" baseline="-8000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wo events of the same process,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</a:t>
            </a:r>
            <a:r>
              <a:rPr b="0" lang="en-US" sz="3600" spc="-1" strike="noStrike" baseline="-8000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i &lt; j  such as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</a:t>
            </a:r>
            <a:r>
              <a:rPr b="0" lang="en-US" sz="3600" spc="-1" strike="noStrike" baseline="-8000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</a:t>
            </a:r>
            <a:r>
              <a:rPr b="0" lang="en-US" sz="3600" spc="-1" strike="noStrike" baseline="-8000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event always happen before receive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</a:t>
            </a:r>
            <a:r>
              <a:rPr b="0" lang="en-US" sz="3600" spc="-1" strike="noStrike" baseline="-8000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lation is tra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083040" y="1101600"/>
            <a:ext cx="2851200" cy="50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port’s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93640" y="2270160"/>
            <a:ext cx="84438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timer f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 physical timing is imposs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port’s logical clocks are also referred to as virtual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or communicated events have the order of event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distinct events a and b are concurrent (a||b) if the do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ally affect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083040" y="1101600"/>
            <a:ext cx="2851200" cy="50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port’s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47720" y="2270160"/>
            <a:ext cx="797544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ny two events a and b in a process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f a occurs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then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&lt;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or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+ d where d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is a message send event o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b is the message rece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 o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ssage is assigned the timestamp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= max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ation of Lamport’s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distinguish the clock change due to loc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message exchange betw.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463920" y="1177920"/>
            <a:ext cx="2554200" cy="50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ill focus o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5440" y="2270160"/>
            <a:ext cx="821700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in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most important difference betw. D.S. and C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global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s that create a sense of new global tim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techniques reflect the change in distribu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much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unxiang Xi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uthorized User</dc:creator>
  <dc:description/>
  <dc:language>en-US</dc:language>
  <cp:lastModifiedBy>J. Patrick Van Metre</cp:lastModifiedBy>
  <cp:revision>0</cp:revision>
  <dc:subject/>
  <dc:title>No Slide Title</dc:title>
</cp:coreProperties>
</file>