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NG SYSTEM DESIGN PHILOSOP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paratis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ear distinction between policies 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hat?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chanisms 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ow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atibilis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S is to secure “compatibility” among user programs so that they may be transferred between widely different installations.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rfectionis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S presents to the user a virtual machine which in some sense is preferable to the original hardware; e.g. easier to program, having more featu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Universalis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 covers the entire gamut of software support offered by a manufactur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ker’s Algorithm: Multiple Resource Typ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Structur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cesses and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 typ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vail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Vector of length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ing the number of units of available resources of each type.  (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vailable[j] = 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maximum demand of each process i for resource type j.  If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ax(i,j) = k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process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y request at mos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its of resource typ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The matrix is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 Bold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Bookman Old Style Bold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lo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 Bold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Bookman Old Style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howing the number of resources of each type currently allocted to each 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lai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 Bold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Bookman Old Style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indicating the remaining resource units that can be claimed by each process.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aim(i,j) := Max(i,j) - Allocation (i,j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Vector of length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iving the number of units of each type of resource requested by process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X and Y be vectors of length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Then X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 only if X[i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[i] for all i = 1, 2, ...,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instance of a request by process i is represented as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ques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entury 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llo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entury 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ai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entury 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rows of each matrix treated as ve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ker’s Algorith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ques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entury 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Clai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entury Gothic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to Step 2; otherwise an error occurs since the process exceeds its maximum claim for some resource 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ques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entury 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Avail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proceed to Step 3.  Otherwise, the resources are not available and the process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wa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ource Manager pretends to have allocated the requested resources to process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modifying the state as fol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vailable := Available - Reques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entury 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llo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entury Gothic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:= Allo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entury Gothic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+ Reques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entury 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ai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entury 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:= Clai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entury 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- Reques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entury 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ru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fety Algorithm.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sulting state is safe the transaction is completed and process i is allocated requested resources.  If resulting state is unsafe, process i is denied request and waits.  Original state is resto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fety Algorith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or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an integer-valued vector of length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nd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is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a boolean-valued vector of length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Se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ork := Avail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Finish[i] := </a:t>
            </a: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fa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 = 1, ..., 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 process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ish[i] = </a:t>
            </a: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fal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Clai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entury 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Work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such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ists, go to Step 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ork := Work + Allo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entury Gothic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ish[i] := </a:t>
            </a: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to Step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ish[i] = </a:t>
            </a: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tr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he system is in a safe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SUES IN DISTRIBUTED OPERATING 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/local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entralized or centralized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ing of events and clock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identification (Nam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pli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storage at different physical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tio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mong different physical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d replication/parti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l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: identical instruction set archite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ion: all processors can compile and execute sam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: all processing sites support the same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SUES IN DISTRIBUTED OS (Continue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synchronization - Mutual exclusion on wider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versus remot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d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 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ing - Interactions and inter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lithic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ve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ori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/serve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MPORT’S  LOGICAL  CLOC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“happened before” rela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    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    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f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events in the same process an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rred before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    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f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event of sending a messag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process and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event of receipt of the same messag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another 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    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     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the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    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lation is transitiv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 ordered by “happened before” relationship are label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us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ffe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events are said to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cur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    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     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73560" y="22096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01760" y="25146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01760" y="32004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01760" y="38862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7040" y="38862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8640" y="38862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9360" y="48769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54640" y="48769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035680" y="4793760"/>
            <a:ext cx="6336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330960" y="4793760"/>
            <a:ext cx="6336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CE-TIME DIAGRA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 with process and event IDs, vector clock values, and us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ain and contrast event and message caus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82640" y="23684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92480" y="23684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82840" y="23684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11640" y="23684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02360" y="23684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8926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1974960" y="54165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6013440" y="69404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40040" y="38926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30760" y="38926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93080" y="38926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45160" y="38926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82640" y="51879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2279520" y="64832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82840" y="51879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83040" y="51879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83240" y="51879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243828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44760" y="24382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35480" y="243828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64280" y="24382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16160" y="39625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92680" y="39625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83040" y="396252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7440" y="396252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35280" y="5257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517400" y="396252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517760" y="243828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593360" y="52578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35480" y="5257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5680" y="5257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54640" y="2438280"/>
            <a:ext cx="11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45360" y="396252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35880" y="525780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9160" y="2521080"/>
            <a:ext cx="444600" cy="135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435480" y="4032360"/>
            <a:ext cx="1282680" cy="115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21480" y="4044960"/>
            <a:ext cx="749160" cy="113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7640" y="23684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0280" y="24382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169040" y="2508120"/>
            <a:ext cx="292320" cy="138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7240" y="2820960"/>
            <a:ext cx="2257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1840" y="5564160"/>
            <a:ext cx="182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obal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38080" y="23558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54440" y="5715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LC: IMPLEMENTATION  RU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ck C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incremented between any two successive events in process P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= C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d         (d &g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ven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sending of messag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process P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n messag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ssigned a timestamp t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= C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(with the value of C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obtained after applying IR1.  On receiving the same messag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process P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a value greater than or equal to its present value and greater than t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= max(C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t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d)              (d &gt; 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“happened before” relation defines a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irreflexive parti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dering on the ev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CTOR CLOCKS IMPLEMENTATION RU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ck C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incremented between any two successive events in process P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 i] := C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 i] + d         (d &g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ven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ending of the messag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process P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then messag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ssigned a vector timestamp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] ; on receipt of m by P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pdated by C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k] := max(C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k],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k]), for all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n C(a) &lt; C(b) but  the reverse does not necessarily ho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11240" y="48006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63880" y="480060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RMAN-SCHIPER-STEPHENSON  PROTOCO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  broadcasting messag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cess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crements the vector time V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i] and timestamps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Note that VT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i] - 1 indicates the number of messages sent from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preced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P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on receipt of message m timestamped VTm from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delays its delivery until both the following conditions are satisfi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1 VTp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i] = VTm[i]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2 VTp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k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Tm[k] , for all k = 1, 2,..., i-1, i+1, ...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ed messages are queued at each process in a queue that is sorted  by vector time of the messages.  (Concurrent messages ordered by time of their receip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 message is delivered at a process P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VTp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pdated according to the vector clocks rule (IR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NG SYSTEM DESIGN APPROACH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y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Functional partitioning of levels of service.  (Comes from the seven layer ISO Open System Interconnection Model.)    Example: MUL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rnel Ba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Kernel or nucleus is a set of primitives supporting the tailoring of higher level functionality.  (Flexibility maximized)    Example: HYD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irtual Mach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oftware wrapper on basic hardware to provide user illusion of total control of all resources.  (Efficiency is price paid for illusion.)   Example: VM/3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-E-S  PROTOCOL  EXAMP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12254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7040" y="12254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64080" y="12254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30760" y="12254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30360" y="22161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1670040" y="32068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8280" y="22161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11640" y="22161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54040" y="32068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2508120" y="41972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8440" y="32068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21280" y="32068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73760" y="32068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01760" y="12952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7560" y="12952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9680" y="12952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83040" y="129528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8080" y="22860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82640" y="228600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6680" y="327672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21080" y="327672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73560" y="3276720"/>
            <a:ext cx="158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26040" y="32767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606680" y="1365120"/>
            <a:ext cx="29196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8080" y="32767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606680" y="1288800"/>
            <a:ext cx="2120760" cy="191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444760" y="1365120"/>
            <a:ext cx="216000" cy="184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21480" y="22161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73560" y="12254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16360" y="12952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25840" y="129528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30560" y="22860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64280" y="228600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73760" y="22860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49880" y="1378080"/>
            <a:ext cx="135864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7080" y="1378080"/>
            <a:ext cx="36828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30560" y="2368440"/>
            <a:ext cx="273060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3560" y="1525680"/>
            <a:ext cx="301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40080" y="3659040"/>
            <a:ext cx="144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obal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92680" y="388620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914400" y="113652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2160" y="1068480"/>
            <a:ext cx="4539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2160" y="2058840"/>
            <a:ext cx="378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2160" y="3125880"/>
            <a:ext cx="378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7960" y="915840"/>
            <a:ext cx="378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40080" y="91584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06760" y="915840"/>
            <a:ext cx="378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16240" y="915840"/>
            <a:ext cx="378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9760" y="915840"/>
            <a:ext cx="378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7080" y="190656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2055960" y="2897280"/>
            <a:ext cx="378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97280" y="190656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2040" y="1906560"/>
            <a:ext cx="378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40480" y="190656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7080" y="289728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3046320" y="388764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5160" y="2897280"/>
            <a:ext cx="378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63960" y="2897280"/>
            <a:ext cx="378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2760" y="2897280"/>
            <a:ext cx="378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3040" y="1601640"/>
            <a:ext cx="45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30240" y="2440080"/>
            <a:ext cx="45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40080" y="2516040"/>
            <a:ext cx="453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7640" y="2363760"/>
            <a:ext cx="45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68880" y="1449360"/>
            <a:ext cx="453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6960" y="1601640"/>
            <a:ext cx="453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4440" y="4116240"/>
            <a:ext cx="7083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V_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{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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0,0,1)}     V_M = {V_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0,0,1)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V_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{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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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0,1,0)}    V_M = {V_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0,1,0)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V_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{(_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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1,0,0)} on receipt. Message is deliver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 t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(1,1,0) =&gt; V_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{(_ (0,1,0) 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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1,0,0)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STATES AND CONSISTENT CU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35280" y="12254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97040" y="12254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64080" y="12254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30760" y="12254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30360" y="22161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670040" y="32068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78280" y="22161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11640" y="22161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54040" y="32068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2508120" y="41972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68440" y="32068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21280" y="32068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73760" y="32068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01760" y="12952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7560" y="12952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9680" y="12952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83040" y="129528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8080" y="22860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82640" y="228600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6680" y="327672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21080" y="327672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73560" y="3276720"/>
            <a:ext cx="158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26040" y="32767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606680" y="1365120"/>
            <a:ext cx="29196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8080" y="32767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606680" y="1288800"/>
            <a:ext cx="2120760" cy="191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444760" y="1365120"/>
            <a:ext cx="216000" cy="184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21480" y="22161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73560" y="12254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16360" y="12952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25840" y="129528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64280" y="228600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73760" y="22860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7080" y="1378080"/>
            <a:ext cx="36828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30560" y="2368440"/>
            <a:ext cx="273060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3560" y="1525680"/>
            <a:ext cx="301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40080" y="3659040"/>
            <a:ext cx="144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obal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92680" y="388620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914400" y="113652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2160" y="1068480"/>
            <a:ext cx="4539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92160" y="2058840"/>
            <a:ext cx="378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2160" y="3125880"/>
            <a:ext cx="378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915840"/>
            <a:ext cx="378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40080" y="91584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06760" y="915840"/>
            <a:ext cx="378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6240" y="915840"/>
            <a:ext cx="378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49760" y="915840"/>
            <a:ext cx="378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7080" y="190656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-2055960" y="2897280"/>
            <a:ext cx="378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7280" y="190656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92560" y="1906560"/>
            <a:ext cx="378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06960" y="1906560"/>
            <a:ext cx="378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7080" y="289728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3046320" y="388764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35160" y="2897280"/>
            <a:ext cx="378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63960" y="2897280"/>
            <a:ext cx="378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2760" y="2897280"/>
            <a:ext cx="378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73040" y="1601640"/>
            <a:ext cx="45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30240" y="2440080"/>
            <a:ext cx="45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40080" y="2516040"/>
            <a:ext cx="453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7640" y="2363760"/>
            <a:ext cx="45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06960" y="1601640"/>
            <a:ext cx="453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44440" y="4116240"/>
            <a:ext cx="708372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der the local state of each process to be defined at respective ev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es GS = {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 define a consistent global sta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a cut defined by C = {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 a consistent cu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73560" y="22161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30560" y="2286000"/>
            <a:ext cx="11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258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40480" y="190656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43400" y="137808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4184280" y="2368440"/>
            <a:ext cx="165240" cy="825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GORITHM  SPECIFIC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mport’s Algorithm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4960" y="1297080"/>
            <a:ext cx="7311960" cy="55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Request Set = {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...,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Request 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1 REQUEST &lt;----  (tsi, i) ----&gt;  Ri; Adds (tsi, i)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quest_queu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2 REPLY by Sj (timestamped); Adds (tsi, i)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quest_queu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j) Vj °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Executing 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nters CS when both 2.1 and 2.2 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 has received MSG (tsj, j) &gt; (tsi, i) from all S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si, i) is first in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request_queu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Releasing 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1 RELEASE (tsi, i)  ----&gt; 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2 Sj removes (tsi, i) from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quest_queu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j) Vj °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GORITHM  SPECIFIC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ekawa’s Algorithm for Mutual Exclu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7240" y="1220760"/>
            <a:ext cx="7388280" cy="56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Requesting Critical Section (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1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s REQUEST(i) messages to all members of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ceiving REQUEST(i) message, sends REPLY(k) t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d 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message received was a RELEASE.  Otherwise, pla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(i)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essage_que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k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Executing the Critical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1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es CS only after receiving REPLY messages from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bers of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Releasing the Critical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1 Completing execution in CS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s RELEASE(i) messages to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bers of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2 When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ceives RELEASE(i), 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essage_queue(k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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s REPLY message to first site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essage_queue(k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deletes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3 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essage_queue(k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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dates state to recognize that no RE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s sent.  (This means no site in the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which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longs has iss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REQUES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88160" y="6013080"/>
            <a:ext cx="6336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DLOCK DETECTION IN DISTRIBUTED SYSTEM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LGORITH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: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h-pushing: Wait-for  information disseminated as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-chasing: Probes circulated along edges of WF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usion computation: Echo sent by blocked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state detection: Consistent snapshot reveals stable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SUES IN DISTRIBUTED DEADLOCK DETE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rectness of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al proofs are lacking; intuition is dangero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iculties with formal proof techniq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ple forms of TWF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sitivity to request 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global memory and message la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rithm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s are inadequate (number of messages is deceiving, number to detect “no deadlock”? or message siz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ernative measures and analys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adlock persistence time (average 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head - storage, processing time in both search and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SUES IN DISTRIBUTED DEADLOCK DETEC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adlock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ten overlooked as a requirement exacting co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dlock persistence affects active processes (adds to resource scarcity) and blocked processes (extends response ti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 for effective resolution not provided by detection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se Dead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rch for cycles is done independently and shared edges not recogn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le deadlock detection is aided by persistence (static condition), deadlock resolution is causes changes in WFG (dynam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GORITHM  OF  DOLEV, et.al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greement Protoco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3560" y="1373040"/>
            <a:ext cx="73882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[Initiation] HIGH := 2m + 1, LOW := m + 1 and k := 1.  Source broadcas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, say “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[Update] Set k := k + 1.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roadcasts names of new processors fo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it is direct or indirect supporter.  If initiation condition wa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 in prior round and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s not done so, it broadcasts “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.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 step for all j = 1, 2, ..., 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[Commit] If process counter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IGH, then the process commits t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value of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[Termination] If k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2m + 3, return to Step 2; else if 1 is committed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ors agree on 1; else agree on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itiation Cond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 processor initiates when (1) for k = 2, if “ * “ received when k = 1, or (2) for k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2 if |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OW + max(0, fl(k/2) - 2) (source exclud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 FILE  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twork transpa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users’ perceptions of access to file resources are unaffected by the physical distribution and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igh avail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high reliability of file access system should be a priority and scheduled downtime should be constrai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Virtual Uniprocessor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 FILE  SYSTEM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/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ational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-Structured Fil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VANCED  OPERATING  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tributed 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rovides OS functions to users of a network of autonomous computer systems such that a single service entity is percei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ultiprocessor 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n OS to support a tightly coupled set of processors sharing a common address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atabase 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ransaction based functions relying on data creation, access and transfer with concurrency and reliability as major go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al-time 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eadline-driven functions supported with high reliability.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ar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 York"/>
              </a:rPr>
              <a:t>TEMPORAL  REFERENCE  LO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16826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63880" y="5334120"/>
            <a:ext cx="4940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63880" y="1987560"/>
            <a:ext cx="433044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00800" y="5340240"/>
            <a:ext cx="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974600" y="19810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25680" y="1754280"/>
            <a:ext cx="606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49960" y="5411880"/>
            <a:ext cx="606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30240" y="5259240"/>
            <a:ext cx="53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8640" y="2668680"/>
            <a:ext cx="15210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 Joint 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16040" y="5487840"/>
            <a:ext cx="388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ortion of File Space Stored Lo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 SHARED  MEMOR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Access Schematic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25440" y="1987560"/>
            <a:ext cx="520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25440" y="2521080"/>
            <a:ext cx="520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19320" y="20638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52480" y="20638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59560" y="1987560"/>
            <a:ext cx="520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893680" y="1987560"/>
            <a:ext cx="520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9560" y="2521080"/>
            <a:ext cx="520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53080" y="20638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86600" y="20638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68480" y="1677960"/>
            <a:ext cx="911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ing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402240" y="1754280"/>
            <a:ext cx="91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ing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63880" y="2368440"/>
            <a:ext cx="901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64280" y="2368440"/>
            <a:ext cx="901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35160" y="2287440"/>
            <a:ext cx="835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59240" y="2287440"/>
            <a:ext cx="835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54240" y="2673360"/>
            <a:ext cx="44460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30760" y="2673360"/>
            <a:ext cx="44460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9560" y="2744640"/>
            <a:ext cx="835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26080" y="2744640"/>
            <a:ext cx="83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81400" y="3352680"/>
            <a:ext cx="354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3137040"/>
            <a:ext cx="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52880" y="3137040"/>
            <a:ext cx="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019920" y="22035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26040" y="220968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648320" y="24318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54440" y="243828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01960" y="24382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76720" y="24321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352680" y="30416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59160" y="327672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35680" y="30481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410080" y="266040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4120" y="2444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946400" y="2666880"/>
            <a:ext cx="393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21160" y="2440080"/>
            <a:ext cx="22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49960" y="2211480"/>
            <a:ext cx="22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87840" y="2820960"/>
            <a:ext cx="301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59240" y="4116240"/>
            <a:ext cx="27403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Intra-site BS to Mai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Main Memory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Inter-site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01960" y="2597040"/>
            <a:ext cx="29196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11640" y="2673360"/>
            <a:ext cx="2923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130560" y="2126880"/>
            <a:ext cx="67320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73560" y="2139840"/>
            <a:ext cx="90180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35360" y="1830240"/>
            <a:ext cx="835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che, Priv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  OF  CONSISTEN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quential Consistenc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Result of any execution of operations of all processors is identical with the sequential execution where the operations of each processor appears in the sequence as specified by its pro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l Consist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All copies of a memory location eventually contain the same data after the completion of all writes issued by every process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ssor Consistenc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Write operations issued by a processor are observed in the same order in which they were issued.  However, the ordering might not be identical when observed from different process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ak Consistenc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ynchronization accesses are sequentially consistent.  All synchronization accesses must be performed before a regular data access and vice versa (programmer-imposed consistenc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ease Consistenc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ame as weak consistency except that synchronization accesses must only be processor consistent with respect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S  OF  LOAD  DISTRIBUTING  ALGORITH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2680" y="1677960"/>
            <a:ext cx="7845480" cy="43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ffec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verhea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ative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Hard coded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overhea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ap, stable und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ision logic bas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ble, conforming loa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historical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pond to st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er overhead 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es non-conformin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rmation to adju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lect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 patterns bett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justs decis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adjust if need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ponds better t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s, e.g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generally hig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eme conditions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es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  OF  LOAD  DISTRIBUTING  ALGORITH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fer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sholds defined for each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hreshold, site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nd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 based on imbalance among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ion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ation of task to be transferred (overhead incurred in transfer of task &lt; reduction in response time achieved in transf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general, tasks should incur minimal transfer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-dependent system calls should be minimal (local-dependent means that such operation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performed at originating no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  OF  LOAD  DISTRIBUTING  ALGORITHM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tion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ing and maintaining suitable site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n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cei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ques inclu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l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roadcast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data should be collected, from whom and w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policy follows one of three typ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-driven: node collects state information for other nodes only on becoming a sender or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-driven policie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nder-initia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eiver-initia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ymmetrica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iti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odic: exchange of load information at defined interv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-change-driven: with state change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dissemina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lly, “a program in execution” or “the set of operations comprising a computational task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 property of the operations included in a computation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eced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Vivaldi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“a precedes b,” means that all actions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 a must end before any action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 b beg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edence graph mod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35680" y="473076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35680" y="541656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35680" y="610236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93080" y="473076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9560" y="541656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78880" y="541656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9040" y="6026040"/>
            <a:ext cx="29232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5035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5721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775200" y="5035680"/>
            <a:ext cx="39348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461000" y="5645160"/>
            <a:ext cx="39348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7640" y="4959360"/>
            <a:ext cx="44460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8160" y="5645160"/>
            <a:ext cx="44460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30640" y="4726080"/>
            <a:ext cx="37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30640" y="5411880"/>
            <a:ext cx="24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30640" y="6097680"/>
            <a:ext cx="37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8040" y="4726080"/>
            <a:ext cx="37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4880" y="5411880"/>
            <a:ext cx="241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73840" y="5411880"/>
            <a:ext cx="37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6021360"/>
            <a:ext cx="241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 representation of a process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= {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| 1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 } is set of processes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ivaldi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{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| 1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,k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} is a partial order on set 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belongs to </a:t>
            </a:r>
            <a:r>
              <a:rPr b="0" lang="en-US" sz="2000" spc="-1" strike="noStrike">
                <a:solidFill>
                  <a:srgbClr val="000000"/>
                </a:solidFill>
                <a:latin typeface="Vivaldi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f process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terminate before process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init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, </a:t>
            </a:r>
            <a:r>
              <a:rPr b="0" lang="en-US" sz="2000" spc="-1" strike="noStrike">
                <a:solidFill>
                  <a:srgbClr val="000000"/>
                </a:solidFill>
                <a:latin typeface="Vivaldi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, an ordered pair, is described a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u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is describ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ica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the enumeration of all attribute values of that object, giv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e of the objec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some time epoch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ynamica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the process that expresses the present state of the object in terms of its past st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 STATE TRANSITION MOD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he states describing a process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Initiation (origination)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eady (all resources but CPU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Executing (on a CPU)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Blocked (needing resou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reempted (by another process)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er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44560" y="381636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2640" y="4425840"/>
            <a:ext cx="29232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30560" y="442584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82640" y="52642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30560" y="52642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44960" y="381636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9480" y="4044960"/>
            <a:ext cx="59688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35480" y="4032000"/>
            <a:ext cx="596880" cy="46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7560" y="4572000"/>
            <a:ext cx="113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28800" y="4717800"/>
            <a:ext cx="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7560" y="4654440"/>
            <a:ext cx="1130400" cy="6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47307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974960" y="4654440"/>
            <a:ext cx="11556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124080" y="4260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30560" y="426708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42735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38080" y="365076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4560" y="36576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6640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752480" y="41846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8960" y="41911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4197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441440" y="54864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447920" y="532728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54040" y="53341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35480" y="548640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657600" y="532728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422160" y="533412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73560" y="411480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572000" y="395568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336560" y="396252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3811680"/>
            <a:ext cx="18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40280" y="3811680"/>
            <a:ext cx="301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7960" y="4421160"/>
            <a:ext cx="301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684360" y="5030640"/>
            <a:ext cx="301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7960" y="5259240"/>
            <a:ext cx="301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5880" y="4421160"/>
            <a:ext cx="301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5880" y="5259240"/>
            <a:ext cx="301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2040" y="4268880"/>
            <a:ext cx="411192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-directed arcs indicate no state chan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other transitions that might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discrete characterization of time,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arkov mode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ld be deri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intera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xchang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ffect the sharing of a physical 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simplify our understanding of the computational correctn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computations are important in assur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terminis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acy versus quasi- (or weak) determina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ads or lightweight proc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A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640" y="1220760"/>
            <a:ext cx="8226720" cy="59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&gt;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ss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 York"/>
              </a:rPr>
              <a:t>GRAPH REDUCTION ALGORITH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New York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Select a process p, which is neither blocked nor an isolated node and remove all edges.  (Process p has acquired all its requested resources, executed to completion and released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New York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A graph is completely reducible if the first step leads to id = od = 0 for all nodes in the graph (all edges are remov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New York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A graph is irreducible if the graph cannot be reduced by the selection of any process in Step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New York"/>
              </a:rPr>
              <a:t>Deadlock Theorem</a:t>
            </a:r>
            <a:r>
              <a:rPr b="1" lang="en-US" sz="2000" spc="-1" strike="noStrike">
                <a:solidFill>
                  <a:srgbClr val="000000"/>
                </a:solidFill>
                <a:latin typeface="New York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New York"/>
              </a:rPr>
              <a:t> S is a deadlock state iff the reusable resource graph of S is not completely reduc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9T17:47:48Z</dcterms:created>
  <dc:creator>Richard E. Nance</dc:creator>
  <dc:description/>
  <dc:language>en-US</dc:language>
  <cp:lastModifiedBy>K. Todd Stevens</cp:lastModifiedBy>
  <cp:lastPrinted>1998-03-31T09:04:25Z</cp:lastPrinted>
  <dcterms:modified xsi:type="dcterms:W3CDTF">1998-04-03T16:51:45Z</dcterms:modified>
  <cp:revision>25</cp:revision>
  <dc:subject>Advanced Operating Systems</dc:subject>
  <dc:title>CS 5204 Lecture Transparencies</dc:title>
</cp:coreProperties>
</file>