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FFF-56E5-4C56-8BBF-F3F0C738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1B2-EE73-4785-B5E8-15BC50CA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116A-8FAA-4D06-8220-424BB2C4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0AB-A542-43CC-9825-E78B442B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4191-24A5-424A-BC02-2E8279EF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5EB-A249-43F3-9304-7C6600AC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D98-6CF4-4DC0-81A4-F2307BAE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86A-631C-4173-A455-09A4A88A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4A68-38CB-4B84-861A-E6251957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CFCE-FA3E-4FBA-BEF4-502B65F0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FE8-35B5-4F3A-B21B-A3E21F75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0E7-887C-43E8-8639-580C228F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5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6A5E-25FE-4CF0-9C52-595201C0E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5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erfactual Language -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ncer Gro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MDOUBT" descr=""/>
          <p:cNvPicPr/>
          <p:nvPr/>
        </p:nvPicPr>
        <p:blipFill>
          <a:blip r:embed="rId1"/>
          <a:stretch/>
        </p:blipFill>
        <p:spPr>
          <a:xfrm>
            <a:off x="1066680" y="3276720"/>
            <a:ext cx="119376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AMIDEA" descr=""/>
          <p:cNvPicPr/>
          <p:nvPr/>
        </p:nvPicPr>
        <p:blipFill>
          <a:blip r:embed="rId2"/>
          <a:stretch/>
        </p:blipFill>
        <p:spPr>
          <a:xfrm>
            <a:off x="7238880" y="2895480"/>
            <a:ext cx="1181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5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zy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-&gt;B), (B-&gt;C), (A)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-&gt;B), (B-&gt;C), (A)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5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and Closed World Assum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lifting your pencil, use only four straight lines to connect all of the d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200400" y="3429000"/>
            <a:ext cx="2590920" cy="2590920"/>
            <a:chOff x="3200400" y="3429000"/>
            <a:chExt cx="2590920" cy="2590920"/>
          </a:xfrm>
        </p:grpSpPr>
        <p:sp>
          <p:nvSpPr>
            <p:cNvPr id="73" name=""/>
            <p:cNvSpPr/>
            <p:nvPr/>
          </p:nvSpPr>
          <p:spPr>
            <a:xfrm>
              <a:off x="3200400" y="3429000"/>
              <a:ext cx="2590920" cy="259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81280" y="38098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81280" y="4572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81280" y="53341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43400" y="4572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43400" y="53341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43400" y="38098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05520" y="38098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05520" y="4572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5520" y="53341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5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stency Restoration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s on counterfact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ed prio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s settled by position in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5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FL Is N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Variables or assig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design time/run time disti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iled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or Action ori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ethods, encapsulation, data h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xplicit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5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F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Going to the 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5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OOMS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86600" cy="4038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frigerator and the Gr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5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s - “Internet Bo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paradox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5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401652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5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 to the 9 Point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438280" y="2133720"/>
            <a:ext cx="4267440" cy="3962160"/>
            <a:chOff x="2438280" y="2133720"/>
            <a:chExt cx="4267440" cy="3962160"/>
          </a:xfrm>
        </p:grpSpPr>
        <p:sp>
          <p:nvSpPr>
            <p:cNvPr id="97" name=""/>
            <p:cNvSpPr/>
            <p:nvPr/>
          </p:nvSpPr>
          <p:spPr>
            <a:xfrm>
              <a:off x="2438280" y="2133720"/>
              <a:ext cx="4267440" cy="396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7600" y="3276720"/>
              <a:ext cx="295200" cy="295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57600" y="4038480"/>
              <a:ext cx="295200" cy="295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57600" y="4800600"/>
              <a:ext cx="295200" cy="295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9720" y="4038480"/>
              <a:ext cx="295200" cy="295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19720" y="4800600"/>
              <a:ext cx="295200" cy="295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19720" y="3276720"/>
              <a:ext cx="295200" cy="295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81480" y="3276720"/>
              <a:ext cx="295560" cy="295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81480" y="4038480"/>
              <a:ext cx="295560" cy="295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1480" y="4800600"/>
              <a:ext cx="295560" cy="295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809880" y="2590920"/>
              <a:ext cx="2362320" cy="2361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3809880" y="2666880"/>
              <a:ext cx="0" cy="22860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09880" y="2666880"/>
              <a:ext cx="2286000" cy="22860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809880" y="4952880"/>
              <a:ext cx="2286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5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 on Logic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CF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use CF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of CF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5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676520"/>
            <a:ext cx="739152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nkey and the Bana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ANANAS1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103320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spymky" descr=""/>
          <p:cNvPicPr/>
          <p:nvPr/>
        </p:nvPicPr>
        <p:blipFill>
          <a:blip r:embed="rId2"/>
          <a:stretch/>
        </p:blipFill>
        <p:spPr>
          <a:xfrm>
            <a:off x="3429000" y="3200400"/>
            <a:ext cx="11541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5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s and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inference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-&gt;B) &amp;&amp; A =&gt;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|| B) &amp;&amp; not(A) =&gt;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log (Programming Logic) (197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5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OWN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118200" cy="3730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About T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5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F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Components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ledg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e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y Restoration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5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828800"/>
            <a:ext cx="739152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nkey and the Banan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BANANAS1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103320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spymky" descr=""/>
          <p:cNvPicPr/>
          <p:nvPr/>
        </p:nvPicPr>
        <p:blipFill>
          <a:blip r:embed="rId2"/>
          <a:stretch/>
        </p:blipFill>
        <p:spPr>
          <a:xfrm>
            <a:off x="1219320" y="4495680"/>
            <a:ext cx="1154160" cy="1295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24280" y="4876920"/>
            <a:ext cx="1143000" cy="99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0800" y="4876920"/>
            <a:ext cx="1143000" cy="99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5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owledg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ities, not irrefu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5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owledge Ba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erfact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refu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or Impl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Enviro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 Monkeys and Ban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iven by counterfact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0T21:32:37Z</dcterms:created>
  <dc:creator>Spencer Grogin</dc:creator>
  <dc:description/>
  <dc:language>en-US</dc:language>
  <cp:lastModifiedBy>Virginia Tech CS Dept</cp:lastModifiedBy>
  <cp:lastPrinted>1999-04-01T12:11:38Z</cp:lastPrinted>
  <dcterms:modified xsi:type="dcterms:W3CDTF">1999-04-01T18:10:56Z</dcterms:modified>
  <cp:revision>14</cp:revision>
  <dc:subject/>
  <dc:title>Counterfactual Language - CFL</dc:title>
</cp:coreProperties>
</file>