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3A69F94-3BDF-41C8-B0F0-58F9DAF5A1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0"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n west terminates, the input “west?c” fails, causing termination of the repetitive command, and of process 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ss X acts as a single character buffer between west and east.  It permits west to work on production of the next character before east is ready to input the previous o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1199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of obj = model dynamic reality : this is how it is achie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-9360" y="4489560"/>
            <a:ext cx="5754960" cy="2368800"/>
          </a:xfrm>
          <a:custGeom>
            <a:avLst/>
            <a:gdLst/>
            <a:ahLst/>
            <a:rect l="0" t="0" r="r" b="b"/>
            <a:pathLst>
              <a:path w="15986" h="6580">
                <a:moveTo>
                  <a:pt x="0" y="6580"/>
                </a:moveTo>
                <a:lnTo>
                  <a:pt x="0" y="0"/>
                </a:lnTo>
                <a:lnTo>
                  <a:pt x="754" y="13"/>
                </a:lnTo>
                <a:lnTo>
                  <a:pt x="1565" y="39"/>
                </a:lnTo>
                <a:lnTo>
                  <a:pt x="2201" y="92"/>
                </a:lnTo>
                <a:lnTo>
                  <a:pt x="2867" y="158"/>
                </a:lnTo>
                <a:lnTo>
                  <a:pt x="3568" y="238"/>
                </a:lnTo>
                <a:lnTo>
                  <a:pt x="4221" y="344"/>
                </a:lnTo>
                <a:lnTo>
                  <a:pt x="4935" y="463"/>
                </a:lnTo>
                <a:lnTo>
                  <a:pt x="5562" y="586"/>
                </a:lnTo>
                <a:lnTo>
                  <a:pt x="6356" y="772"/>
                </a:lnTo>
                <a:lnTo>
                  <a:pt x="7048" y="957"/>
                </a:lnTo>
                <a:lnTo>
                  <a:pt x="7776" y="1187"/>
                </a:lnTo>
                <a:lnTo>
                  <a:pt x="8324" y="1359"/>
                </a:lnTo>
                <a:lnTo>
                  <a:pt x="9197" y="1694"/>
                </a:lnTo>
                <a:lnTo>
                  <a:pt x="9837" y="1959"/>
                </a:lnTo>
                <a:lnTo>
                  <a:pt x="10834" y="2413"/>
                </a:lnTo>
                <a:lnTo>
                  <a:pt x="11760" y="2921"/>
                </a:lnTo>
                <a:lnTo>
                  <a:pt x="12611" y="3469"/>
                </a:lnTo>
                <a:lnTo>
                  <a:pt x="13436" y="4060"/>
                </a:lnTo>
                <a:lnTo>
                  <a:pt x="14085" y="4581"/>
                </a:lnTo>
                <a:lnTo>
                  <a:pt x="14698" y="5155"/>
                </a:lnTo>
                <a:lnTo>
                  <a:pt x="15174" y="5649"/>
                </a:lnTo>
                <a:lnTo>
                  <a:pt x="15545" y="6090"/>
                </a:lnTo>
                <a:lnTo>
                  <a:pt x="15986" y="6580"/>
                </a:lnTo>
                <a:lnTo>
                  <a:pt x="15915" y="6580"/>
                </a:lnTo>
                <a:lnTo>
                  <a:pt x="0" y="658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3817800"/>
            <a:ext cx="8164800" cy="3019680"/>
          </a:xfrm>
          <a:custGeom>
            <a:avLst/>
            <a:gdLst/>
            <a:ahLst/>
            <a:rect l="0" t="0" r="r" b="b"/>
            <a:pathLst>
              <a:path w="22680" h="8388">
                <a:moveTo>
                  <a:pt x="11988" y="1786"/>
                </a:moveTo>
                <a:lnTo>
                  <a:pt x="10876" y="1469"/>
                </a:lnTo>
                <a:lnTo>
                  <a:pt x="9712" y="1151"/>
                </a:lnTo>
                <a:lnTo>
                  <a:pt x="8508" y="873"/>
                </a:lnTo>
                <a:lnTo>
                  <a:pt x="7475" y="675"/>
                </a:lnTo>
                <a:lnTo>
                  <a:pt x="6324" y="489"/>
                </a:lnTo>
                <a:lnTo>
                  <a:pt x="5239" y="330"/>
                </a:lnTo>
                <a:lnTo>
                  <a:pt x="4220" y="211"/>
                </a:lnTo>
                <a:lnTo>
                  <a:pt x="3294" y="132"/>
                </a:lnTo>
                <a:lnTo>
                  <a:pt x="2209" y="66"/>
                </a:lnTo>
                <a:lnTo>
                  <a:pt x="1085" y="13"/>
                </a:lnTo>
                <a:lnTo>
                  <a:pt x="0" y="0"/>
                </a:lnTo>
                <a:lnTo>
                  <a:pt x="0" y="1213"/>
                </a:lnTo>
                <a:lnTo>
                  <a:pt x="0" y="1522"/>
                </a:lnTo>
                <a:lnTo>
                  <a:pt x="0" y="1213"/>
                </a:lnTo>
                <a:lnTo>
                  <a:pt x="0" y="1508"/>
                </a:lnTo>
                <a:lnTo>
                  <a:pt x="1495" y="1548"/>
                </a:lnTo>
                <a:lnTo>
                  <a:pt x="2672" y="1641"/>
                </a:lnTo>
                <a:lnTo>
                  <a:pt x="3757" y="1760"/>
                </a:lnTo>
                <a:lnTo>
                  <a:pt x="4710" y="1919"/>
                </a:lnTo>
                <a:lnTo>
                  <a:pt x="5623" y="2091"/>
                </a:lnTo>
                <a:lnTo>
                  <a:pt x="6814" y="2382"/>
                </a:lnTo>
                <a:lnTo>
                  <a:pt x="7767" y="2660"/>
                </a:lnTo>
                <a:lnTo>
                  <a:pt x="8693" y="2991"/>
                </a:lnTo>
                <a:lnTo>
                  <a:pt x="9553" y="3295"/>
                </a:lnTo>
                <a:lnTo>
                  <a:pt x="10572" y="3759"/>
                </a:lnTo>
                <a:lnTo>
                  <a:pt x="11525" y="4236"/>
                </a:lnTo>
                <a:lnTo>
                  <a:pt x="12491" y="4832"/>
                </a:lnTo>
                <a:lnTo>
                  <a:pt x="13285" y="5348"/>
                </a:lnTo>
                <a:lnTo>
                  <a:pt x="14053" y="5944"/>
                </a:lnTo>
                <a:lnTo>
                  <a:pt x="14780" y="6605"/>
                </a:lnTo>
                <a:lnTo>
                  <a:pt x="15349" y="7188"/>
                </a:lnTo>
                <a:lnTo>
                  <a:pt x="15932" y="7876"/>
                </a:lnTo>
                <a:lnTo>
                  <a:pt x="16315" y="8388"/>
                </a:lnTo>
                <a:lnTo>
                  <a:pt x="22680" y="8388"/>
                </a:lnTo>
                <a:lnTo>
                  <a:pt x="22389" y="8061"/>
                </a:lnTo>
                <a:lnTo>
                  <a:pt x="21912" y="7532"/>
                </a:lnTo>
                <a:lnTo>
                  <a:pt x="21158" y="6791"/>
                </a:lnTo>
                <a:lnTo>
                  <a:pt x="20364" y="6102"/>
                </a:lnTo>
                <a:lnTo>
                  <a:pt x="19451" y="5388"/>
                </a:lnTo>
                <a:lnTo>
                  <a:pt x="18459" y="4726"/>
                </a:lnTo>
                <a:lnTo>
                  <a:pt x="17466" y="4142"/>
                </a:lnTo>
                <a:lnTo>
                  <a:pt x="16355" y="3534"/>
                </a:lnTo>
                <a:lnTo>
                  <a:pt x="15402" y="3097"/>
                </a:lnTo>
                <a:lnTo>
                  <a:pt x="14251" y="2594"/>
                </a:lnTo>
                <a:lnTo>
                  <a:pt x="13073" y="2157"/>
                </a:lnTo>
                <a:lnTo>
                  <a:pt x="11988" y="1786"/>
                </a:lnTo>
                <a:close/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0" y="3146400"/>
            <a:ext cx="9144360" cy="3691440"/>
          </a:xfrm>
          <a:custGeom>
            <a:avLst/>
            <a:gdLst/>
            <a:ahLst/>
            <a:rect l="0" t="0" r="r" b="b"/>
            <a:pathLst>
              <a:path w="25401" h="10254">
                <a:moveTo>
                  <a:pt x="0" y="0"/>
                </a:moveTo>
                <a:lnTo>
                  <a:pt x="0" y="1495"/>
                </a:lnTo>
                <a:lnTo>
                  <a:pt x="2461" y="1574"/>
                </a:lnTo>
                <a:lnTo>
                  <a:pt x="3559" y="1654"/>
                </a:lnTo>
                <a:lnTo>
                  <a:pt x="4657" y="1760"/>
                </a:lnTo>
                <a:lnTo>
                  <a:pt x="5610" y="1879"/>
                </a:lnTo>
                <a:lnTo>
                  <a:pt x="6787" y="2051"/>
                </a:lnTo>
                <a:lnTo>
                  <a:pt x="7899" y="2249"/>
                </a:lnTo>
                <a:lnTo>
                  <a:pt x="9156" y="2514"/>
                </a:lnTo>
                <a:lnTo>
                  <a:pt x="10294" y="2780"/>
                </a:lnTo>
                <a:lnTo>
                  <a:pt x="11220" y="3031"/>
                </a:lnTo>
                <a:lnTo>
                  <a:pt x="12239" y="3349"/>
                </a:lnTo>
                <a:lnTo>
                  <a:pt x="13245" y="3693"/>
                </a:lnTo>
                <a:lnTo>
                  <a:pt x="14251" y="4077"/>
                </a:lnTo>
                <a:lnTo>
                  <a:pt x="15164" y="4434"/>
                </a:lnTo>
                <a:lnTo>
                  <a:pt x="16156" y="4897"/>
                </a:lnTo>
                <a:lnTo>
                  <a:pt x="17215" y="5440"/>
                </a:lnTo>
                <a:lnTo>
                  <a:pt x="18300" y="6062"/>
                </a:lnTo>
                <a:lnTo>
                  <a:pt x="19199" y="6644"/>
                </a:lnTo>
                <a:lnTo>
                  <a:pt x="19808" y="7068"/>
                </a:lnTo>
                <a:lnTo>
                  <a:pt x="20589" y="7677"/>
                </a:lnTo>
                <a:lnTo>
                  <a:pt x="21277" y="8273"/>
                </a:lnTo>
                <a:lnTo>
                  <a:pt x="21912" y="8895"/>
                </a:lnTo>
                <a:lnTo>
                  <a:pt x="22494" y="9504"/>
                </a:lnTo>
                <a:lnTo>
                  <a:pt x="23103" y="10254"/>
                </a:lnTo>
                <a:lnTo>
                  <a:pt x="25401" y="10254"/>
                </a:lnTo>
                <a:lnTo>
                  <a:pt x="25401" y="5493"/>
                </a:lnTo>
                <a:lnTo>
                  <a:pt x="24611" y="4937"/>
                </a:lnTo>
                <a:lnTo>
                  <a:pt x="23817" y="4500"/>
                </a:lnTo>
                <a:lnTo>
                  <a:pt x="22957" y="4050"/>
                </a:lnTo>
                <a:lnTo>
                  <a:pt x="22190" y="3693"/>
                </a:lnTo>
                <a:lnTo>
                  <a:pt x="21462" y="3402"/>
                </a:lnTo>
                <a:lnTo>
                  <a:pt x="20774" y="3137"/>
                </a:lnTo>
                <a:lnTo>
                  <a:pt x="20046" y="2872"/>
                </a:lnTo>
                <a:lnTo>
                  <a:pt x="19345" y="2647"/>
                </a:lnTo>
                <a:lnTo>
                  <a:pt x="18736" y="2435"/>
                </a:lnTo>
                <a:lnTo>
                  <a:pt x="17612" y="2130"/>
                </a:lnTo>
                <a:lnTo>
                  <a:pt x="16659" y="1866"/>
                </a:lnTo>
                <a:lnTo>
                  <a:pt x="15719" y="1654"/>
                </a:lnTo>
                <a:lnTo>
                  <a:pt x="14476" y="1376"/>
                </a:lnTo>
                <a:lnTo>
                  <a:pt x="13245" y="1151"/>
                </a:lnTo>
                <a:lnTo>
                  <a:pt x="12053" y="939"/>
                </a:lnTo>
                <a:lnTo>
                  <a:pt x="10810" y="754"/>
                </a:lnTo>
                <a:lnTo>
                  <a:pt x="9751" y="608"/>
                </a:lnTo>
                <a:lnTo>
                  <a:pt x="8706" y="476"/>
                </a:lnTo>
                <a:lnTo>
                  <a:pt x="7343" y="357"/>
                </a:lnTo>
                <a:lnTo>
                  <a:pt x="6337" y="264"/>
                </a:lnTo>
                <a:lnTo>
                  <a:pt x="4961" y="158"/>
                </a:lnTo>
                <a:lnTo>
                  <a:pt x="3651" y="92"/>
                </a:lnTo>
                <a:lnTo>
                  <a:pt x="2461" y="52"/>
                </a:lnTo>
                <a:lnTo>
                  <a:pt x="1243" y="13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2460600"/>
            <a:ext cx="9144360" cy="2497320"/>
          </a:xfrm>
          <a:custGeom>
            <a:avLst/>
            <a:gdLst/>
            <a:ahLst/>
            <a:rect l="0" t="0" r="r" b="b"/>
            <a:pathLst>
              <a:path w="25401" h="6937">
                <a:moveTo>
                  <a:pt x="0" y="0"/>
                </a:moveTo>
                <a:lnTo>
                  <a:pt x="0" y="1548"/>
                </a:lnTo>
                <a:lnTo>
                  <a:pt x="1243" y="1575"/>
                </a:lnTo>
                <a:lnTo>
                  <a:pt x="2765" y="1601"/>
                </a:lnTo>
                <a:lnTo>
                  <a:pt x="4234" y="1654"/>
                </a:lnTo>
                <a:lnTo>
                  <a:pt x="5371" y="1734"/>
                </a:lnTo>
                <a:lnTo>
                  <a:pt x="6483" y="1813"/>
                </a:lnTo>
                <a:lnTo>
                  <a:pt x="7700" y="1919"/>
                </a:lnTo>
                <a:lnTo>
                  <a:pt x="8918" y="2038"/>
                </a:lnTo>
                <a:lnTo>
                  <a:pt x="10320" y="2223"/>
                </a:lnTo>
                <a:lnTo>
                  <a:pt x="11749" y="2422"/>
                </a:lnTo>
                <a:lnTo>
                  <a:pt x="13020" y="2634"/>
                </a:lnTo>
                <a:lnTo>
                  <a:pt x="14224" y="2859"/>
                </a:lnTo>
                <a:lnTo>
                  <a:pt x="15495" y="3124"/>
                </a:lnTo>
                <a:lnTo>
                  <a:pt x="16288" y="3309"/>
                </a:lnTo>
                <a:lnTo>
                  <a:pt x="17360" y="3575"/>
                </a:lnTo>
                <a:lnTo>
                  <a:pt x="18061" y="3773"/>
                </a:lnTo>
                <a:lnTo>
                  <a:pt x="18882" y="4011"/>
                </a:lnTo>
                <a:lnTo>
                  <a:pt x="19861" y="4329"/>
                </a:lnTo>
                <a:lnTo>
                  <a:pt x="20747" y="4647"/>
                </a:lnTo>
                <a:lnTo>
                  <a:pt x="21660" y="4991"/>
                </a:lnTo>
                <a:lnTo>
                  <a:pt x="22375" y="5282"/>
                </a:lnTo>
                <a:lnTo>
                  <a:pt x="23182" y="5653"/>
                </a:lnTo>
                <a:lnTo>
                  <a:pt x="24148" y="6182"/>
                </a:lnTo>
                <a:lnTo>
                  <a:pt x="24823" y="6540"/>
                </a:lnTo>
                <a:lnTo>
                  <a:pt x="25401" y="6937"/>
                </a:lnTo>
                <a:lnTo>
                  <a:pt x="25401" y="2793"/>
                </a:lnTo>
                <a:lnTo>
                  <a:pt x="24227" y="2515"/>
                </a:lnTo>
                <a:lnTo>
                  <a:pt x="22997" y="2210"/>
                </a:lnTo>
                <a:lnTo>
                  <a:pt x="21832" y="1959"/>
                </a:lnTo>
                <a:lnTo>
                  <a:pt x="20734" y="1747"/>
                </a:lnTo>
                <a:lnTo>
                  <a:pt x="19517" y="1535"/>
                </a:lnTo>
                <a:lnTo>
                  <a:pt x="18128" y="1297"/>
                </a:lnTo>
                <a:lnTo>
                  <a:pt x="16818" y="1111"/>
                </a:lnTo>
                <a:lnTo>
                  <a:pt x="15653" y="939"/>
                </a:lnTo>
                <a:lnTo>
                  <a:pt x="14383" y="807"/>
                </a:lnTo>
                <a:lnTo>
                  <a:pt x="13298" y="675"/>
                </a:lnTo>
                <a:lnTo>
                  <a:pt x="12159" y="569"/>
                </a:lnTo>
                <a:lnTo>
                  <a:pt x="11114" y="463"/>
                </a:lnTo>
                <a:lnTo>
                  <a:pt x="10148" y="383"/>
                </a:lnTo>
                <a:lnTo>
                  <a:pt x="8878" y="291"/>
                </a:lnTo>
                <a:lnTo>
                  <a:pt x="7634" y="211"/>
                </a:lnTo>
                <a:lnTo>
                  <a:pt x="6721" y="172"/>
                </a:lnTo>
                <a:lnTo>
                  <a:pt x="5557" y="119"/>
                </a:lnTo>
                <a:lnTo>
                  <a:pt x="4260" y="66"/>
                </a:lnTo>
                <a:lnTo>
                  <a:pt x="3149" y="52"/>
                </a:lnTo>
                <a:lnTo>
                  <a:pt x="2249" y="26"/>
                </a:lnTo>
                <a:lnTo>
                  <a:pt x="1071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0" y="1793880"/>
            <a:ext cx="9144360" cy="1540080"/>
          </a:xfrm>
          <a:custGeom>
            <a:avLst/>
            <a:gdLst/>
            <a:ahLst/>
            <a:rect l="0" t="0" r="r" b="b"/>
            <a:pathLst>
              <a:path w="25401" h="4278">
                <a:moveTo>
                  <a:pt x="0" y="0"/>
                </a:moveTo>
                <a:lnTo>
                  <a:pt x="0" y="1496"/>
                </a:lnTo>
                <a:lnTo>
                  <a:pt x="1402" y="1509"/>
                </a:lnTo>
                <a:lnTo>
                  <a:pt x="2606" y="1536"/>
                </a:lnTo>
                <a:lnTo>
                  <a:pt x="3731" y="1562"/>
                </a:lnTo>
                <a:lnTo>
                  <a:pt x="4736" y="1589"/>
                </a:lnTo>
                <a:lnTo>
                  <a:pt x="5795" y="1615"/>
                </a:lnTo>
                <a:lnTo>
                  <a:pt x="7052" y="1681"/>
                </a:lnTo>
                <a:lnTo>
                  <a:pt x="8428" y="1761"/>
                </a:lnTo>
                <a:lnTo>
                  <a:pt x="9883" y="1853"/>
                </a:lnTo>
                <a:lnTo>
                  <a:pt x="11551" y="1999"/>
                </a:lnTo>
                <a:lnTo>
                  <a:pt x="12742" y="2105"/>
                </a:lnTo>
                <a:lnTo>
                  <a:pt x="14013" y="2239"/>
                </a:lnTo>
                <a:lnTo>
                  <a:pt x="15428" y="2397"/>
                </a:lnTo>
                <a:lnTo>
                  <a:pt x="16818" y="2583"/>
                </a:lnTo>
                <a:lnTo>
                  <a:pt x="17837" y="2729"/>
                </a:lnTo>
                <a:lnTo>
                  <a:pt x="19252" y="2954"/>
                </a:lnTo>
                <a:lnTo>
                  <a:pt x="20655" y="3205"/>
                </a:lnTo>
                <a:lnTo>
                  <a:pt x="21965" y="3470"/>
                </a:lnTo>
                <a:lnTo>
                  <a:pt x="23235" y="3735"/>
                </a:lnTo>
                <a:lnTo>
                  <a:pt x="24902" y="4159"/>
                </a:lnTo>
                <a:lnTo>
                  <a:pt x="25401" y="4278"/>
                </a:lnTo>
                <a:lnTo>
                  <a:pt x="25401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-20520"/>
            <a:ext cx="9144360" cy="1683000"/>
          </a:xfrm>
          <a:custGeom>
            <a:avLst/>
            <a:gdLst/>
            <a:ahLst/>
            <a:rect l="0" t="0" r="r" b="b"/>
            <a:pathLst>
              <a:path w="25401" h="4675">
                <a:moveTo>
                  <a:pt x="0" y="3324"/>
                </a:moveTo>
                <a:lnTo>
                  <a:pt x="0" y="4675"/>
                </a:lnTo>
                <a:lnTo>
                  <a:pt x="25401" y="4675"/>
                </a:lnTo>
                <a:lnTo>
                  <a:pt x="25401" y="0"/>
                </a:lnTo>
                <a:lnTo>
                  <a:pt x="23949" y="0"/>
                </a:lnTo>
                <a:lnTo>
                  <a:pt x="23367" y="370"/>
                </a:lnTo>
                <a:lnTo>
                  <a:pt x="22653" y="701"/>
                </a:lnTo>
                <a:lnTo>
                  <a:pt x="21912" y="979"/>
                </a:lnTo>
                <a:lnTo>
                  <a:pt x="21224" y="1178"/>
                </a:lnTo>
                <a:lnTo>
                  <a:pt x="20403" y="1430"/>
                </a:lnTo>
                <a:lnTo>
                  <a:pt x="19583" y="1615"/>
                </a:lnTo>
                <a:lnTo>
                  <a:pt x="18657" y="1827"/>
                </a:lnTo>
                <a:lnTo>
                  <a:pt x="17373" y="2065"/>
                </a:lnTo>
                <a:lnTo>
                  <a:pt x="16368" y="2224"/>
                </a:lnTo>
                <a:lnTo>
                  <a:pt x="15177" y="2397"/>
                </a:lnTo>
                <a:lnTo>
                  <a:pt x="14066" y="2556"/>
                </a:lnTo>
                <a:lnTo>
                  <a:pt x="12901" y="2675"/>
                </a:lnTo>
                <a:lnTo>
                  <a:pt x="11815" y="2794"/>
                </a:lnTo>
                <a:lnTo>
                  <a:pt x="10664" y="2887"/>
                </a:lnTo>
                <a:lnTo>
                  <a:pt x="9447" y="2980"/>
                </a:lnTo>
                <a:lnTo>
                  <a:pt x="8362" y="3059"/>
                </a:lnTo>
                <a:lnTo>
                  <a:pt x="7264" y="3126"/>
                </a:lnTo>
                <a:lnTo>
                  <a:pt x="6192" y="3178"/>
                </a:lnTo>
                <a:lnTo>
                  <a:pt x="5160" y="3231"/>
                </a:lnTo>
                <a:lnTo>
                  <a:pt x="3995" y="3258"/>
                </a:lnTo>
                <a:lnTo>
                  <a:pt x="2355" y="3298"/>
                </a:lnTo>
                <a:lnTo>
                  <a:pt x="886" y="3324"/>
                </a:lnTo>
                <a:lnTo>
                  <a:pt x="0" y="3324"/>
                </a:lnTo>
                <a:close/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-20520"/>
            <a:ext cx="8388720" cy="1068840"/>
          </a:xfrm>
          <a:custGeom>
            <a:avLst/>
            <a:gdLst/>
            <a:ahLst/>
            <a:rect l="0" t="0" r="r" b="b"/>
            <a:pathLst>
              <a:path w="23302" h="2969">
                <a:moveTo>
                  <a:pt x="0" y="1617"/>
                </a:moveTo>
                <a:lnTo>
                  <a:pt x="0" y="2969"/>
                </a:lnTo>
                <a:lnTo>
                  <a:pt x="1336" y="2969"/>
                </a:lnTo>
                <a:lnTo>
                  <a:pt x="3188" y="2929"/>
                </a:lnTo>
                <a:lnTo>
                  <a:pt x="4498" y="2890"/>
                </a:lnTo>
                <a:lnTo>
                  <a:pt x="5742" y="2837"/>
                </a:lnTo>
                <a:lnTo>
                  <a:pt x="6855" y="2784"/>
                </a:lnTo>
                <a:lnTo>
                  <a:pt x="7847" y="2718"/>
                </a:lnTo>
                <a:lnTo>
                  <a:pt x="8654" y="2678"/>
                </a:lnTo>
                <a:lnTo>
                  <a:pt x="9673" y="2598"/>
                </a:lnTo>
                <a:lnTo>
                  <a:pt x="10798" y="2519"/>
                </a:lnTo>
                <a:lnTo>
                  <a:pt x="11909" y="2413"/>
                </a:lnTo>
                <a:lnTo>
                  <a:pt x="12809" y="2333"/>
                </a:lnTo>
                <a:lnTo>
                  <a:pt x="13841" y="2200"/>
                </a:lnTo>
                <a:lnTo>
                  <a:pt x="14661" y="2094"/>
                </a:lnTo>
                <a:lnTo>
                  <a:pt x="15587" y="1975"/>
                </a:lnTo>
                <a:lnTo>
                  <a:pt x="16474" y="1855"/>
                </a:lnTo>
                <a:lnTo>
                  <a:pt x="17347" y="1696"/>
                </a:lnTo>
                <a:lnTo>
                  <a:pt x="18155" y="1551"/>
                </a:lnTo>
                <a:lnTo>
                  <a:pt x="18817" y="1405"/>
                </a:lnTo>
                <a:lnTo>
                  <a:pt x="19611" y="1233"/>
                </a:lnTo>
                <a:lnTo>
                  <a:pt x="20378" y="1047"/>
                </a:lnTo>
                <a:lnTo>
                  <a:pt x="21080" y="848"/>
                </a:lnTo>
                <a:lnTo>
                  <a:pt x="21701" y="649"/>
                </a:lnTo>
                <a:lnTo>
                  <a:pt x="22429" y="397"/>
                </a:lnTo>
                <a:lnTo>
                  <a:pt x="22906" y="185"/>
                </a:lnTo>
                <a:lnTo>
                  <a:pt x="23302" y="0"/>
                </a:lnTo>
                <a:lnTo>
                  <a:pt x="14119" y="0"/>
                </a:lnTo>
                <a:lnTo>
                  <a:pt x="13153" y="251"/>
                </a:lnTo>
                <a:lnTo>
                  <a:pt x="12240" y="476"/>
                </a:lnTo>
                <a:lnTo>
                  <a:pt x="11300" y="662"/>
                </a:lnTo>
                <a:lnTo>
                  <a:pt x="10573" y="809"/>
                </a:lnTo>
                <a:lnTo>
                  <a:pt x="9726" y="941"/>
                </a:lnTo>
                <a:lnTo>
                  <a:pt x="8826" y="1074"/>
                </a:lnTo>
                <a:lnTo>
                  <a:pt x="7834" y="1206"/>
                </a:lnTo>
                <a:lnTo>
                  <a:pt x="6775" y="1312"/>
                </a:lnTo>
                <a:lnTo>
                  <a:pt x="5928" y="1378"/>
                </a:lnTo>
                <a:lnTo>
                  <a:pt x="5001" y="1458"/>
                </a:lnTo>
                <a:lnTo>
                  <a:pt x="4062" y="1511"/>
                </a:lnTo>
                <a:lnTo>
                  <a:pt x="3069" y="1564"/>
                </a:lnTo>
                <a:lnTo>
                  <a:pt x="2209" y="1590"/>
                </a:lnTo>
                <a:lnTo>
                  <a:pt x="1230" y="1617"/>
                </a:lnTo>
                <a:lnTo>
                  <a:pt x="436" y="1630"/>
                </a:lnTo>
                <a:lnTo>
                  <a:pt x="0" y="1617"/>
                </a:lnTo>
                <a:close/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0" y="-20520"/>
            <a:ext cx="4578840" cy="454320"/>
          </a:xfrm>
          <a:custGeom>
            <a:avLst/>
            <a:gdLst/>
            <a:ahLst/>
            <a:rect l="0" t="0" r="r" b="b"/>
            <a:pathLst>
              <a:path w="12719" h="1262">
                <a:moveTo>
                  <a:pt x="0" y="0"/>
                </a:moveTo>
                <a:lnTo>
                  <a:pt x="0" y="1262"/>
                </a:lnTo>
                <a:lnTo>
                  <a:pt x="846" y="1262"/>
                </a:lnTo>
                <a:lnTo>
                  <a:pt x="1693" y="1248"/>
                </a:lnTo>
                <a:lnTo>
                  <a:pt x="2554" y="1222"/>
                </a:lnTo>
                <a:lnTo>
                  <a:pt x="3481" y="1182"/>
                </a:lnTo>
                <a:lnTo>
                  <a:pt x="4407" y="1142"/>
                </a:lnTo>
                <a:lnTo>
                  <a:pt x="5122" y="1089"/>
                </a:lnTo>
                <a:lnTo>
                  <a:pt x="5744" y="1036"/>
                </a:lnTo>
                <a:lnTo>
                  <a:pt x="6432" y="983"/>
                </a:lnTo>
                <a:lnTo>
                  <a:pt x="7345" y="890"/>
                </a:lnTo>
                <a:lnTo>
                  <a:pt x="8788" y="704"/>
                </a:lnTo>
                <a:lnTo>
                  <a:pt x="10152" y="517"/>
                </a:lnTo>
                <a:lnTo>
                  <a:pt x="11488" y="265"/>
                </a:lnTo>
                <a:lnTo>
                  <a:pt x="12719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-9360" y="4489560"/>
            <a:ext cx="5754960" cy="2368800"/>
          </a:xfrm>
          <a:custGeom>
            <a:avLst/>
            <a:gdLst/>
            <a:ahLst/>
            <a:rect l="0" t="0" r="r" b="b"/>
            <a:pathLst>
              <a:path w="15986" h="6580">
                <a:moveTo>
                  <a:pt x="0" y="6580"/>
                </a:moveTo>
                <a:lnTo>
                  <a:pt x="0" y="0"/>
                </a:lnTo>
                <a:lnTo>
                  <a:pt x="754" y="13"/>
                </a:lnTo>
                <a:lnTo>
                  <a:pt x="1565" y="39"/>
                </a:lnTo>
                <a:lnTo>
                  <a:pt x="2201" y="92"/>
                </a:lnTo>
                <a:lnTo>
                  <a:pt x="2867" y="158"/>
                </a:lnTo>
                <a:lnTo>
                  <a:pt x="3568" y="238"/>
                </a:lnTo>
                <a:lnTo>
                  <a:pt x="4221" y="344"/>
                </a:lnTo>
                <a:lnTo>
                  <a:pt x="4935" y="463"/>
                </a:lnTo>
                <a:lnTo>
                  <a:pt x="5562" y="586"/>
                </a:lnTo>
                <a:lnTo>
                  <a:pt x="6356" y="772"/>
                </a:lnTo>
                <a:lnTo>
                  <a:pt x="7048" y="957"/>
                </a:lnTo>
                <a:lnTo>
                  <a:pt x="7776" y="1187"/>
                </a:lnTo>
                <a:lnTo>
                  <a:pt x="8324" y="1359"/>
                </a:lnTo>
                <a:lnTo>
                  <a:pt x="9197" y="1694"/>
                </a:lnTo>
                <a:lnTo>
                  <a:pt x="9837" y="1959"/>
                </a:lnTo>
                <a:lnTo>
                  <a:pt x="10834" y="2413"/>
                </a:lnTo>
                <a:lnTo>
                  <a:pt x="11760" y="2921"/>
                </a:lnTo>
                <a:lnTo>
                  <a:pt x="12611" y="3469"/>
                </a:lnTo>
                <a:lnTo>
                  <a:pt x="13436" y="4060"/>
                </a:lnTo>
                <a:lnTo>
                  <a:pt x="14085" y="4581"/>
                </a:lnTo>
                <a:lnTo>
                  <a:pt x="14698" y="5155"/>
                </a:lnTo>
                <a:lnTo>
                  <a:pt x="15174" y="5649"/>
                </a:lnTo>
                <a:lnTo>
                  <a:pt x="15545" y="6090"/>
                </a:lnTo>
                <a:lnTo>
                  <a:pt x="15986" y="6580"/>
                </a:lnTo>
                <a:lnTo>
                  <a:pt x="15915" y="6580"/>
                </a:lnTo>
                <a:lnTo>
                  <a:pt x="0" y="658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3817800"/>
            <a:ext cx="8164800" cy="3019680"/>
          </a:xfrm>
          <a:custGeom>
            <a:avLst/>
            <a:gdLst/>
            <a:ahLst/>
            <a:rect l="0" t="0" r="r" b="b"/>
            <a:pathLst>
              <a:path w="22680" h="8388">
                <a:moveTo>
                  <a:pt x="11988" y="1786"/>
                </a:moveTo>
                <a:lnTo>
                  <a:pt x="10876" y="1469"/>
                </a:lnTo>
                <a:lnTo>
                  <a:pt x="9712" y="1151"/>
                </a:lnTo>
                <a:lnTo>
                  <a:pt x="8508" y="873"/>
                </a:lnTo>
                <a:lnTo>
                  <a:pt x="7475" y="675"/>
                </a:lnTo>
                <a:lnTo>
                  <a:pt x="6324" y="489"/>
                </a:lnTo>
                <a:lnTo>
                  <a:pt x="5239" y="330"/>
                </a:lnTo>
                <a:lnTo>
                  <a:pt x="4220" y="211"/>
                </a:lnTo>
                <a:lnTo>
                  <a:pt x="3294" y="132"/>
                </a:lnTo>
                <a:lnTo>
                  <a:pt x="2209" y="66"/>
                </a:lnTo>
                <a:lnTo>
                  <a:pt x="1085" y="13"/>
                </a:lnTo>
                <a:lnTo>
                  <a:pt x="0" y="0"/>
                </a:lnTo>
                <a:lnTo>
                  <a:pt x="0" y="1213"/>
                </a:lnTo>
                <a:lnTo>
                  <a:pt x="0" y="1522"/>
                </a:lnTo>
                <a:lnTo>
                  <a:pt x="0" y="1213"/>
                </a:lnTo>
                <a:lnTo>
                  <a:pt x="0" y="1508"/>
                </a:lnTo>
                <a:lnTo>
                  <a:pt x="1495" y="1548"/>
                </a:lnTo>
                <a:lnTo>
                  <a:pt x="2672" y="1641"/>
                </a:lnTo>
                <a:lnTo>
                  <a:pt x="3757" y="1760"/>
                </a:lnTo>
                <a:lnTo>
                  <a:pt x="4710" y="1919"/>
                </a:lnTo>
                <a:lnTo>
                  <a:pt x="5623" y="2091"/>
                </a:lnTo>
                <a:lnTo>
                  <a:pt x="6814" y="2382"/>
                </a:lnTo>
                <a:lnTo>
                  <a:pt x="7767" y="2660"/>
                </a:lnTo>
                <a:lnTo>
                  <a:pt x="8693" y="2991"/>
                </a:lnTo>
                <a:lnTo>
                  <a:pt x="9553" y="3295"/>
                </a:lnTo>
                <a:lnTo>
                  <a:pt x="10572" y="3759"/>
                </a:lnTo>
                <a:lnTo>
                  <a:pt x="11525" y="4236"/>
                </a:lnTo>
                <a:lnTo>
                  <a:pt x="12491" y="4832"/>
                </a:lnTo>
                <a:lnTo>
                  <a:pt x="13285" y="5348"/>
                </a:lnTo>
                <a:lnTo>
                  <a:pt x="14053" y="5944"/>
                </a:lnTo>
                <a:lnTo>
                  <a:pt x="14780" y="6605"/>
                </a:lnTo>
                <a:lnTo>
                  <a:pt x="15349" y="7188"/>
                </a:lnTo>
                <a:lnTo>
                  <a:pt x="15932" y="7876"/>
                </a:lnTo>
                <a:lnTo>
                  <a:pt x="16315" y="8388"/>
                </a:lnTo>
                <a:lnTo>
                  <a:pt x="22680" y="8388"/>
                </a:lnTo>
                <a:lnTo>
                  <a:pt x="22389" y="8061"/>
                </a:lnTo>
                <a:lnTo>
                  <a:pt x="21912" y="7532"/>
                </a:lnTo>
                <a:lnTo>
                  <a:pt x="21158" y="6791"/>
                </a:lnTo>
                <a:lnTo>
                  <a:pt x="20364" y="6102"/>
                </a:lnTo>
                <a:lnTo>
                  <a:pt x="19451" y="5388"/>
                </a:lnTo>
                <a:lnTo>
                  <a:pt x="18459" y="4726"/>
                </a:lnTo>
                <a:lnTo>
                  <a:pt x="17466" y="4142"/>
                </a:lnTo>
                <a:lnTo>
                  <a:pt x="16355" y="3534"/>
                </a:lnTo>
                <a:lnTo>
                  <a:pt x="15402" y="3097"/>
                </a:lnTo>
                <a:lnTo>
                  <a:pt x="14251" y="2594"/>
                </a:lnTo>
                <a:lnTo>
                  <a:pt x="13073" y="2157"/>
                </a:lnTo>
                <a:lnTo>
                  <a:pt x="11988" y="1786"/>
                </a:lnTo>
                <a:close/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146400"/>
            <a:ext cx="9144360" cy="3691440"/>
          </a:xfrm>
          <a:custGeom>
            <a:avLst/>
            <a:gdLst/>
            <a:ahLst/>
            <a:rect l="0" t="0" r="r" b="b"/>
            <a:pathLst>
              <a:path w="25401" h="10254">
                <a:moveTo>
                  <a:pt x="0" y="0"/>
                </a:moveTo>
                <a:lnTo>
                  <a:pt x="0" y="1495"/>
                </a:lnTo>
                <a:lnTo>
                  <a:pt x="2461" y="1574"/>
                </a:lnTo>
                <a:lnTo>
                  <a:pt x="3559" y="1654"/>
                </a:lnTo>
                <a:lnTo>
                  <a:pt x="4657" y="1760"/>
                </a:lnTo>
                <a:lnTo>
                  <a:pt x="5610" y="1879"/>
                </a:lnTo>
                <a:lnTo>
                  <a:pt x="6787" y="2051"/>
                </a:lnTo>
                <a:lnTo>
                  <a:pt x="7899" y="2249"/>
                </a:lnTo>
                <a:lnTo>
                  <a:pt x="9156" y="2514"/>
                </a:lnTo>
                <a:lnTo>
                  <a:pt x="10294" y="2780"/>
                </a:lnTo>
                <a:lnTo>
                  <a:pt x="11220" y="3031"/>
                </a:lnTo>
                <a:lnTo>
                  <a:pt x="12239" y="3349"/>
                </a:lnTo>
                <a:lnTo>
                  <a:pt x="13245" y="3693"/>
                </a:lnTo>
                <a:lnTo>
                  <a:pt x="14251" y="4077"/>
                </a:lnTo>
                <a:lnTo>
                  <a:pt x="15164" y="4434"/>
                </a:lnTo>
                <a:lnTo>
                  <a:pt x="16156" y="4897"/>
                </a:lnTo>
                <a:lnTo>
                  <a:pt x="17215" y="5440"/>
                </a:lnTo>
                <a:lnTo>
                  <a:pt x="18300" y="6062"/>
                </a:lnTo>
                <a:lnTo>
                  <a:pt x="19199" y="6644"/>
                </a:lnTo>
                <a:lnTo>
                  <a:pt x="19808" y="7068"/>
                </a:lnTo>
                <a:lnTo>
                  <a:pt x="20589" y="7677"/>
                </a:lnTo>
                <a:lnTo>
                  <a:pt x="21277" y="8273"/>
                </a:lnTo>
                <a:lnTo>
                  <a:pt x="21912" y="8895"/>
                </a:lnTo>
                <a:lnTo>
                  <a:pt x="22494" y="9504"/>
                </a:lnTo>
                <a:lnTo>
                  <a:pt x="23103" y="10254"/>
                </a:lnTo>
                <a:lnTo>
                  <a:pt x="25401" y="10254"/>
                </a:lnTo>
                <a:lnTo>
                  <a:pt x="25401" y="5493"/>
                </a:lnTo>
                <a:lnTo>
                  <a:pt x="24611" y="4937"/>
                </a:lnTo>
                <a:lnTo>
                  <a:pt x="23817" y="4500"/>
                </a:lnTo>
                <a:lnTo>
                  <a:pt x="22957" y="4050"/>
                </a:lnTo>
                <a:lnTo>
                  <a:pt x="22190" y="3693"/>
                </a:lnTo>
                <a:lnTo>
                  <a:pt x="21462" y="3402"/>
                </a:lnTo>
                <a:lnTo>
                  <a:pt x="20774" y="3137"/>
                </a:lnTo>
                <a:lnTo>
                  <a:pt x="20046" y="2872"/>
                </a:lnTo>
                <a:lnTo>
                  <a:pt x="19345" y="2647"/>
                </a:lnTo>
                <a:lnTo>
                  <a:pt x="18736" y="2435"/>
                </a:lnTo>
                <a:lnTo>
                  <a:pt x="17612" y="2130"/>
                </a:lnTo>
                <a:lnTo>
                  <a:pt x="16659" y="1866"/>
                </a:lnTo>
                <a:lnTo>
                  <a:pt x="15719" y="1654"/>
                </a:lnTo>
                <a:lnTo>
                  <a:pt x="14476" y="1376"/>
                </a:lnTo>
                <a:lnTo>
                  <a:pt x="13245" y="1151"/>
                </a:lnTo>
                <a:lnTo>
                  <a:pt x="12053" y="939"/>
                </a:lnTo>
                <a:lnTo>
                  <a:pt x="10810" y="754"/>
                </a:lnTo>
                <a:lnTo>
                  <a:pt x="9751" y="608"/>
                </a:lnTo>
                <a:lnTo>
                  <a:pt x="8706" y="476"/>
                </a:lnTo>
                <a:lnTo>
                  <a:pt x="7343" y="357"/>
                </a:lnTo>
                <a:lnTo>
                  <a:pt x="6337" y="264"/>
                </a:lnTo>
                <a:lnTo>
                  <a:pt x="4961" y="158"/>
                </a:lnTo>
                <a:lnTo>
                  <a:pt x="3651" y="92"/>
                </a:lnTo>
                <a:lnTo>
                  <a:pt x="2461" y="52"/>
                </a:lnTo>
                <a:lnTo>
                  <a:pt x="1243" y="13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2460600"/>
            <a:ext cx="9144360" cy="2497320"/>
          </a:xfrm>
          <a:custGeom>
            <a:avLst/>
            <a:gdLst/>
            <a:ahLst/>
            <a:rect l="0" t="0" r="r" b="b"/>
            <a:pathLst>
              <a:path w="25401" h="6937">
                <a:moveTo>
                  <a:pt x="0" y="0"/>
                </a:moveTo>
                <a:lnTo>
                  <a:pt x="0" y="1548"/>
                </a:lnTo>
                <a:lnTo>
                  <a:pt x="1243" y="1575"/>
                </a:lnTo>
                <a:lnTo>
                  <a:pt x="2765" y="1601"/>
                </a:lnTo>
                <a:lnTo>
                  <a:pt x="4234" y="1654"/>
                </a:lnTo>
                <a:lnTo>
                  <a:pt x="5371" y="1734"/>
                </a:lnTo>
                <a:lnTo>
                  <a:pt x="6483" y="1813"/>
                </a:lnTo>
                <a:lnTo>
                  <a:pt x="7700" y="1919"/>
                </a:lnTo>
                <a:lnTo>
                  <a:pt x="8918" y="2038"/>
                </a:lnTo>
                <a:lnTo>
                  <a:pt x="10320" y="2223"/>
                </a:lnTo>
                <a:lnTo>
                  <a:pt x="11749" y="2422"/>
                </a:lnTo>
                <a:lnTo>
                  <a:pt x="13020" y="2634"/>
                </a:lnTo>
                <a:lnTo>
                  <a:pt x="14224" y="2859"/>
                </a:lnTo>
                <a:lnTo>
                  <a:pt x="15495" y="3124"/>
                </a:lnTo>
                <a:lnTo>
                  <a:pt x="16288" y="3309"/>
                </a:lnTo>
                <a:lnTo>
                  <a:pt x="17360" y="3575"/>
                </a:lnTo>
                <a:lnTo>
                  <a:pt x="18061" y="3773"/>
                </a:lnTo>
                <a:lnTo>
                  <a:pt x="18882" y="4011"/>
                </a:lnTo>
                <a:lnTo>
                  <a:pt x="19861" y="4329"/>
                </a:lnTo>
                <a:lnTo>
                  <a:pt x="20747" y="4647"/>
                </a:lnTo>
                <a:lnTo>
                  <a:pt x="21660" y="4991"/>
                </a:lnTo>
                <a:lnTo>
                  <a:pt x="22375" y="5282"/>
                </a:lnTo>
                <a:lnTo>
                  <a:pt x="23182" y="5653"/>
                </a:lnTo>
                <a:lnTo>
                  <a:pt x="24148" y="6182"/>
                </a:lnTo>
                <a:lnTo>
                  <a:pt x="24823" y="6540"/>
                </a:lnTo>
                <a:lnTo>
                  <a:pt x="25401" y="6937"/>
                </a:lnTo>
                <a:lnTo>
                  <a:pt x="25401" y="2793"/>
                </a:lnTo>
                <a:lnTo>
                  <a:pt x="24227" y="2515"/>
                </a:lnTo>
                <a:lnTo>
                  <a:pt x="22997" y="2210"/>
                </a:lnTo>
                <a:lnTo>
                  <a:pt x="21832" y="1959"/>
                </a:lnTo>
                <a:lnTo>
                  <a:pt x="20734" y="1747"/>
                </a:lnTo>
                <a:lnTo>
                  <a:pt x="19517" y="1535"/>
                </a:lnTo>
                <a:lnTo>
                  <a:pt x="18128" y="1297"/>
                </a:lnTo>
                <a:lnTo>
                  <a:pt x="16818" y="1111"/>
                </a:lnTo>
                <a:lnTo>
                  <a:pt x="15653" y="939"/>
                </a:lnTo>
                <a:lnTo>
                  <a:pt x="14383" y="807"/>
                </a:lnTo>
                <a:lnTo>
                  <a:pt x="13298" y="675"/>
                </a:lnTo>
                <a:lnTo>
                  <a:pt x="12159" y="569"/>
                </a:lnTo>
                <a:lnTo>
                  <a:pt x="11114" y="463"/>
                </a:lnTo>
                <a:lnTo>
                  <a:pt x="10148" y="383"/>
                </a:lnTo>
                <a:lnTo>
                  <a:pt x="8878" y="291"/>
                </a:lnTo>
                <a:lnTo>
                  <a:pt x="7634" y="211"/>
                </a:lnTo>
                <a:lnTo>
                  <a:pt x="6721" y="172"/>
                </a:lnTo>
                <a:lnTo>
                  <a:pt x="5557" y="119"/>
                </a:lnTo>
                <a:lnTo>
                  <a:pt x="4260" y="66"/>
                </a:lnTo>
                <a:lnTo>
                  <a:pt x="3149" y="52"/>
                </a:lnTo>
                <a:lnTo>
                  <a:pt x="2249" y="26"/>
                </a:lnTo>
                <a:lnTo>
                  <a:pt x="1071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1793880"/>
            <a:ext cx="9144360" cy="1540080"/>
          </a:xfrm>
          <a:custGeom>
            <a:avLst/>
            <a:gdLst/>
            <a:ahLst/>
            <a:rect l="0" t="0" r="r" b="b"/>
            <a:pathLst>
              <a:path w="25401" h="4278">
                <a:moveTo>
                  <a:pt x="0" y="0"/>
                </a:moveTo>
                <a:lnTo>
                  <a:pt x="0" y="1496"/>
                </a:lnTo>
                <a:lnTo>
                  <a:pt x="1402" y="1509"/>
                </a:lnTo>
                <a:lnTo>
                  <a:pt x="2606" y="1536"/>
                </a:lnTo>
                <a:lnTo>
                  <a:pt x="3731" y="1562"/>
                </a:lnTo>
                <a:lnTo>
                  <a:pt x="4736" y="1589"/>
                </a:lnTo>
                <a:lnTo>
                  <a:pt x="5795" y="1615"/>
                </a:lnTo>
                <a:lnTo>
                  <a:pt x="7052" y="1681"/>
                </a:lnTo>
                <a:lnTo>
                  <a:pt x="8428" y="1761"/>
                </a:lnTo>
                <a:lnTo>
                  <a:pt x="9883" y="1853"/>
                </a:lnTo>
                <a:lnTo>
                  <a:pt x="11551" y="1999"/>
                </a:lnTo>
                <a:lnTo>
                  <a:pt x="12742" y="2105"/>
                </a:lnTo>
                <a:lnTo>
                  <a:pt x="14013" y="2239"/>
                </a:lnTo>
                <a:lnTo>
                  <a:pt x="15428" y="2397"/>
                </a:lnTo>
                <a:lnTo>
                  <a:pt x="16818" y="2583"/>
                </a:lnTo>
                <a:lnTo>
                  <a:pt x="17837" y="2729"/>
                </a:lnTo>
                <a:lnTo>
                  <a:pt x="19252" y="2954"/>
                </a:lnTo>
                <a:lnTo>
                  <a:pt x="20655" y="3205"/>
                </a:lnTo>
                <a:lnTo>
                  <a:pt x="21965" y="3470"/>
                </a:lnTo>
                <a:lnTo>
                  <a:pt x="23235" y="3735"/>
                </a:lnTo>
                <a:lnTo>
                  <a:pt x="24902" y="4159"/>
                </a:lnTo>
                <a:lnTo>
                  <a:pt x="25401" y="4278"/>
                </a:lnTo>
                <a:lnTo>
                  <a:pt x="25401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-20520"/>
            <a:ext cx="9144360" cy="1683000"/>
          </a:xfrm>
          <a:custGeom>
            <a:avLst/>
            <a:gdLst/>
            <a:ahLst/>
            <a:rect l="0" t="0" r="r" b="b"/>
            <a:pathLst>
              <a:path w="25401" h="4675">
                <a:moveTo>
                  <a:pt x="0" y="3324"/>
                </a:moveTo>
                <a:lnTo>
                  <a:pt x="0" y="4675"/>
                </a:lnTo>
                <a:lnTo>
                  <a:pt x="25401" y="4675"/>
                </a:lnTo>
                <a:lnTo>
                  <a:pt x="25401" y="0"/>
                </a:lnTo>
                <a:lnTo>
                  <a:pt x="23949" y="0"/>
                </a:lnTo>
                <a:lnTo>
                  <a:pt x="23367" y="370"/>
                </a:lnTo>
                <a:lnTo>
                  <a:pt x="22653" y="701"/>
                </a:lnTo>
                <a:lnTo>
                  <a:pt x="21912" y="979"/>
                </a:lnTo>
                <a:lnTo>
                  <a:pt x="21224" y="1178"/>
                </a:lnTo>
                <a:lnTo>
                  <a:pt x="20403" y="1430"/>
                </a:lnTo>
                <a:lnTo>
                  <a:pt x="19583" y="1615"/>
                </a:lnTo>
                <a:lnTo>
                  <a:pt x="18657" y="1827"/>
                </a:lnTo>
                <a:lnTo>
                  <a:pt x="17373" y="2065"/>
                </a:lnTo>
                <a:lnTo>
                  <a:pt x="16368" y="2224"/>
                </a:lnTo>
                <a:lnTo>
                  <a:pt x="15177" y="2397"/>
                </a:lnTo>
                <a:lnTo>
                  <a:pt x="14066" y="2556"/>
                </a:lnTo>
                <a:lnTo>
                  <a:pt x="12901" y="2675"/>
                </a:lnTo>
                <a:lnTo>
                  <a:pt x="11815" y="2794"/>
                </a:lnTo>
                <a:lnTo>
                  <a:pt x="10664" y="2887"/>
                </a:lnTo>
                <a:lnTo>
                  <a:pt x="9447" y="2980"/>
                </a:lnTo>
                <a:lnTo>
                  <a:pt x="8362" y="3059"/>
                </a:lnTo>
                <a:lnTo>
                  <a:pt x="7264" y="3126"/>
                </a:lnTo>
                <a:lnTo>
                  <a:pt x="6192" y="3178"/>
                </a:lnTo>
                <a:lnTo>
                  <a:pt x="5160" y="3231"/>
                </a:lnTo>
                <a:lnTo>
                  <a:pt x="3995" y="3258"/>
                </a:lnTo>
                <a:lnTo>
                  <a:pt x="2355" y="3298"/>
                </a:lnTo>
                <a:lnTo>
                  <a:pt x="886" y="3324"/>
                </a:lnTo>
                <a:lnTo>
                  <a:pt x="0" y="3324"/>
                </a:lnTo>
                <a:close/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-20520"/>
            <a:ext cx="8388720" cy="1068840"/>
          </a:xfrm>
          <a:custGeom>
            <a:avLst/>
            <a:gdLst/>
            <a:ahLst/>
            <a:rect l="0" t="0" r="r" b="b"/>
            <a:pathLst>
              <a:path w="23302" h="2969">
                <a:moveTo>
                  <a:pt x="0" y="1617"/>
                </a:moveTo>
                <a:lnTo>
                  <a:pt x="0" y="2969"/>
                </a:lnTo>
                <a:lnTo>
                  <a:pt x="1336" y="2969"/>
                </a:lnTo>
                <a:lnTo>
                  <a:pt x="3188" y="2929"/>
                </a:lnTo>
                <a:lnTo>
                  <a:pt x="4498" y="2890"/>
                </a:lnTo>
                <a:lnTo>
                  <a:pt x="5742" y="2837"/>
                </a:lnTo>
                <a:lnTo>
                  <a:pt x="6855" y="2784"/>
                </a:lnTo>
                <a:lnTo>
                  <a:pt x="7847" y="2718"/>
                </a:lnTo>
                <a:lnTo>
                  <a:pt x="8654" y="2678"/>
                </a:lnTo>
                <a:lnTo>
                  <a:pt x="9673" y="2598"/>
                </a:lnTo>
                <a:lnTo>
                  <a:pt x="10798" y="2519"/>
                </a:lnTo>
                <a:lnTo>
                  <a:pt x="11909" y="2413"/>
                </a:lnTo>
                <a:lnTo>
                  <a:pt x="12809" y="2333"/>
                </a:lnTo>
                <a:lnTo>
                  <a:pt x="13841" y="2200"/>
                </a:lnTo>
                <a:lnTo>
                  <a:pt x="14661" y="2094"/>
                </a:lnTo>
                <a:lnTo>
                  <a:pt x="15587" y="1975"/>
                </a:lnTo>
                <a:lnTo>
                  <a:pt x="16474" y="1855"/>
                </a:lnTo>
                <a:lnTo>
                  <a:pt x="17347" y="1696"/>
                </a:lnTo>
                <a:lnTo>
                  <a:pt x="18155" y="1551"/>
                </a:lnTo>
                <a:lnTo>
                  <a:pt x="18817" y="1405"/>
                </a:lnTo>
                <a:lnTo>
                  <a:pt x="19611" y="1233"/>
                </a:lnTo>
                <a:lnTo>
                  <a:pt x="20378" y="1047"/>
                </a:lnTo>
                <a:lnTo>
                  <a:pt x="21080" y="848"/>
                </a:lnTo>
                <a:lnTo>
                  <a:pt x="21701" y="649"/>
                </a:lnTo>
                <a:lnTo>
                  <a:pt x="22429" y="397"/>
                </a:lnTo>
                <a:lnTo>
                  <a:pt x="22906" y="185"/>
                </a:lnTo>
                <a:lnTo>
                  <a:pt x="23302" y="0"/>
                </a:lnTo>
                <a:lnTo>
                  <a:pt x="14119" y="0"/>
                </a:lnTo>
                <a:lnTo>
                  <a:pt x="13153" y="251"/>
                </a:lnTo>
                <a:lnTo>
                  <a:pt x="12240" y="476"/>
                </a:lnTo>
                <a:lnTo>
                  <a:pt x="11300" y="662"/>
                </a:lnTo>
                <a:lnTo>
                  <a:pt x="10573" y="809"/>
                </a:lnTo>
                <a:lnTo>
                  <a:pt x="9726" y="941"/>
                </a:lnTo>
                <a:lnTo>
                  <a:pt x="8826" y="1074"/>
                </a:lnTo>
                <a:lnTo>
                  <a:pt x="7834" y="1206"/>
                </a:lnTo>
                <a:lnTo>
                  <a:pt x="6775" y="1312"/>
                </a:lnTo>
                <a:lnTo>
                  <a:pt x="5928" y="1378"/>
                </a:lnTo>
                <a:lnTo>
                  <a:pt x="5001" y="1458"/>
                </a:lnTo>
                <a:lnTo>
                  <a:pt x="4062" y="1511"/>
                </a:lnTo>
                <a:lnTo>
                  <a:pt x="3069" y="1564"/>
                </a:lnTo>
                <a:lnTo>
                  <a:pt x="2209" y="1590"/>
                </a:lnTo>
                <a:lnTo>
                  <a:pt x="1230" y="1617"/>
                </a:lnTo>
                <a:lnTo>
                  <a:pt x="436" y="1630"/>
                </a:lnTo>
                <a:lnTo>
                  <a:pt x="0" y="1617"/>
                </a:lnTo>
                <a:close/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-20520"/>
            <a:ext cx="4578840" cy="454320"/>
          </a:xfrm>
          <a:custGeom>
            <a:avLst/>
            <a:gdLst/>
            <a:ahLst/>
            <a:rect l="0" t="0" r="r" b="b"/>
            <a:pathLst>
              <a:path w="12719" h="1262">
                <a:moveTo>
                  <a:pt x="0" y="0"/>
                </a:moveTo>
                <a:lnTo>
                  <a:pt x="0" y="1262"/>
                </a:lnTo>
                <a:lnTo>
                  <a:pt x="846" y="1262"/>
                </a:lnTo>
                <a:lnTo>
                  <a:pt x="1693" y="1248"/>
                </a:lnTo>
                <a:lnTo>
                  <a:pt x="2554" y="1222"/>
                </a:lnTo>
                <a:lnTo>
                  <a:pt x="3481" y="1182"/>
                </a:lnTo>
                <a:lnTo>
                  <a:pt x="4407" y="1142"/>
                </a:lnTo>
                <a:lnTo>
                  <a:pt x="5122" y="1089"/>
                </a:lnTo>
                <a:lnTo>
                  <a:pt x="5744" y="1036"/>
                </a:lnTo>
                <a:lnTo>
                  <a:pt x="6432" y="983"/>
                </a:lnTo>
                <a:lnTo>
                  <a:pt x="7345" y="890"/>
                </a:lnTo>
                <a:lnTo>
                  <a:pt x="8788" y="704"/>
                </a:lnTo>
                <a:lnTo>
                  <a:pt x="10152" y="517"/>
                </a:lnTo>
                <a:lnTo>
                  <a:pt x="11488" y="265"/>
                </a:lnTo>
                <a:lnTo>
                  <a:pt x="12719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685800" y="10666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Communicating Sequential Proces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371600" y="2666880"/>
            <a:ext cx="640080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y: C.A.R. Ho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sented By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lenn Rio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ristina Van Met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85800" y="205740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py process/simple buff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py synta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 algn="ctr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::*[c:character;west?c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®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st!c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762120" y="3733920"/>
            <a:ext cx="7696080" cy="192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57200"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SASSEM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SEM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1828800" y="5410080"/>
            <a:ext cx="5867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[west::DISASSEMBLE||X::COPY||east::ASSEMBLE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Criticis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quires explicit nam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es not perform message buffe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adability issues regarding single-character not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grammer needs to be cautio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 a complete 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Conclu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del dynamic re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mple, generic solution which achieves parallel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SP parallel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blems/criticis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68580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Any 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Background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t began in 196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ster, more powerful compu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ressed by Edinburgh Multiple Access System and Simula-6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rted work in 1975 -- published in 197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panded into an algebra in 198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Concurrenc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dels re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wo ty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-proces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rallel-proces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al-World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lculation Intensive - Computational Bi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stributed - 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CSP 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del dynamic re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elop simple, generic solution to achieve parallel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pport parallel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vide synchronization techniq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ster, more powerful computers by interconnecting slower, less powerful 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685800" y="609480"/>
            <a:ext cx="678168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Focus: Support for Parallel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914400" y="236232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pport for Nondeterminis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pport for Concurr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munication through message pass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6400800" y="457200"/>
            <a:ext cx="248616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Nondetermin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roduced and controlled using guarded commands (See notes, ch7 slide 12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valuates all boolean expres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f all false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Þ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ex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f any true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Þ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rbitrarily select one to execut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tituents are executed from left to r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Concurrency in CS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685800" y="175248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rallel command based on parbeg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 processes start simultaneous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rallel command ends only when all are finish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not communicate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global vari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5027760" y="4113360"/>
            <a:ext cx="2895480" cy="18525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5027760" y="4113360"/>
            <a:ext cx="2905200" cy="18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Message Pass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04920" y="1981080"/>
            <a:ext cx="34290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nchrono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oth processes must be ready to commun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ple access situ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ndeterminis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tually exclus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3886200" y="1774800"/>
            <a:ext cx="5030640" cy="479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Other Synchronization Metho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maphores (Dijkstr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vents (PL/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ditional critical regions (Hoar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ializers (Hewett + Atkins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nitors and queues (Concurrent Pasc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th Expressions (Campbell + Haberman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peon</dc:creator>
  <dc:description/>
  <dc:language>en-US</dc:language>
  <cp:lastModifiedBy>peon</cp:lastModifiedBy>
  <cp:revision>0</cp:revision>
  <dc:subject/>
  <dc:title>Communicating Sequential Processes</dc:title>
</cp:coreProperties>
</file>