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8CB-2526-4684-80FD-5FD0F849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F65-EA08-43BC-B558-6ABC07F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FC7-B94F-477F-B33C-A056F299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E48-A081-4273-B054-E8B08851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7064-1457-4123-B825-D9147CC7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62B-8C0A-4462-B718-2A20133C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1633-FCCB-4213-BDC7-64EA0A05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911-C1DF-4F56-8CF6-1CAA6A5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1A3-E995-491D-8211-9F05A5E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4F2-BCD4-4145-8975-0270A6E9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6A4D-501E-4E5B-BA98-CAC9C10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C00-BA3D-4F6A-ACAB-51F94020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DEA-8EDA-47E2-99F5-7E764D9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298B-6AB8-442E-A68F-3F40EE5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F335-FCFD-4112-9286-FCFEB49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98A-F02E-4E82-A342-954D98B1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7128-BF32-4888-9FA5-7D354E59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4DA-AFFC-4D0F-AE20-2741107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4EF-FE68-421B-98D8-990C0669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4C2-A287-40CC-9807-CFCE87EE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982-A122-4D90-82C5-54D917A8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9F5-82E1-4C26-842C-141A764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447-BA81-4C10-BE35-E4DEA5B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E7E-DA14-44A1-BBB8-0FF3D4D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236-E77E-4155-B6CD-7EA03F95A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786E-FE23-4EFF-B282-02590BED7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DELPHI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nted By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shi Bhus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vid Wat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y Us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plify Co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and Click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y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use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intain Look and Fe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Easy to Use/Reus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s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to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eve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 Component as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otepad Exampl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sample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368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ustom Component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sually manage an Ob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tend current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capsulate AP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Multi-Tier Applica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-T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andalon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-T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Client/Server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-Tier (three-tier or n-ti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cess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wo-Tier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2tier" descr=""/>
          <p:cNvPicPr/>
          <p:nvPr/>
        </p:nvPicPr>
        <p:blipFill>
          <a:blip r:embed="rId1"/>
          <a:stretch/>
        </p:blipFill>
        <p:spPr>
          <a:xfrm>
            <a:off x="174600" y="1906560"/>
            <a:ext cx="87631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ree-Tier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3tier" descr=""/>
          <p:cNvPicPr/>
          <p:nvPr/>
        </p:nvPicPr>
        <p:blipFill>
          <a:blip r:embed="rId1"/>
          <a:stretch/>
        </p:blipFill>
        <p:spPr>
          <a:xfrm>
            <a:off x="1430280" y="1717560"/>
            <a:ext cx="62388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Multi-Ti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lti-tier Distributed Application Services Suite (MIDA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midas" descr=""/>
          <p:cNvPicPr/>
          <p:nvPr/>
        </p:nvPicPr>
        <p:blipFill>
          <a:blip r:embed="rId1"/>
          <a:stretch/>
        </p:blipFill>
        <p:spPr>
          <a:xfrm>
            <a:off x="966960" y="1662120"/>
            <a:ext cx="7315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y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Reu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-Tiered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languages are DELPHI based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as DELPHI cre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ynamic Array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 for DCOM and CORBA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the Gartner Group, 40% of white-collar workers will be location-independent or mobile by the year 200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125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ar 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risons to C+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ascal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phi source code is Pas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 Pas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Visual Basic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sual 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onent Ba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/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imilarities to C++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ynamic Binding (virtual functio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tract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Differences from C++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 / Temp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 Referenc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mor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ple to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or Multi-Tiered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omponent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/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7T18:24:47Z</dcterms:created>
  <dc:creator>David Watkins</dc:creator>
  <dc:description/>
  <dc:language>en-US</dc:language>
  <cp:lastModifiedBy>David Watkins</cp:lastModifiedBy>
  <dcterms:modified xsi:type="dcterms:W3CDTF">1999-03-16T17:47:37Z</dcterms:modified>
  <cp:revision>9</cp:revision>
  <dc:subject/>
  <dc:title>DELPHI</dc:title>
</cp:coreProperties>
</file>