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-46080" bIns="-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itor Ca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pt outside of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up monitor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ked every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B029-3F51-4132-9BD4-37734BD46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A195-809E-43D5-B2AC-1A41604D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1E97-3AE4-4A33-BC7F-03ED5CE9E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4926-33F3-4977-B0D8-EB3F41B0C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D308-C0B6-4BB0-9E23-A233CA33D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B8AF2-59E0-43F1-9355-0AC7F961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77578-70A0-464F-9720-E6C0A012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FE49-C160-4ACD-9C7B-69789F1B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B55B-F41A-4B87-AD26-8CB8621D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04EE-651D-4A53-AD3B-3C6956A2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EB54-42B5-45B5-9B6D-8AD4F3C7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F13C-E687-4987-B573-20C6BE9E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C260-4469-436E-99E3-FE4CDC0A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850FE-EF91-4599-8A91-E4FDE88A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3F5C-67A2-492F-AC89-0C0DED15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71A8-CA0D-4F51-8BBB-D874D33C7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23563-9375-4C9F-A03B-B0787BA66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6975-E211-4B2F-BD50-30707E5F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8376-34B9-46FF-B0F0-0A9EDFB9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0904-D467-426D-9158-21F64A4B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77ED-3A6F-4EF4-BF67-21DE0E0F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E0DA-EA22-4FF9-8000-56496628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3247-EB3E-4306-A38E-4E781ADA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EA04-3B48-4CB0-BE85-D6B1D44D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7469-767C-4A2A-9B17-C1015BAF01E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5F87-29FB-483C-9C94-B3A016681AE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in Locks: Featherweight Synchronization for Jav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7712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uthors: D.F. Bacon, R. Konru, C. Murthy, and M. Serran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roup Members: Shashi Bhushan, Glenn Rioux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hristina Van Metre, David Watki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Goals of Thin Lock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vide low overhead for single-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readed progra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vide excellent performance for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ulti-threaded progra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Java Objec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8288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71800" y="2819520"/>
            <a:ext cx="3200400" cy="53316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2286000"/>
            <a:ext cx="3200400" cy="53352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71800" y="3962520"/>
            <a:ext cx="3200400" cy="236196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2362320"/>
            <a:ext cx="2666880" cy="426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ffffcc"/>
                </a:solidFill>
                <a:latin typeface="Times New Roman"/>
              </a:rPr>
              <a:t>st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Wor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2895480"/>
            <a:ext cx="2666880" cy="426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ffffcc"/>
                </a:solidFill>
                <a:latin typeface="Times New Roman"/>
              </a:rPr>
              <a:t>nd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Wor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971800" y="3352680"/>
            <a:ext cx="3200400" cy="533520"/>
            <a:chOff x="2971800" y="3352680"/>
            <a:chExt cx="3200400" cy="533520"/>
          </a:xfrm>
        </p:grpSpPr>
        <p:sp>
          <p:nvSpPr>
            <p:cNvPr id="126" name=""/>
            <p:cNvSpPr/>
            <p:nvPr/>
          </p:nvSpPr>
          <p:spPr>
            <a:xfrm>
              <a:off x="2971800" y="3352680"/>
              <a:ext cx="3200400" cy="533520"/>
            </a:xfrm>
            <a:prstGeom prst="rect">
              <a:avLst/>
            </a:prstGeom>
            <a:solidFill>
              <a:srgbClr val="00008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76720" y="3429000"/>
              <a:ext cx="2666880" cy="4269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3</a:t>
              </a:r>
              <a:r>
                <a:rPr b="1" lang="en-US" sz="2800" spc="-1" strike="noStrike" baseline="30000">
                  <a:solidFill>
                    <a:srgbClr val="ffffcc"/>
                  </a:solidFill>
                  <a:latin typeface="Times New Roman"/>
                </a:rPr>
                <a:t>rd</a:t>
              </a: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 Word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3200400" y="4572000"/>
            <a:ext cx="2666880" cy="549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Dat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90920" y="2286000"/>
            <a:ext cx="304560" cy="1600200"/>
          </a:xfrm>
          <a:custGeom>
            <a:avLst/>
            <a:gdLst>
              <a:gd name="textAreaLeft" fmla="*/ 194760 w 304560"/>
              <a:gd name="textAreaRight" fmla="*/ 304920 w 30456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28954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Head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048120" y="3429000"/>
            <a:ext cx="3116160" cy="360360"/>
            <a:chOff x="3048120" y="3429000"/>
            <a:chExt cx="3116160" cy="360360"/>
          </a:xfrm>
        </p:grpSpPr>
        <p:sp>
          <p:nvSpPr>
            <p:cNvPr id="132" name=""/>
            <p:cNvSpPr/>
            <p:nvPr/>
          </p:nvSpPr>
          <p:spPr>
            <a:xfrm>
              <a:off x="5410080" y="3470400"/>
              <a:ext cx="754200" cy="318960"/>
            </a:xfrm>
            <a:prstGeom prst="rect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Times New Roman"/>
                </a:rPr>
                <a:t>3</a:t>
              </a:r>
              <a:r>
                <a:rPr b="1" lang="en-US" sz="1400" spc="-1" strike="noStrike" baseline="30000">
                  <a:solidFill>
                    <a:srgbClr val="ffffcc"/>
                  </a:solidFill>
                  <a:latin typeface="Times New Roman"/>
                </a:rPr>
                <a:t>rd</a:t>
              </a:r>
              <a:r>
                <a:rPr b="1" lang="en-US" sz="1400" spc="-1" strike="noStrike">
                  <a:solidFill>
                    <a:srgbClr val="ffffcc"/>
                  </a:solidFill>
                  <a:latin typeface="Times New Roman"/>
                </a:rPr>
                <a:t> Word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48120" y="3429000"/>
              <a:ext cx="2286000" cy="358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ock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tates of Lock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n Lo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lnSpc>
                <a:spcPct val="12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For objects not subject to contention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lnSpc>
                <a:spcPct val="12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For objects not locked to excessive depths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flated Lock (Fat Lock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lnSpc>
                <a:spcPct val="12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For object that are subject to contention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lnSpc>
                <a:spcPct val="12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For anything that uses wait( ), notify( ), notifyAll( )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in Lock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0800000">
            <a:off x="685800" y="182808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371240" y="2666880"/>
            <a:ext cx="4838760" cy="838440"/>
            <a:chOff x="1371240" y="2666880"/>
            <a:chExt cx="4838760" cy="838440"/>
          </a:xfrm>
        </p:grpSpPr>
        <p:sp>
          <p:nvSpPr>
            <p:cNvPr id="139" name=""/>
            <p:cNvSpPr/>
            <p:nvPr/>
          </p:nvSpPr>
          <p:spPr>
            <a:xfrm rot="5400000">
              <a:off x="3600000" y="894960"/>
              <a:ext cx="381240" cy="4838760"/>
            </a:xfrm>
            <a:custGeom>
              <a:avLst/>
              <a:gdLst>
                <a:gd name="textAreaLeft" fmla="*/ 243720 w 381240"/>
                <a:gd name="textAreaRight" fmla="*/ 381600 w 381240"/>
                <a:gd name="textAreaTop" fmla="*/ 126000 h 4838760"/>
                <a:gd name="textAreaBottom" fmla="*/ 4712760 h 483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19520" y="266688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Lock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943600" y="2743200"/>
            <a:ext cx="1981080" cy="762120"/>
            <a:chOff x="5943600" y="2743200"/>
            <a:chExt cx="1981080" cy="762120"/>
          </a:xfrm>
        </p:grpSpPr>
        <p:sp>
          <p:nvSpPr>
            <p:cNvPr id="142" name=""/>
            <p:cNvSpPr/>
            <p:nvPr/>
          </p:nvSpPr>
          <p:spPr>
            <a:xfrm rot="5400000">
              <a:off x="6876720" y="2647800"/>
              <a:ext cx="304920" cy="140976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7080 h 1409760"/>
                <a:gd name="textAreaBottom" fmla="*/ 1372680 h 140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12"/>
                    <a:pt x="10800" y="1824"/>
                  </a:cubicBezTo>
                  <a:lnTo>
                    <a:pt x="10800" y="9438"/>
                  </a:lnTo>
                  <a:cubicBezTo>
                    <a:pt x="10800" y="10350"/>
                    <a:pt x="5400" y="11262"/>
                    <a:pt x="0" y="11262"/>
                  </a:cubicBezTo>
                  <a:cubicBezTo>
                    <a:pt x="5400" y="11262"/>
                    <a:pt x="10800" y="12174"/>
                    <a:pt x="10800" y="13086"/>
                  </a:cubicBezTo>
                  <a:lnTo>
                    <a:pt x="10800" y="19776"/>
                  </a:lnTo>
                  <a:cubicBezTo>
                    <a:pt x="10800" y="20688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43600" y="274320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3</a:t>
              </a:r>
              <a:r>
                <a:rPr b="1" lang="en-US" sz="2800" spc="-1" strike="noStrike" baseline="30000">
                  <a:solidFill>
                    <a:srgbClr val="ffffcc"/>
                  </a:solidFill>
                  <a:latin typeface="Times New Roman"/>
                </a:rPr>
                <a:t>rd</a:t>
              </a: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 Word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2133720" y="2057400"/>
            <a:ext cx="3990960" cy="330120"/>
          </a:xfrm>
          <a:noFill/>
          <a:ln w="12600">
            <a:solidFill>
              <a:srgbClr val="ffff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Monitor Shape Bit = 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3581280"/>
            <a:ext cx="6400800" cy="12193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48520" y="3581280"/>
            <a:ext cx="1523880" cy="1219320"/>
          </a:xfrm>
          <a:prstGeom prst="rect">
            <a:avLst/>
          </a:prstGeom>
          <a:solidFill>
            <a:srgbClr val="c0c0c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1600200" cy="1219320"/>
          </a:xfrm>
          <a:prstGeom prst="rect">
            <a:avLst/>
          </a:prstGeom>
          <a:solidFill>
            <a:srgbClr val="99009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3581280"/>
            <a:ext cx="3048120" cy="121932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57400" y="38862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hread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I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0600" y="38862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ou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133720" y="4800600"/>
            <a:ext cx="4572000" cy="1676520"/>
            <a:chOff x="2133720" y="4800600"/>
            <a:chExt cx="4572000" cy="1676520"/>
          </a:xfrm>
        </p:grpSpPr>
        <p:sp>
          <p:nvSpPr>
            <p:cNvPr id="152" name=""/>
            <p:cNvSpPr/>
            <p:nvPr/>
          </p:nvSpPr>
          <p:spPr>
            <a:xfrm>
              <a:off x="3276720" y="5105520"/>
              <a:ext cx="3429000" cy="1371600"/>
            </a:xfrm>
            <a:prstGeom prst="rect">
              <a:avLst/>
            </a:prstGeom>
            <a:solidFill>
              <a:srgbClr val="00008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33720" y="4800600"/>
              <a:ext cx="0" cy="10666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33720" y="5867280"/>
              <a:ext cx="11430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352680" y="5562720"/>
              <a:ext cx="3276720" cy="5205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read Pointer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343400" y="5867280"/>
              <a:ext cx="129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. . .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43400" y="4952880"/>
              <a:ext cx="129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. . .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Inflated Lock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18288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71600" y="3581280"/>
            <a:ext cx="6400800" cy="12193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48520" y="3581280"/>
            <a:ext cx="1523880" cy="1219320"/>
          </a:xfrm>
          <a:prstGeom prst="rect">
            <a:avLst/>
          </a:prstGeom>
          <a:solidFill>
            <a:srgbClr val="c0c0c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00200" y="3581280"/>
            <a:ext cx="4648320" cy="121932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371240" y="2666880"/>
            <a:ext cx="4838760" cy="838440"/>
            <a:chOff x="1371240" y="2666880"/>
            <a:chExt cx="4838760" cy="838440"/>
          </a:xfrm>
        </p:grpSpPr>
        <p:sp>
          <p:nvSpPr>
            <p:cNvPr id="164" name=""/>
            <p:cNvSpPr/>
            <p:nvPr/>
          </p:nvSpPr>
          <p:spPr>
            <a:xfrm rot="5400000">
              <a:off x="3600000" y="894960"/>
              <a:ext cx="381240" cy="4838760"/>
            </a:xfrm>
            <a:custGeom>
              <a:avLst/>
              <a:gdLst>
                <a:gd name="textAreaLeft" fmla="*/ 243720 w 381240"/>
                <a:gd name="textAreaRight" fmla="*/ 381600 w 381240"/>
                <a:gd name="textAreaTop" fmla="*/ 126000 h 4838760"/>
                <a:gd name="textAreaBottom" fmla="*/ 4712760 h 483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19520" y="266688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Lock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943600" y="2743200"/>
            <a:ext cx="1981080" cy="762120"/>
            <a:chOff x="5943600" y="2743200"/>
            <a:chExt cx="1981080" cy="762120"/>
          </a:xfrm>
        </p:grpSpPr>
        <p:sp>
          <p:nvSpPr>
            <p:cNvPr id="167" name=""/>
            <p:cNvSpPr/>
            <p:nvPr/>
          </p:nvSpPr>
          <p:spPr>
            <a:xfrm rot="5400000">
              <a:off x="6876720" y="2647800"/>
              <a:ext cx="304920" cy="140976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6720 h 1409760"/>
                <a:gd name="textAreaBottom" fmla="*/ 1373040 h 140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462"/>
                  </a:lnTo>
                  <a:cubicBezTo>
                    <a:pt x="10800" y="10362"/>
                    <a:pt x="5400" y="11262"/>
                    <a:pt x="0" y="11262"/>
                  </a:cubicBezTo>
                  <a:cubicBezTo>
                    <a:pt x="5400" y="11262"/>
                    <a:pt x="10800" y="12162"/>
                    <a:pt x="10800" y="13062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943600" y="274320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3</a:t>
              </a:r>
              <a:r>
                <a:rPr b="1" lang="en-US" sz="2800" spc="-1" strike="noStrike" baseline="30000">
                  <a:solidFill>
                    <a:srgbClr val="ffffcc"/>
                  </a:solidFill>
                  <a:latin typeface="Times New Roman"/>
                </a:rPr>
                <a:t>rd</a:t>
              </a: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 Word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2133720" y="2057400"/>
            <a:ext cx="3990960" cy="330120"/>
          </a:xfrm>
          <a:noFill/>
          <a:ln w="12600">
            <a:solidFill>
              <a:srgbClr val="ffff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Monitor Shape Bit = 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38862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Monitor I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133720" y="4800600"/>
            <a:ext cx="6172200" cy="1752480"/>
            <a:chOff x="2133720" y="4800600"/>
            <a:chExt cx="6172200" cy="1752480"/>
          </a:xfrm>
        </p:grpSpPr>
        <p:sp>
          <p:nvSpPr>
            <p:cNvPr id="172" name=""/>
            <p:cNvSpPr/>
            <p:nvPr/>
          </p:nvSpPr>
          <p:spPr>
            <a:xfrm>
              <a:off x="2133720" y="4800600"/>
              <a:ext cx="0" cy="10666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33720" y="5867280"/>
              <a:ext cx="6858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819520" y="4952880"/>
              <a:ext cx="3733560" cy="1600200"/>
            </a:xfrm>
            <a:prstGeom prst="rect">
              <a:avLst/>
            </a:prstGeom>
            <a:solidFill>
              <a:srgbClr val="00008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95480" y="5562720"/>
              <a:ext cx="3581640" cy="4269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unt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95480" y="5029200"/>
              <a:ext cx="3581640" cy="4269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read ID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895480" y="6095880"/>
              <a:ext cx="3581640" cy="4269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Queues / Other Fields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29400" y="5029200"/>
              <a:ext cx="228600" cy="14479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86600" y="5334120"/>
              <a:ext cx="1219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Fat Lock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mpare and Swap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22096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Addr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90720" y="35053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New Valu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28954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Ol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Valu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590920" y="2133720"/>
            <a:ext cx="3886200" cy="520560"/>
            <a:chOff x="2590920" y="2133720"/>
            <a:chExt cx="3886200" cy="520560"/>
          </a:xfrm>
        </p:grpSpPr>
        <p:sp>
          <p:nvSpPr>
            <p:cNvPr id="186" name=""/>
            <p:cNvSpPr/>
            <p:nvPr/>
          </p:nvSpPr>
          <p:spPr>
            <a:xfrm>
              <a:off x="2590920" y="2438280"/>
              <a:ext cx="20574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72000" y="213372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Value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590920" y="2666880"/>
            <a:ext cx="3504960" cy="901800"/>
            <a:chOff x="2590920" y="2666880"/>
            <a:chExt cx="3504960" cy="901800"/>
          </a:xfrm>
        </p:grpSpPr>
        <p:sp>
          <p:nvSpPr>
            <p:cNvPr id="189" name=""/>
            <p:cNvSpPr/>
            <p:nvPr/>
          </p:nvSpPr>
          <p:spPr>
            <a:xfrm>
              <a:off x="5334120" y="304812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=?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62720" y="2666880"/>
              <a:ext cx="0" cy="3812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90920" y="3200400"/>
              <a:ext cx="27432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5029200" y="3657600"/>
            <a:ext cx="2971800" cy="2516760"/>
            <a:chOff x="5029200" y="3657600"/>
            <a:chExt cx="2971800" cy="2516760"/>
          </a:xfrm>
        </p:grpSpPr>
        <p:sp>
          <p:nvSpPr>
            <p:cNvPr id="193" name=""/>
            <p:cNvSpPr/>
            <p:nvPr/>
          </p:nvSpPr>
          <p:spPr>
            <a:xfrm>
              <a:off x="5029200" y="4800600"/>
              <a:ext cx="28195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Leave Unchanged and Return False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791320" y="3657600"/>
              <a:ext cx="457200" cy="10666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72200" y="38862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Not Equal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219320" y="3657600"/>
            <a:ext cx="4343040" cy="2516760"/>
            <a:chOff x="1219320" y="3657600"/>
            <a:chExt cx="4343040" cy="2516760"/>
          </a:xfrm>
        </p:grpSpPr>
        <p:sp>
          <p:nvSpPr>
            <p:cNvPr id="197" name=""/>
            <p:cNvSpPr/>
            <p:nvPr/>
          </p:nvSpPr>
          <p:spPr>
            <a:xfrm>
              <a:off x="1219320" y="4800600"/>
              <a:ext cx="28191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Store New Value at Address and Return True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88620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Equal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352320" y="3657600"/>
              <a:ext cx="2210040" cy="9907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Locking Scenario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cking an unlocked objec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hallow nested lock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Deep nested lock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tention with no threads wait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Contention with threads wait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2743200" y="5410080"/>
            <a:ext cx="5715000" cy="1099440"/>
            <a:chOff x="2743200" y="5410080"/>
            <a:chExt cx="5715000" cy="1099440"/>
          </a:xfrm>
        </p:grpSpPr>
        <p:sp>
          <p:nvSpPr>
            <p:cNvPr id="203" name=""/>
            <p:cNvSpPr/>
            <p:nvPr/>
          </p:nvSpPr>
          <p:spPr>
            <a:xfrm flipH="1" rot="10800000">
              <a:off x="2743200" y="5410080"/>
              <a:ext cx="838080" cy="914400"/>
            </a:xfrm>
            <a:custGeom>
              <a:avLst/>
              <a:gdLst>
                <a:gd name="textAreaLeft" fmla="*/ 360 w 838080"/>
                <a:gd name="textAreaRight" fmla="*/ 838800 w 83808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10141" stAng="10800000" swAng="5400000"/>
                  <a:lnTo>
                    <a:pt x="15136" y="2019"/>
                  </a:lnTo>
                  <a:lnTo>
                    <a:pt x="15136" y="0"/>
                  </a:lnTo>
                  <a:lnTo>
                    <a:pt x="21600" y="6079"/>
                  </a:lnTo>
                  <a:lnTo>
                    <a:pt x="15136" y="12158"/>
                  </a:lnTo>
                  <a:lnTo>
                    <a:pt x="15136" y="10139"/>
                  </a:lnTo>
                  <a:lnTo>
                    <a:pt x="12427" y="10139"/>
                  </a:lnTo>
                  <a:arcTo wR="4307" hR="2021" stAng="16200000" swAng="-5400000"/>
                  <a:lnTo>
                    <a:pt x="8120" y="216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86200" y="5410080"/>
              <a:ext cx="4572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cc"/>
                  </a:solidFill>
                  <a:latin typeface="Times New Roman"/>
                </a:rPr>
                <a:t>Locking/unlocking without contention</a:t>
              </a:r>
              <a:endParaRPr b="0" lang="en-US" sz="2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cc"/>
                  </a:solidFill>
                  <a:latin typeface="Times New Roman"/>
                </a:rPr>
                <a:t>Nested locking</a:t>
              </a:r>
              <a:endParaRPr b="0" lang="en-US" sz="2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cc"/>
                  </a:solidFill>
                  <a:latin typeface="Times New Roman"/>
                </a:rPr>
                <a:t>Locking/unlocking with contention</a:t>
              </a:r>
              <a:endParaRPr b="0" lang="en-US" sz="2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Locking Without Contention </a:t>
            </a: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(1 of 2)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18288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371600" y="2057400"/>
            <a:ext cx="6400800" cy="1676520"/>
            <a:chOff x="1371600" y="2057400"/>
            <a:chExt cx="6400800" cy="1676520"/>
          </a:xfrm>
        </p:grpSpPr>
        <p:sp>
          <p:nvSpPr>
            <p:cNvPr id="208" name=""/>
            <p:cNvSpPr/>
            <p:nvPr/>
          </p:nvSpPr>
          <p:spPr>
            <a:xfrm>
              <a:off x="1371600" y="2514600"/>
              <a:ext cx="6400800" cy="1219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48520" y="2514600"/>
              <a:ext cx="1523880" cy="12193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48320" y="2514600"/>
              <a:ext cx="1600200" cy="1219320"/>
            </a:xfrm>
            <a:prstGeom prst="rect">
              <a:avLst/>
            </a:prstGeom>
            <a:solidFill>
              <a:srgbClr val="990099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600200" y="2514600"/>
              <a:ext cx="3048120" cy="1219320"/>
            </a:xfrm>
            <a:prstGeom prst="rect">
              <a:avLst/>
            </a:prstGeom>
            <a:solidFill>
              <a:srgbClr val="00008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553080" y="289548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28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952880" y="28954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590920" y="28954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514600" y="2057400"/>
              <a:ext cx="3701880" cy="426960"/>
            </a:xfrm>
            <a:noFill/>
            <a:ln w="12600">
              <a:solidFill>
                <a:srgbClr val="ffffcc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Monitor Shape Bit = 0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914400" y="3962520"/>
            <a:ext cx="3124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hread Index = 5.6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371600" y="4724280"/>
            <a:ext cx="6400800" cy="1676520"/>
            <a:chOff x="1371600" y="4724280"/>
            <a:chExt cx="6400800" cy="1676520"/>
          </a:xfrm>
        </p:grpSpPr>
        <p:sp>
          <p:nvSpPr>
            <p:cNvPr id="218" name=""/>
            <p:cNvSpPr/>
            <p:nvPr/>
          </p:nvSpPr>
          <p:spPr>
            <a:xfrm>
              <a:off x="1371600" y="5181480"/>
              <a:ext cx="6400800" cy="1219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248520" y="5181480"/>
              <a:ext cx="1523880" cy="12193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48320" y="5181480"/>
              <a:ext cx="1600200" cy="1219320"/>
            </a:xfrm>
            <a:prstGeom prst="rect">
              <a:avLst/>
            </a:prstGeom>
            <a:solidFill>
              <a:srgbClr val="990099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00200" y="5181480"/>
              <a:ext cx="3048120" cy="1219320"/>
            </a:xfrm>
            <a:prstGeom prst="rect">
              <a:avLst/>
            </a:prstGeom>
            <a:solidFill>
              <a:srgbClr val="00008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19520" y="4724280"/>
              <a:ext cx="3701880" cy="426960"/>
            </a:xfrm>
            <a:noFill/>
            <a:ln w="12600">
              <a:solidFill>
                <a:srgbClr val="ffffcc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Monitor Shape Bit = 0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90920" y="55627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5.65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52880" y="55627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553080" y="556272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28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4191120" y="3886200"/>
            <a:ext cx="838080" cy="914400"/>
          </a:xfrm>
          <a:prstGeom prst="downArrow">
            <a:avLst>
              <a:gd name="adj1" fmla="val 42806"/>
              <a:gd name="adj2" fmla="val 3125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nlocking Without Contention </a:t>
            </a: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(2 of 2)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18288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371600" y="2057400"/>
            <a:ext cx="6400800" cy="1676520"/>
            <a:chOff x="1371600" y="2057400"/>
            <a:chExt cx="6400800" cy="1676520"/>
          </a:xfrm>
        </p:grpSpPr>
        <p:sp>
          <p:nvSpPr>
            <p:cNvPr id="230" name=""/>
            <p:cNvSpPr/>
            <p:nvPr/>
          </p:nvSpPr>
          <p:spPr>
            <a:xfrm>
              <a:off x="1371600" y="2514600"/>
              <a:ext cx="6400800" cy="1219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248520" y="2514600"/>
              <a:ext cx="1523880" cy="12193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648320" y="2514600"/>
              <a:ext cx="1600200" cy="1219320"/>
            </a:xfrm>
            <a:prstGeom prst="rect">
              <a:avLst/>
            </a:prstGeom>
            <a:solidFill>
              <a:srgbClr val="990099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600200" y="2514600"/>
              <a:ext cx="3048120" cy="1219320"/>
            </a:xfrm>
            <a:prstGeom prst="rect">
              <a:avLst/>
            </a:prstGeom>
            <a:solidFill>
              <a:srgbClr val="00008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553080" y="289548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28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952880" y="28954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590920" y="28954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5.65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514600" y="2057400"/>
              <a:ext cx="3701880" cy="426960"/>
            </a:xfrm>
            <a:noFill/>
            <a:ln w="12600">
              <a:solidFill>
                <a:srgbClr val="ffffcc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Monitor Shape Bit = 0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371600" y="4724280"/>
            <a:ext cx="6400800" cy="1676520"/>
            <a:chOff x="1371600" y="4724280"/>
            <a:chExt cx="6400800" cy="1676520"/>
          </a:xfrm>
        </p:grpSpPr>
        <p:sp>
          <p:nvSpPr>
            <p:cNvPr id="239" name=""/>
            <p:cNvSpPr/>
            <p:nvPr/>
          </p:nvSpPr>
          <p:spPr>
            <a:xfrm>
              <a:off x="1371600" y="5181480"/>
              <a:ext cx="6400800" cy="1219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48520" y="5181480"/>
              <a:ext cx="1523880" cy="12193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648320" y="5181480"/>
              <a:ext cx="1600200" cy="1219320"/>
            </a:xfrm>
            <a:prstGeom prst="rect">
              <a:avLst/>
            </a:prstGeom>
            <a:solidFill>
              <a:srgbClr val="990099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00200" y="5181480"/>
              <a:ext cx="3048120" cy="1219320"/>
            </a:xfrm>
            <a:prstGeom prst="rect">
              <a:avLst/>
            </a:prstGeom>
            <a:solidFill>
              <a:srgbClr val="00008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19520" y="4724280"/>
              <a:ext cx="3701880" cy="426960"/>
            </a:xfrm>
            <a:noFill/>
            <a:ln w="12600">
              <a:solidFill>
                <a:srgbClr val="ffffcc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Monitor Shape Bit = 0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90920" y="55627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952880" y="55627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553080" y="556272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28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4191120" y="3886200"/>
            <a:ext cx="838080" cy="914400"/>
          </a:xfrm>
          <a:prstGeom prst="downArrow">
            <a:avLst>
              <a:gd name="adj1" fmla="val 42806"/>
              <a:gd name="adj2" fmla="val 3125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Nested Locking </a:t>
            </a: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(1 of 1)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" y="18288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371600" y="2057400"/>
            <a:ext cx="6400800" cy="1676520"/>
            <a:chOff x="1371600" y="2057400"/>
            <a:chExt cx="6400800" cy="1676520"/>
          </a:xfrm>
        </p:grpSpPr>
        <p:sp>
          <p:nvSpPr>
            <p:cNvPr id="251" name=""/>
            <p:cNvSpPr/>
            <p:nvPr/>
          </p:nvSpPr>
          <p:spPr>
            <a:xfrm>
              <a:off x="1371600" y="2514600"/>
              <a:ext cx="6400800" cy="1219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248520" y="2514600"/>
              <a:ext cx="1523880" cy="12193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48320" y="2514600"/>
              <a:ext cx="1600200" cy="1219320"/>
            </a:xfrm>
            <a:prstGeom prst="rect">
              <a:avLst/>
            </a:prstGeom>
            <a:solidFill>
              <a:srgbClr val="990099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00200" y="2514600"/>
              <a:ext cx="3048120" cy="1219320"/>
            </a:xfrm>
            <a:prstGeom prst="rect">
              <a:avLst/>
            </a:prstGeom>
            <a:solidFill>
              <a:srgbClr val="00008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53080" y="289548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28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52880" y="28954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590920" y="28954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5.65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14600" y="2057400"/>
              <a:ext cx="3701880" cy="426960"/>
            </a:xfrm>
            <a:noFill/>
            <a:ln w="12600">
              <a:solidFill>
                <a:srgbClr val="ffffcc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Monitor Shape Bit = 0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1371600" y="4724280"/>
            <a:ext cx="6400800" cy="1676520"/>
            <a:chOff x="1371600" y="4724280"/>
            <a:chExt cx="6400800" cy="1676520"/>
          </a:xfrm>
        </p:grpSpPr>
        <p:sp>
          <p:nvSpPr>
            <p:cNvPr id="260" name=""/>
            <p:cNvSpPr/>
            <p:nvPr/>
          </p:nvSpPr>
          <p:spPr>
            <a:xfrm>
              <a:off x="1371600" y="5181480"/>
              <a:ext cx="6400800" cy="1219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48520" y="5181480"/>
              <a:ext cx="1523880" cy="12193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48320" y="5181480"/>
              <a:ext cx="1600200" cy="1219320"/>
            </a:xfrm>
            <a:prstGeom prst="rect">
              <a:avLst/>
            </a:prstGeom>
            <a:solidFill>
              <a:srgbClr val="990099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00200" y="5181480"/>
              <a:ext cx="3048120" cy="1219320"/>
            </a:xfrm>
            <a:prstGeom prst="rect">
              <a:avLst/>
            </a:prstGeom>
            <a:solidFill>
              <a:srgbClr val="00008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819520" y="4724280"/>
              <a:ext cx="3701880" cy="426960"/>
            </a:xfrm>
            <a:noFill/>
            <a:ln w="12600">
              <a:solidFill>
                <a:srgbClr val="ffffcc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Monitor Shape Bit = 0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590920" y="55627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5.65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952880" y="55627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53080" y="556272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28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4191120" y="3886200"/>
            <a:ext cx="838080" cy="914400"/>
          </a:xfrm>
          <a:prstGeom prst="downArrow">
            <a:avLst>
              <a:gd name="adj1" fmla="val 42806"/>
              <a:gd name="adj2" fmla="val 3125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Overview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view of Jav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oa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currenc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commended implement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ults/Discuss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riticis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Locking With Contention </a:t>
            </a: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(1 of 4)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8288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371600" y="2057400"/>
            <a:ext cx="6400800" cy="1676520"/>
            <a:chOff x="1371600" y="2057400"/>
            <a:chExt cx="6400800" cy="1676520"/>
          </a:xfrm>
        </p:grpSpPr>
        <p:sp>
          <p:nvSpPr>
            <p:cNvPr id="272" name=""/>
            <p:cNvSpPr/>
            <p:nvPr/>
          </p:nvSpPr>
          <p:spPr>
            <a:xfrm>
              <a:off x="1371600" y="2514600"/>
              <a:ext cx="6400800" cy="1219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48520" y="2514600"/>
              <a:ext cx="1523880" cy="12193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648320" y="2514600"/>
              <a:ext cx="1600200" cy="1219320"/>
            </a:xfrm>
            <a:prstGeom prst="rect">
              <a:avLst/>
            </a:prstGeom>
            <a:solidFill>
              <a:srgbClr val="990099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600200" y="2514600"/>
              <a:ext cx="3048120" cy="1219320"/>
            </a:xfrm>
            <a:prstGeom prst="rect">
              <a:avLst/>
            </a:prstGeom>
            <a:solidFill>
              <a:srgbClr val="00008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553080" y="289548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28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28954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90920" y="28954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5.65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514600" y="2057400"/>
              <a:ext cx="3701880" cy="426960"/>
            </a:xfrm>
            <a:noFill/>
            <a:ln w="12600">
              <a:solidFill>
                <a:srgbClr val="ffffcc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Monitor Shape Bit = 0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6019560" y="4114800"/>
            <a:ext cx="1524240" cy="2133720"/>
            <a:chOff x="6019560" y="4114800"/>
            <a:chExt cx="1524240" cy="2133720"/>
          </a:xfrm>
        </p:grpSpPr>
        <p:sp>
          <p:nvSpPr>
            <p:cNvPr id="281" name=""/>
            <p:cNvSpPr/>
            <p:nvPr/>
          </p:nvSpPr>
          <p:spPr>
            <a:xfrm>
              <a:off x="6019920" y="4114800"/>
              <a:ext cx="1523880" cy="1371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99ccff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019560" y="4876920"/>
              <a:ext cx="1523880" cy="1371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99ccff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48520" y="487692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18.23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609480" y="3885840"/>
            <a:ext cx="3353040" cy="1676880"/>
            <a:chOff x="609480" y="3885840"/>
            <a:chExt cx="3353040" cy="1676880"/>
          </a:xfrm>
        </p:grpSpPr>
        <p:sp>
          <p:nvSpPr>
            <p:cNvPr id="285" name=""/>
            <p:cNvSpPr/>
            <p:nvPr/>
          </p:nvSpPr>
          <p:spPr>
            <a:xfrm>
              <a:off x="609480" y="4648320"/>
              <a:ext cx="33530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imes New Roman"/>
                </a:rPr>
                <a:t>Thread 18.23 attempts to lock the object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2133720" y="3885840"/>
              <a:ext cx="685800" cy="6858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4191120" y="472428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Locking With Contention </a:t>
            </a: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(2 of 4)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8600" y="16002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33160" y="2362320"/>
            <a:ext cx="1524240" cy="2133360"/>
            <a:chOff x="533160" y="2362320"/>
            <a:chExt cx="1524240" cy="2133360"/>
          </a:xfrm>
        </p:grpSpPr>
        <p:sp>
          <p:nvSpPr>
            <p:cNvPr id="291" name=""/>
            <p:cNvSpPr/>
            <p:nvPr/>
          </p:nvSpPr>
          <p:spPr>
            <a:xfrm>
              <a:off x="533520" y="2362320"/>
              <a:ext cx="1523880" cy="1371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99ccff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10800000">
              <a:off x="533160" y="3124080"/>
              <a:ext cx="1523880" cy="1371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99ccff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62120" y="31240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18.23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2438280" y="3657600"/>
            <a:ext cx="6400800" cy="1447560"/>
            <a:chOff x="2438280" y="3657600"/>
            <a:chExt cx="6400800" cy="1447560"/>
          </a:xfrm>
        </p:grpSpPr>
        <p:sp>
          <p:nvSpPr>
            <p:cNvPr id="295" name=""/>
            <p:cNvSpPr/>
            <p:nvPr/>
          </p:nvSpPr>
          <p:spPr>
            <a:xfrm>
              <a:off x="2438280" y="4163760"/>
              <a:ext cx="6400800" cy="9414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315200" y="4163760"/>
              <a:ext cx="1523880" cy="9414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15000" y="4163760"/>
              <a:ext cx="1600200" cy="941400"/>
            </a:xfrm>
            <a:prstGeom prst="rect">
              <a:avLst/>
            </a:prstGeom>
            <a:solidFill>
              <a:srgbClr val="990099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666880" y="4163760"/>
              <a:ext cx="3048120" cy="941400"/>
            </a:xfrm>
            <a:prstGeom prst="rect">
              <a:avLst/>
            </a:prstGeom>
            <a:solidFill>
              <a:srgbClr val="00008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20120" y="445752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28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019920" y="44575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657600" y="44575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581280" y="3657600"/>
              <a:ext cx="3702240" cy="426960"/>
            </a:xfrm>
            <a:noFill/>
            <a:ln w="12600">
              <a:solidFill>
                <a:srgbClr val="ffffcc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Monitor Shape Bit = 0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85800" y="5257800"/>
            <a:ext cx="6400800" cy="1325520"/>
            <a:chOff x="685800" y="5257800"/>
            <a:chExt cx="6400800" cy="1325520"/>
          </a:xfrm>
        </p:grpSpPr>
        <p:sp>
          <p:nvSpPr>
            <p:cNvPr id="304" name=""/>
            <p:cNvSpPr/>
            <p:nvPr/>
          </p:nvSpPr>
          <p:spPr>
            <a:xfrm>
              <a:off x="685800" y="5730840"/>
              <a:ext cx="6400800" cy="8524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62720" y="5730840"/>
              <a:ext cx="1523880" cy="8524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914400" y="5730840"/>
              <a:ext cx="4648320" cy="852480"/>
            </a:xfrm>
            <a:prstGeom prst="rect">
              <a:avLst/>
            </a:prstGeom>
            <a:solidFill>
              <a:srgbClr val="00008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867280" y="594360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28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590920" y="594360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23.17.9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828800" y="5257800"/>
              <a:ext cx="3701880" cy="426960"/>
            </a:xfrm>
            <a:noFill/>
            <a:ln w="12600">
              <a:solidFill>
                <a:srgbClr val="ffffcc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Monitor Shape Bit = 1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 rot="10800000">
            <a:off x="7238520" y="5410080"/>
            <a:ext cx="838440" cy="914400"/>
          </a:xfrm>
          <a:custGeom>
            <a:avLst/>
            <a:gdLst>
              <a:gd name="textAreaLeft" fmla="*/ 0 w 838440"/>
              <a:gd name="textAreaRight" fmla="*/ 838800 w 8384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10141" stAng="10800000" swAng="5400000"/>
                <a:lnTo>
                  <a:pt x="15136" y="2019"/>
                </a:lnTo>
                <a:lnTo>
                  <a:pt x="15136" y="0"/>
                </a:lnTo>
                <a:lnTo>
                  <a:pt x="21600" y="6079"/>
                </a:lnTo>
                <a:lnTo>
                  <a:pt x="15136" y="12158"/>
                </a:lnTo>
                <a:lnTo>
                  <a:pt x="15136" y="10139"/>
                </a:lnTo>
                <a:lnTo>
                  <a:pt x="12427" y="10139"/>
                </a:lnTo>
                <a:arcTo wR="4307" hR="2021" stAng="16200000" swAng="-5400000"/>
                <a:lnTo>
                  <a:pt x="8120" y="216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467480" y="3429000"/>
            <a:ext cx="838440" cy="609480"/>
          </a:xfrm>
          <a:prstGeom prst="downArrow">
            <a:avLst>
              <a:gd name="adj1" fmla="val 42806"/>
              <a:gd name="adj2" fmla="val 2864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438280" y="1828800"/>
            <a:ext cx="6400800" cy="1447920"/>
            <a:chOff x="2438280" y="1828800"/>
            <a:chExt cx="6400800" cy="1447920"/>
          </a:xfrm>
        </p:grpSpPr>
        <p:sp>
          <p:nvSpPr>
            <p:cNvPr id="313" name=""/>
            <p:cNvSpPr/>
            <p:nvPr/>
          </p:nvSpPr>
          <p:spPr>
            <a:xfrm>
              <a:off x="2438280" y="2335320"/>
              <a:ext cx="6400800" cy="9414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315200" y="2335320"/>
              <a:ext cx="1523880" cy="9414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715000" y="2335320"/>
              <a:ext cx="1600200" cy="941400"/>
            </a:xfrm>
            <a:prstGeom prst="rect">
              <a:avLst/>
            </a:prstGeom>
            <a:solidFill>
              <a:srgbClr val="990099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666880" y="2335320"/>
              <a:ext cx="3048120" cy="941400"/>
            </a:xfrm>
            <a:prstGeom prst="rect">
              <a:avLst/>
            </a:prstGeom>
            <a:solidFill>
              <a:srgbClr val="00008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620120" y="262908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28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019920" y="26290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657600" y="26290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5.65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581280" y="1828800"/>
              <a:ext cx="3702240" cy="426960"/>
            </a:xfrm>
            <a:noFill/>
            <a:ln w="12600">
              <a:solidFill>
                <a:srgbClr val="ffffcc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Monitor Shape Bit = 0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04920" y="1981080"/>
            <a:ext cx="2057400" cy="289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Locking With Contention </a:t>
            </a: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(3 of 4)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" y="1676520"/>
            <a:ext cx="86104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457200" y="5029200"/>
            <a:ext cx="3733920" cy="1600200"/>
            <a:chOff x="457200" y="5029200"/>
            <a:chExt cx="3733920" cy="1600200"/>
          </a:xfrm>
        </p:grpSpPr>
        <p:sp>
          <p:nvSpPr>
            <p:cNvPr id="325" name=""/>
            <p:cNvSpPr/>
            <p:nvPr/>
          </p:nvSpPr>
          <p:spPr>
            <a:xfrm>
              <a:off x="457200" y="5029200"/>
              <a:ext cx="3733920" cy="1600200"/>
            </a:xfrm>
            <a:prstGeom prst="rect">
              <a:avLst/>
            </a:prstGeom>
            <a:solidFill>
              <a:srgbClr val="00008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33520" y="5638680"/>
              <a:ext cx="3581280" cy="4269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33520" y="5105520"/>
              <a:ext cx="3581280" cy="4269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8.23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33520" y="6172200"/>
              <a:ext cx="3581280" cy="4269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Queues / Other Fields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33520" y="1905120"/>
            <a:ext cx="6400800" cy="1752120"/>
            <a:chOff x="533520" y="1905120"/>
            <a:chExt cx="6400800" cy="1752120"/>
          </a:xfrm>
        </p:grpSpPr>
        <p:sp>
          <p:nvSpPr>
            <p:cNvPr id="330" name=""/>
            <p:cNvSpPr/>
            <p:nvPr/>
          </p:nvSpPr>
          <p:spPr>
            <a:xfrm>
              <a:off x="533520" y="2481120"/>
              <a:ext cx="6400800" cy="11761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410080" y="2481120"/>
              <a:ext cx="1524240" cy="1176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62120" y="2481120"/>
              <a:ext cx="4647960" cy="1176120"/>
            </a:xfrm>
            <a:prstGeom prst="rect">
              <a:avLst/>
            </a:prstGeom>
            <a:solidFill>
              <a:srgbClr val="00008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715000" y="277488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28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438280" y="2774880"/>
              <a:ext cx="152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23.17.9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676520" y="1905120"/>
              <a:ext cx="3701880" cy="426960"/>
            </a:xfrm>
            <a:noFill/>
            <a:ln w="12600">
              <a:solidFill>
                <a:srgbClr val="ffffcc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Monitor Shape Bit = 1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5181480" y="3809880"/>
            <a:ext cx="3429000" cy="1404000"/>
            <a:chOff x="5181480" y="3809880"/>
            <a:chExt cx="3429000" cy="1404000"/>
          </a:xfrm>
        </p:grpSpPr>
        <p:sp>
          <p:nvSpPr>
            <p:cNvPr id="337" name=""/>
            <p:cNvSpPr/>
            <p:nvPr/>
          </p:nvSpPr>
          <p:spPr>
            <a:xfrm>
              <a:off x="5181480" y="3946680"/>
              <a:ext cx="3429000" cy="1234800"/>
            </a:xfrm>
            <a:prstGeom prst="rect">
              <a:avLst/>
            </a:prstGeom>
            <a:solidFill>
              <a:srgbClr val="00008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257800" y="4359240"/>
              <a:ext cx="3276720" cy="5205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ointer to Fat Lock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48520" y="4632480"/>
              <a:ext cx="129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. . .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48520" y="3809880"/>
              <a:ext cx="129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. . .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3352680" y="3657600"/>
            <a:ext cx="1828800" cy="914400"/>
            <a:chOff x="3352680" y="3657600"/>
            <a:chExt cx="1828800" cy="914400"/>
          </a:xfrm>
        </p:grpSpPr>
        <p:sp>
          <p:nvSpPr>
            <p:cNvPr id="342" name=""/>
            <p:cNvSpPr/>
            <p:nvPr/>
          </p:nvSpPr>
          <p:spPr>
            <a:xfrm>
              <a:off x="3352680" y="3657600"/>
              <a:ext cx="0" cy="9144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352680" y="4572000"/>
              <a:ext cx="18288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 flipH="1">
            <a:off x="4266720" y="4800600"/>
            <a:ext cx="1143000" cy="609480"/>
          </a:xfrm>
          <a:prstGeom prst="line">
            <a:avLst/>
          </a:prstGeom>
          <a:ln w="12600">
            <a:solidFill>
              <a:srgbClr val="ffff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nlocking After Contention </a:t>
            </a: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(4 of 4)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28600" y="1676520"/>
            <a:ext cx="86104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533520" y="1905120"/>
            <a:ext cx="6400800" cy="1752120"/>
            <a:chOff x="533520" y="1905120"/>
            <a:chExt cx="6400800" cy="1752120"/>
          </a:xfrm>
        </p:grpSpPr>
        <p:sp>
          <p:nvSpPr>
            <p:cNvPr id="348" name=""/>
            <p:cNvSpPr/>
            <p:nvPr/>
          </p:nvSpPr>
          <p:spPr>
            <a:xfrm>
              <a:off x="533520" y="2481120"/>
              <a:ext cx="6400800" cy="11761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410080" y="2481120"/>
              <a:ext cx="1524240" cy="1176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62120" y="2481120"/>
              <a:ext cx="4647960" cy="1176120"/>
            </a:xfrm>
            <a:prstGeom prst="rect">
              <a:avLst/>
            </a:prstGeom>
            <a:solidFill>
              <a:srgbClr val="00008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715000" y="277488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28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438280" y="2774880"/>
              <a:ext cx="152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23.17.9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676520" y="1905120"/>
              <a:ext cx="3701880" cy="426960"/>
            </a:xfrm>
            <a:noFill/>
            <a:ln w="12600">
              <a:solidFill>
                <a:srgbClr val="ffffcc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Monitor Shape Bit = 1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457200" y="3657600"/>
            <a:ext cx="8153280" cy="2971800"/>
            <a:chOff x="457200" y="3657600"/>
            <a:chExt cx="8153280" cy="2971800"/>
          </a:xfrm>
        </p:grpSpPr>
        <p:grpSp>
          <p:nvGrpSpPr>
            <p:cNvPr id="355" name=""/>
            <p:cNvGrpSpPr/>
            <p:nvPr/>
          </p:nvGrpSpPr>
          <p:grpSpPr>
            <a:xfrm>
              <a:off x="457200" y="5029200"/>
              <a:ext cx="3733920" cy="1600200"/>
              <a:chOff x="457200" y="5029200"/>
              <a:chExt cx="3733920" cy="1600200"/>
            </a:xfrm>
          </p:grpSpPr>
          <p:sp>
            <p:nvSpPr>
              <p:cNvPr id="356" name=""/>
              <p:cNvSpPr/>
              <p:nvPr/>
            </p:nvSpPr>
            <p:spPr>
              <a:xfrm>
                <a:off x="457200" y="5029200"/>
                <a:ext cx="3733920" cy="1600200"/>
              </a:xfrm>
              <a:prstGeom prst="rect">
                <a:avLst/>
              </a:prstGeom>
              <a:solidFill>
                <a:srgbClr val="000080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33520" y="5638680"/>
                <a:ext cx="3581280" cy="4269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33520" y="5105520"/>
                <a:ext cx="3581280" cy="4269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33520" y="6172200"/>
                <a:ext cx="3581280" cy="4269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ueues / Other Fields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5181480" y="3809880"/>
              <a:ext cx="3429000" cy="1404000"/>
              <a:chOff x="5181480" y="3809880"/>
              <a:chExt cx="3429000" cy="1404000"/>
            </a:xfrm>
          </p:grpSpPr>
          <p:sp>
            <p:nvSpPr>
              <p:cNvPr id="361" name=""/>
              <p:cNvSpPr/>
              <p:nvPr/>
            </p:nvSpPr>
            <p:spPr>
              <a:xfrm>
                <a:off x="5181480" y="3946680"/>
                <a:ext cx="3429000" cy="1234800"/>
              </a:xfrm>
              <a:prstGeom prst="rect">
                <a:avLst/>
              </a:prstGeom>
              <a:solidFill>
                <a:srgbClr val="000080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257800" y="4359240"/>
                <a:ext cx="3276720" cy="5205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Pointer to Fat Lock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248520" y="4632480"/>
                <a:ext cx="1295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. . .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248520" y="3809880"/>
                <a:ext cx="1295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. . .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3352680" y="3657600"/>
              <a:ext cx="1828800" cy="914400"/>
              <a:chOff x="3352680" y="3657600"/>
              <a:chExt cx="1828800" cy="914400"/>
            </a:xfrm>
          </p:grpSpPr>
          <p:sp>
            <p:nvSpPr>
              <p:cNvPr id="366" name=""/>
              <p:cNvSpPr/>
              <p:nvPr/>
            </p:nvSpPr>
            <p:spPr>
              <a:xfrm>
                <a:off x="3352680" y="3657600"/>
                <a:ext cx="0" cy="91440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352680" y="4572000"/>
                <a:ext cx="18288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 flipH="1">
              <a:off x="4266720" y="4800600"/>
              <a:ext cx="1143000" cy="6094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xperimental Resul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ree Java Development Kit (JDK) implementa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n Lock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ort of Sun’s JDK 1.1.1 to Advanced Interactive eXecutive (AIX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BM’s 1.1.2 version of the JDK for AIX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wo Sets of Benchmark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cro Benchmarks (specific operation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cro Benchmarks (real-world application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icro Benchmarks</a:t>
            </a:r>
            <a:br>
              <a:rPr sz="4400"/>
            </a:b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(specific operations)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380880" y="2286000"/>
          <a:ext cx="8423280" cy="424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0"/>
                    <a:ext cx="8423280" cy="42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228600" y="228600"/>
          <a:ext cx="8763120" cy="653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763120" cy="65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acro Benchmarks</a:t>
            </a:r>
            <a:br>
              <a:rPr sz="4400"/>
            </a:b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(real-world application)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1120" y="2367000"/>
          <a:ext cx="7619760" cy="401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2367000"/>
                    <a:ext cx="7619760" cy="40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228600" y="228600"/>
          <a:ext cx="8686800" cy="649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686800" cy="64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1" name=""/>
          <p:cNvGraphicFramePr/>
          <p:nvPr/>
        </p:nvGraphicFramePr>
        <p:xfrm>
          <a:off x="152280" y="152280"/>
          <a:ext cx="8839440" cy="662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839440" cy="662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Objectives of Jav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bject-Orient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chitecture Neutral (portability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intain Object Security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Provide Concurrenc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Goals of Thin Lock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vide low overhead for single-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readed progra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vide excellent performance for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ulti-threaded progra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Objectives of Jav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bject-Orient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chitecture Neutral (portability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intain Object Secur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vide Concurrenc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ffects on Java’s Objectiv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intains object-oriented paradig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intains neutrality -- changes are local to Java Virtual Machine (JVM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intains secur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mproves support for concurrenc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5800" y="52578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ds another goal -- efficienc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riticism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sufficient background inform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nly support 3 of 5 locking scenarios with da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cks low-level implementation detai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sufficient information regarding monitor cach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ver explained use of JDK 1.1.1 vs. JDK 1.1.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icro and Macro graphs use different sca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nclus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oa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urrent implement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commended implement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ults/Discuss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riticis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Question to Ponder (QTP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ny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Questions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Review of Java Concurrenc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rforms multiple tasks simultaneous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rallel process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current process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ultithread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ight-weight proc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mproves efficienc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uilt-i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Implementation of Concurrenc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bject mod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dividual locking mechanis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ctivated using “synchronized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nito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ulti-word structu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nitor Cach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Locking Scenario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cking an unlocked object (80%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hallow nested lock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ep nested lock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tention with no threads wait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tention with threads wait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28600" y="228600"/>
          <a:ext cx="8686800" cy="646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686800" cy="646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Locking Scenario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cking an unlocked objec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hallow nested lock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Deep nested lock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Contention with no threads wait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Contention with threads wait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Implementation Considera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pe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pa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calabil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743200" y="4419360"/>
            <a:ext cx="4648320" cy="1008360"/>
            <a:chOff x="2743200" y="4419360"/>
            <a:chExt cx="4648320" cy="1008360"/>
          </a:xfrm>
        </p:grpSpPr>
        <p:sp>
          <p:nvSpPr>
            <p:cNvPr id="114" name=""/>
            <p:cNvSpPr/>
            <p:nvPr/>
          </p:nvSpPr>
          <p:spPr>
            <a:xfrm flipH="1" rot="10800000">
              <a:off x="2743200" y="4419360"/>
              <a:ext cx="838080" cy="914040"/>
            </a:xfrm>
            <a:custGeom>
              <a:avLst/>
              <a:gdLst>
                <a:gd name="textAreaLeft" fmla="*/ 360 w 838080"/>
                <a:gd name="textAreaRight" fmla="*/ 838800 w 838080"/>
                <a:gd name="textAreaTop" fmla="*/ 0 h 914040"/>
                <a:gd name="textAreaBottom" fmla="*/ 914400 h 91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10141" stAng="10800000" swAng="5400000"/>
                  <a:lnTo>
                    <a:pt x="15136" y="2019"/>
                  </a:lnTo>
                  <a:lnTo>
                    <a:pt x="15136" y="0"/>
                  </a:lnTo>
                  <a:lnTo>
                    <a:pt x="21600" y="6079"/>
                  </a:lnTo>
                  <a:lnTo>
                    <a:pt x="15136" y="12158"/>
                  </a:lnTo>
                  <a:lnTo>
                    <a:pt x="15136" y="10139"/>
                  </a:lnTo>
                  <a:lnTo>
                    <a:pt x="12427" y="10139"/>
                  </a:lnTo>
                  <a:arcTo wR="4307" hR="2021" stAng="16200000" swAng="-5400000"/>
                  <a:lnTo>
                    <a:pt x="8120" y="216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886200" y="4724280"/>
              <a:ext cx="3505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ffcc"/>
                  </a:solidFill>
                  <a:latin typeface="Times New Roman"/>
                </a:rPr>
                <a:t>Thin Locks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2T20:42:52Z</dcterms:created>
  <dc:creator>peon</dc:creator>
  <dc:description/>
  <dc:language>en-US</dc:language>
  <cp:lastModifiedBy>James D. Arthur</cp:lastModifiedBy>
  <dcterms:modified xsi:type="dcterms:W3CDTF">1999-04-29T12:06:55Z</dcterms:modified>
  <cp:revision>24</cp:revision>
  <dc:subject/>
  <dc:title>Thin Locks: Featherweight Synchronization for Java</dc:title>
</cp:coreProperties>
</file>