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99B-8E23-45B6-B236-4D23ADA6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BD5-BB2A-4E9E-8015-D58D493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EFE-9A3F-42BF-A04D-BB9041B7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4B0-1A56-4A98-B122-84DBEF28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699D-788A-4549-A517-A20A0756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62A-A5AF-4EE5-86B4-8353740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002-F932-416E-A4A5-FCAD0EA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469-34EE-404A-AE37-B570F2E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8CD4-7610-4718-A142-735FC42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A98F-017B-4CFF-9778-34C9418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F344-5B01-4E9B-865A-EACDC73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C38-FA46-441D-8A0A-41530609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1485-F7C6-456C-B669-55A64FC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366D-584C-4E34-8565-D6DB84D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3002-23D7-4921-9536-A514A02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F59-310E-42C2-8773-8E1DEEFC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B40F-25E2-4FCE-A5A2-FEE1D86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C22-188E-4F3D-8FD7-F2605F0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463-DCF2-4157-A1FF-D1ED600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0AC-7AFA-4EA2-8DE2-05D6B779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EB9-9C52-4D2E-852D-C38F6B5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794-4196-4525-92EA-65D8A8D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161-206B-4F73-A3EB-1EFB13C9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5FE-A299-4230-87CB-C296B90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4C1-3431-4706-8E02-54D0E542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49A-FF27-4C9F-A721-6F9F4A941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9810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iminat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rray Bound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971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ongwei Xi           Frank Pfen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1055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n Arrivill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ya Bus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10552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cer Gro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eneral Solu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ve run-time A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va, Pascal, Ada,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mpile Time Descript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2209680"/>
            <a:ext cx="2286000" cy="3972240"/>
            <a:chOff x="685800" y="2209680"/>
            <a:chExt cx="2286000" cy="3972240"/>
          </a:xfrm>
        </p:grpSpPr>
        <p:sp>
          <p:nvSpPr>
            <p:cNvPr id="111" name=""/>
            <p:cNvSpPr/>
            <p:nvPr/>
          </p:nvSpPr>
          <p:spPr>
            <a:xfrm>
              <a:off x="685800" y="2209680"/>
              <a:ext cx="2286000" cy="397224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rr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lement Ty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dex Ty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dex Lower B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dex Upper B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2743200"/>
              <a:ext cx="228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" y="3276720"/>
              <a:ext cx="228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3809880"/>
              <a:ext cx="228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4724280"/>
              <a:ext cx="228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5715000"/>
              <a:ext cx="228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90520" y="2514600"/>
            <a:ext cx="5648760" cy="1677960"/>
            <a:chOff x="2990520" y="2514600"/>
            <a:chExt cx="5648760" cy="1677960"/>
          </a:xfrm>
        </p:grpSpPr>
        <p:sp>
          <p:nvSpPr>
            <p:cNvPr id="118" name=""/>
            <p:cNvSpPr/>
            <p:nvPr/>
          </p:nvSpPr>
          <p:spPr>
            <a:xfrm>
              <a:off x="4343400" y="2514600"/>
              <a:ext cx="4295880" cy="13816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ss Functio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dd(list[k]) = add(list[lowbnd]) +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((k - lowbnd)*(element_size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1" idx="3"/>
              <a:endCxn id="118" idx="1"/>
            </p:cNvCxnSpPr>
            <p:nvPr/>
          </p:nvCxnSpPr>
          <p:spPr>
            <a:xfrm flipV="1">
              <a:off x="2990520" y="3214440"/>
              <a:ext cx="1338840" cy="978480"/>
            </a:xfrm>
            <a:prstGeom prst="curvedConnector5">
              <a:avLst>
                <a:gd name="adj1" fmla="val 49811"/>
                <a:gd name="adj2" fmla="val 49981"/>
                <a:gd name="adj3" fmla="val 49811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n-Time ABC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85680"/>
            <a:ext cx="79502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bounds for legal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w exception if illeg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429000"/>
            <a:ext cx="7848720" cy="2875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[k] =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f ( k &lt; lower_bound OR k &gt; upper_bound)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hrow ArrayBounds Exception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se 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ind add(list[k]) using Access Function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ssign value of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n-Time Descripto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828800"/>
            <a:ext cx="4295880" cy="1381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Fun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(list[k]) = base_address +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((k - lowbnd)*(element_siz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191120"/>
            <a:ext cx="6095880" cy="1145520"/>
            <a:chOff x="1219320" y="4191120"/>
            <a:chExt cx="6095880" cy="1145520"/>
          </a:xfrm>
        </p:grpSpPr>
        <p:sp>
          <p:nvSpPr>
            <p:cNvPr id="127" name=""/>
            <p:cNvSpPr/>
            <p:nvPr/>
          </p:nvSpPr>
          <p:spPr>
            <a:xfrm>
              <a:off x="121932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ixed-stack dynam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29200" y="4876920"/>
              <a:ext cx="228600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219320" y="3962520"/>
            <a:ext cx="6095880" cy="1831320"/>
            <a:chOff x="1219320" y="3962520"/>
            <a:chExt cx="6095880" cy="1831320"/>
          </a:xfrm>
        </p:grpSpPr>
        <p:sp>
          <p:nvSpPr>
            <p:cNvPr id="130" name=""/>
            <p:cNvSpPr/>
            <p:nvPr/>
          </p:nvSpPr>
          <p:spPr>
            <a:xfrm>
              <a:off x="1219320" y="4724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ck-dynam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53341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p-dynam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3962520"/>
              <a:ext cx="228600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pper B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9200" y="4419720"/>
              <a:ext cx="228600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wer B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80880" y="1905120"/>
            <a:ext cx="388620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 k &lt; lower_bound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 &gt; upper_boun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w 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happens at run-time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iler generates ABC instructions f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ray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two new instructions for each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800600"/>
            <a:ext cx="2819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(j=0; j &lt; 10; j++)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sum += scores[j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81280" y="4343400"/>
            <a:ext cx="4876920" cy="1922760"/>
            <a:chOff x="3581280" y="4343400"/>
            <a:chExt cx="4876920" cy="1922760"/>
          </a:xfrm>
        </p:grpSpPr>
        <p:sp>
          <p:nvSpPr>
            <p:cNvPr id="139" name=""/>
            <p:cNvSpPr/>
            <p:nvPr/>
          </p:nvSpPr>
          <p:spPr>
            <a:xfrm>
              <a:off x="4572000" y="4343400"/>
              <a:ext cx="388620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 (j=0; j &lt; 10; j++)</a:t>
              </a:r>
              <a:br>
                <a:rPr sz="2400"/>
              </a:b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is j &lt; scores.upper_bound?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   is j &gt; score.lower_bound?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sum += scores[j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7" idx="3"/>
              <a:endCxn id="139" idx="1"/>
            </p:cNvCxnSpPr>
            <p:nvPr/>
          </p:nvCxnSpPr>
          <p:spPr>
            <a:xfrm flipV="1">
              <a:off x="3581280" y="5119200"/>
              <a:ext cx="991440" cy="92880"/>
            </a:xfrm>
            <a:prstGeom prst="curvedConnector5">
              <a:avLst>
                <a:gd name="adj1" fmla="val 49981"/>
                <a:gd name="adj2" fmla="val 49805"/>
                <a:gd name="adj3" fmla="val 49981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ptimization Idea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Array Bounds Chec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minate redundant che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va JIT optim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 blocks for encompassing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 checks out of lo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x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nsive during compi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s there a better solution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we have seen the existing solutions to the problem, and their deficien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show a solution using dependent types in ML to eliminate redundant array bounds chec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New Solu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Dependent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in ML, but not language 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 for imperative and functional langu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 for multidimensional arr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y use M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ly ty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ly modif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turn off the array bound checking to make comparisons eas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pendent Typ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ed version of standard type in a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ies extra runtime descriptor 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(M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type:  int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ent type: int list (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compared to Pa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ing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s with Existing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 presented by the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/Disadvantages of paper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981080"/>
            <a:ext cx="8382240" cy="458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sert length &lt;|{n:nat} ‘a array(n) --&gt; int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d sub &lt;| {n:nat} {i:nat | i&lt;n * int(i)--&gt; ‘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 dotprod(v1,v2)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 loop(i, n, sum)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i = n then 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loop(i+1, n,sum + sub(v1,I) * int -&gt; 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loop &lt;|{n:nat} {i:nat | i&lt;=n} int(I) * int(n) *int --&gt;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p(0, length v1,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dotprod&lt;|{p:nat} {q:nat | p&lt;=q} int array(p) *int array(q) --&gt; 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BC v. Dependent Typ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Array Bounds Che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nsive due to comprehensive che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-Conserv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demand che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ent 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type checking enfor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tud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 several programs with and without using the new method on two different machines using different ML comp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d number of checks done and the increase in speed of running the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77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579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Alpha 300/600 using SML of NJ working version 109.32, time unit =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676520"/>
          <a:ext cx="78487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14400" y="6172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 Sparc 20 using MLWorks version 1.0, time unit =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pendent Types: Advantag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s run FAS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hances benefits of static ty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s detected e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endent type checking not at run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ds maintain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y improvement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we achieve these advantag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excessive conservative checks and replace them with on-demand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head changes li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sadvantag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den on the progr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complex programming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conside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 factors (writeability, readabilit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implemented for every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C is essential to reliability of a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C i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dependent types can eliminate need for many costly che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his the best s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need array bounds checking (ABC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g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roblems with array bounds chec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y do we need ABC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mentation fa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com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alid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ier detection of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time and money sp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roblems with ABC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hematical comparisons cost 1/4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sometimes be desirable to not have A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BC Overvie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we know what array bounds checking is, why it is necessary and what the problems are with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:  How is it done currently, how does the paper propose to change the way it is currently done, what are the advantages of this new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xisting Solutio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 your eyes and Pray”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Array Bounds Che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ve run-time che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lution: Ignorance is Blis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Array Bounds Check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, C++, FORT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cy, speed, flex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, 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den is on the Progr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anger In Ignoring ABC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666880"/>
            <a:ext cx="28958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yarray[1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int I=0; I &lt; 10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myarray[I]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j = myarray[10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 &lt;&lt; j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2895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yarray[1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int I=1; I &lt; =10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myarray[I]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133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ing wrong dat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19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riting memory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257800"/>
            <a:ext cx="43434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This is VERY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21:19:33Z</dcterms:created>
  <dc:creator>Tanya Bussom</dc:creator>
  <dc:description/>
  <dc:language>en-US</dc:language>
  <cp:lastModifiedBy>James D. Arthur</cp:lastModifiedBy>
  <dcterms:modified xsi:type="dcterms:W3CDTF">1999-05-03T13:36:45Z</dcterms:modified>
  <cp:revision>18</cp:revision>
  <dc:subject/>
  <dc:title>No Slide Title</dc:title>
</cp:coreProperties>
</file>