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83F-12F0-4B02-8DFB-B1602FF0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553-CF09-442B-A517-438350D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DBF-C1ED-4C61-80A6-98CD642E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092-1C92-4869-8D43-27D2A1AB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E8C-436C-47F9-A743-A6D33A19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038-5DED-4C05-849D-D043ABA6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A623-B5D5-4020-BB0E-ED02DCD8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FF4D-FBF7-4CC8-82D7-DEDB1380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BA3E-03C1-43B3-A112-C6CB61E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BB99-F41D-4856-945C-2CD414E7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E3A6-4B68-457C-871A-E86D353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EC0-3DAB-48B5-A136-D390E1F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9EE-FEB5-413C-8569-49FB037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831-CDC1-47D5-B5D8-AC7BA44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3CCB-3557-4288-96DA-FF8FA8A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FCA-EEAF-4386-811C-4489D278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D1A-9792-459D-8FCB-DBA5B262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0A5-6FC9-4E86-95E9-2115E08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7FD-9EFB-46BF-8F3A-A00D53A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9FF-CF16-4F2D-85D2-854AB2A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4CA-C1D0-468D-8FE1-0CE599F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608-F23F-429A-AC5E-0C232F89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5A6-AED8-4D22-8421-921F7D4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39C-4149-4BAF-BDCE-35C3CB07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36B-5015-4B79-AAAA-9224863B2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5454-47F3-44A8-AB45-2A0B7E262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roject1-3.ppt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project1-3.ppt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: Programming with Pictur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roduction to Visua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ke Pa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brid Text/Visual VP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II : Language Exten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d languages like C and C++ to allow use of text code along with diagram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3CB-D84D-4BBD-9912-5E6C65F06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ming-by-Exam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r graphically “teaches” system how to perform a t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: Rehearsal Wor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FBC-0A49-4B8F-8B60-F524BE2DC0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aint-Oriented VP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pular for simulation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ysical” objects in the visual environment are subject to constraints that mimic natural laws (like grav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: ARK (Alternate Reality Ki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680-8A3C-4A98-AA6A-06844B8CC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a VPL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sual C++, Visual Basic, etc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languages are well-defined linear textual languages that also support 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581-150E-4D85-B461-0C89C20CA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e Visual Langu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ecutable Graphic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am created by manipulating icons or other graphical represen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am compiled directly from its visual re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A6A-F058-40D0-B822-B4D7F031FC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s with Visual Langu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aling Proble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small programs take up lots of display spac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toomuch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F12-61AC-4236-BD3A-A8AF284C4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s with Visual Langu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aming Probl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 defined icons hard to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183996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95480" y="3429000"/>
            <a:ext cx="6248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i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 Halt Command? (An A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 Stop Sign? (An Obj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E18-00F5-44EE-9C8D-E45BBD52B3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VIEW : Graphical Programming for Instrumenta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al : Ease programming tasks for Scientists/Engine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interface structured like real laboratory instru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Interface is “VI” (Virtual Instru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 code is “block diagram” (Wi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A85-6FEF-4ED8-82F4-9A19ED8802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ual Lab Instr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6" name="interface2" descr=""/>
          <p:cNvPicPr/>
          <p:nvPr/>
        </p:nvPicPr>
        <p:blipFill>
          <a:blip r:embed="rId1"/>
          <a:stretch/>
        </p:blipFill>
        <p:spPr>
          <a:xfrm>
            <a:off x="1066680" y="2346480"/>
            <a:ext cx="369108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wiring2" descr=""/>
          <p:cNvPicPr/>
          <p:nvPr/>
        </p:nvPicPr>
        <p:blipFill>
          <a:blip r:embed="rId2"/>
          <a:stretch/>
        </p:blipFill>
        <p:spPr>
          <a:xfrm>
            <a:off x="5486400" y="2346480"/>
            <a:ext cx="2724120" cy="411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52480" y="1638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638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127-D4D2-4D22-BDEF-48B9DF5F0E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ual Lab Instr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1638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1638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wiring1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62200" cy="4267080"/>
          </a:xfrm>
          <a:prstGeom prst="rect">
            <a:avLst/>
          </a:prstGeom>
          <a:ln w="0">
            <a:noFill/>
          </a:ln>
        </p:spPr>
      </p:pic>
      <p:pic>
        <p:nvPicPr>
          <p:cNvPr id="174" name="interface1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04668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A72-DC7E-4CDF-AE1A-4E1346B1C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640" y="1600200"/>
          <a:ext cx="912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600200"/>
                    <a:ext cx="912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F99-9F36-4A62-850B-935E964DF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rtual Lab Instr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6" name="VI-1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38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1676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ont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8A9-2657-4657-9F9B-0963D5BAE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rtual Lab Instr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828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gram1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8001000" cy="35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66F-4B7F-4A20-B777-3E9A1F997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ling Probl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addresses the scaling problem with SubV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VI-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8153280" cy="35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301-C31F-4FBD-88D3-EB991304F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straction with SubV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SUBVI-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815328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45E-5C0A-4E2E-844C-B09D533F53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VI Hierarc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7" name="SUBVI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5324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75B-2F2C-48FE-B4A6-1728E1B804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essment of Lab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lex programming tasks simpli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programs look like real experiment ra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Programming similar to rack constr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bVIEW handles the scaling problem nicely with SubV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195-5FA8-4E25-B0B4-6FE6ED4027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essment of Lab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all icons meaning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for scientists and engine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F85-4EAC-47E5-B6E2-D7B815344F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3" name="dilbert_elb4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371760"/>
          </a:xfrm>
          <a:prstGeom prst="rect">
            <a:avLst/>
          </a:prstGeom>
          <a:ln w="0">
            <a:noFill/>
          </a:ln>
        </p:spPr>
      </p:pic>
      <p:pic>
        <p:nvPicPr>
          <p:cNvPr id="194" name="st_dogbert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048120" cy="26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DEC-00CF-4270-B404-CACD51754D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straction with SubV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6" name="SUBVI-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F52-05A2-4406-B843-67B8DD131A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sual Programming Langu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als with logical objects that have a visual re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lows programming with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visual expre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F4D-FAB5-4FF2-9D9A-0EFCA9C2A9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use a Visual Languag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uman brain visually orien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 information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mages have higher information density than 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asier for non-programmers to 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s computers available to a wider group of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s “look”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51A-61ED-4286-8B44-75753D301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use a Visual Languag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ures are language-independen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mens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136" name="womens" descr=""/>
          <p:cNvPicPr/>
          <p:nvPr/>
        </p:nvPicPr>
        <p:blipFill>
          <a:blip r:embed="rId2"/>
          <a:stretch/>
        </p:blipFill>
        <p:spPr>
          <a:xfrm>
            <a:off x="6019920" y="2895480"/>
            <a:ext cx="2590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CEA-9006-498A-91D0-12F3DC316F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imple Program in CUB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8" name="cube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AA8-F47C-4A6E-AC19-33B867A7A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egories of VP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676520"/>
          <a:ext cx="833904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33904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8D4-F2A5-47F2-934E-5AF2E6B5A9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-Based VP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s spreadsheet metaph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present programming as altering a group of interconnected cells over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: Forms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90D-92C8-4367-A816-393EF3EEFA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brid Text/Visual VP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bines visual &amp; textual el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I : Rehearsal Wor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programs by manipulating graphical “actor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generates a Smalltalk program to impleme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20B-B2D9-4029-BAC7-68819D7052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00:12:36Z</dcterms:created>
  <dc:creator>Michael L. Parks</dc:creator>
  <dc:description/>
  <dc:language>en-US</dc:language>
  <cp:lastModifiedBy>Michael L. Parks</cp:lastModifiedBy>
  <dcterms:modified xsi:type="dcterms:W3CDTF">1999-03-24T05:26:21Z</dcterms:modified>
  <cp:revision>200</cp:revision>
  <dc:subject/>
  <dc:title>Project #2</dc:title>
</cp:coreProperties>
</file>