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-9360"/>
            <a:ext cx="1557360" cy="6878880"/>
            <a:chOff x="0" y="-9360"/>
            <a:chExt cx="1557360" cy="6878880"/>
          </a:xfrm>
        </p:grpSpPr>
        <p:sp>
          <p:nvSpPr>
            <p:cNvPr id="2" name=""/>
            <p:cNvSpPr/>
            <p:nvPr/>
          </p:nvSpPr>
          <p:spPr>
            <a:xfrm>
              <a:off x="719280" y="3414600"/>
              <a:ext cx="1810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184640"/>
              <a:ext cx="546480" cy="1027440"/>
            </a:xfrm>
            <a:custGeom>
              <a:avLst/>
              <a:gdLst/>
              <a:ahLst/>
              <a:rect l="0" t="0" r="r" b="b"/>
              <a:pathLst>
                <a:path w="1518" h="2854">
                  <a:moveTo>
                    <a:pt x="1518" y="229"/>
                  </a:moveTo>
                  <a:lnTo>
                    <a:pt x="1518" y="856"/>
                  </a:lnTo>
                  <a:lnTo>
                    <a:pt x="1483" y="830"/>
                  </a:lnTo>
                  <a:lnTo>
                    <a:pt x="1395" y="830"/>
                  </a:lnTo>
                  <a:lnTo>
                    <a:pt x="1328" y="856"/>
                  </a:lnTo>
                  <a:lnTo>
                    <a:pt x="1258" y="923"/>
                  </a:lnTo>
                  <a:lnTo>
                    <a:pt x="1071" y="1152"/>
                  </a:lnTo>
                  <a:lnTo>
                    <a:pt x="646" y="1617"/>
                  </a:lnTo>
                  <a:lnTo>
                    <a:pt x="221" y="2098"/>
                  </a:lnTo>
                  <a:lnTo>
                    <a:pt x="132" y="2231"/>
                  </a:lnTo>
                  <a:lnTo>
                    <a:pt x="75" y="2363"/>
                  </a:lnTo>
                  <a:lnTo>
                    <a:pt x="44" y="2571"/>
                  </a:lnTo>
                  <a:lnTo>
                    <a:pt x="0" y="2854"/>
                  </a:lnTo>
                  <a:lnTo>
                    <a:pt x="0" y="1613"/>
                  </a:lnTo>
                  <a:lnTo>
                    <a:pt x="22" y="1732"/>
                  </a:lnTo>
                  <a:lnTo>
                    <a:pt x="44" y="1785"/>
                  </a:lnTo>
                  <a:lnTo>
                    <a:pt x="88" y="1811"/>
                  </a:lnTo>
                  <a:lnTo>
                    <a:pt x="132" y="1825"/>
                  </a:lnTo>
                  <a:lnTo>
                    <a:pt x="199" y="1825"/>
                  </a:lnTo>
                  <a:lnTo>
                    <a:pt x="265" y="1798"/>
                  </a:lnTo>
                  <a:lnTo>
                    <a:pt x="1137" y="839"/>
                  </a:lnTo>
                  <a:lnTo>
                    <a:pt x="1315" y="609"/>
                  </a:lnTo>
                  <a:lnTo>
                    <a:pt x="1381" y="490"/>
                  </a:lnTo>
                  <a:lnTo>
                    <a:pt x="1439" y="370"/>
                  </a:lnTo>
                  <a:lnTo>
                    <a:pt x="1483" y="172"/>
                  </a:lnTo>
                  <a:lnTo>
                    <a:pt x="1518" y="0"/>
                  </a:lnTo>
                  <a:lnTo>
                    <a:pt x="1518" y="516"/>
                  </a:lnTo>
                  <a:lnTo>
                    <a:pt x="1518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4616280"/>
              <a:ext cx="546480" cy="1024200"/>
            </a:xfrm>
            <a:custGeom>
              <a:avLst/>
              <a:gdLst/>
              <a:ahLst/>
              <a:rect l="0" t="0" r="r" b="b"/>
              <a:pathLst>
                <a:path w="1518" h="2845">
                  <a:moveTo>
                    <a:pt x="1518" y="229"/>
                  </a:moveTo>
                  <a:lnTo>
                    <a:pt x="1518" y="856"/>
                  </a:lnTo>
                  <a:lnTo>
                    <a:pt x="1483" y="830"/>
                  </a:lnTo>
                  <a:lnTo>
                    <a:pt x="1395" y="830"/>
                  </a:lnTo>
                  <a:lnTo>
                    <a:pt x="1328" y="856"/>
                  </a:lnTo>
                  <a:lnTo>
                    <a:pt x="1258" y="923"/>
                  </a:lnTo>
                  <a:lnTo>
                    <a:pt x="1071" y="1148"/>
                  </a:lnTo>
                  <a:lnTo>
                    <a:pt x="646" y="1613"/>
                  </a:lnTo>
                  <a:lnTo>
                    <a:pt x="221" y="2090"/>
                  </a:lnTo>
                  <a:lnTo>
                    <a:pt x="132" y="2226"/>
                  </a:lnTo>
                  <a:lnTo>
                    <a:pt x="75" y="2359"/>
                  </a:lnTo>
                  <a:lnTo>
                    <a:pt x="44" y="2562"/>
                  </a:lnTo>
                  <a:lnTo>
                    <a:pt x="0" y="2845"/>
                  </a:lnTo>
                  <a:lnTo>
                    <a:pt x="0" y="1608"/>
                  </a:lnTo>
                  <a:lnTo>
                    <a:pt x="22" y="1727"/>
                  </a:lnTo>
                  <a:lnTo>
                    <a:pt x="44" y="1780"/>
                  </a:lnTo>
                  <a:lnTo>
                    <a:pt x="88" y="1807"/>
                  </a:lnTo>
                  <a:lnTo>
                    <a:pt x="132" y="1820"/>
                  </a:lnTo>
                  <a:lnTo>
                    <a:pt x="199" y="1820"/>
                  </a:lnTo>
                  <a:lnTo>
                    <a:pt x="265" y="1794"/>
                  </a:lnTo>
                  <a:lnTo>
                    <a:pt x="1137" y="834"/>
                  </a:lnTo>
                  <a:lnTo>
                    <a:pt x="1315" y="609"/>
                  </a:lnTo>
                  <a:lnTo>
                    <a:pt x="1381" y="490"/>
                  </a:lnTo>
                  <a:lnTo>
                    <a:pt x="1439" y="370"/>
                  </a:lnTo>
                  <a:lnTo>
                    <a:pt x="1483" y="172"/>
                  </a:lnTo>
                  <a:lnTo>
                    <a:pt x="1518" y="0"/>
                  </a:lnTo>
                  <a:lnTo>
                    <a:pt x="1518" y="516"/>
                  </a:lnTo>
                  <a:lnTo>
                    <a:pt x="1518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024520"/>
              <a:ext cx="546480" cy="1024200"/>
            </a:xfrm>
            <a:custGeom>
              <a:avLst/>
              <a:gdLst/>
              <a:ahLst/>
              <a:rect l="0" t="0" r="r" b="b"/>
              <a:pathLst>
                <a:path w="1518" h="2845">
                  <a:moveTo>
                    <a:pt x="1518" y="229"/>
                  </a:moveTo>
                  <a:lnTo>
                    <a:pt x="1518" y="856"/>
                  </a:lnTo>
                  <a:lnTo>
                    <a:pt x="1483" y="830"/>
                  </a:lnTo>
                  <a:lnTo>
                    <a:pt x="1395" y="830"/>
                  </a:lnTo>
                  <a:lnTo>
                    <a:pt x="1328" y="856"/>
                  </a:lnTo>
                  <a:lnTo>
                    <a:pt x="1258" y="923"/>
                  </a:lnTo>
                  <a:lnTo>
                    <a:pt x="1071" y="1148"/>
                  </a:lnTo>
                  <a:lnTo>
                    <a:pt x="646" y="1613"/>
                  </a:lnTo>
                  <a:lnTo>
                    <a:pt x="221" y="2090"/>
                  </a:lnTo>
                  <a:lnTo>
                    <a:pt x="132" y="2226"/>
                  </a:lnTo>
                  <a:lnTo>
                    <a:pt x="75" y="2359"/>
                  </a:lnTo>
                  <a:lnTo>
                    <a:pt x="44" y="2562"/>
                  </a:lnTo>
                  <a:lnTo>
                    <a:pt x="0" y="2845"/>
                  </a:lnTo>
                  <a:lnTo>
                    <a:pt x="0" y="1608"/>
                  </a:lnTo>
                  <a:lnTo>
                    <a:pt x="22" y="1727"/>
                  </a:lnTo>
                  <a:lnTo>
                    <a:pt x="44" y="1780"/>
                  </a:lnTo>
                  <a:lnTo>
                    <a:pt x="88" y="1807"/>
                  </a:lnTo>
                  <a:lnTo>
                    <a:pt x="132" y="1820"/>
                  </a:lnTo>
                  <a:lnTo>
                    <a:pt x="199" y="1820"/>
                  </a:lnTo>
                  <a:lnTo>
                    <a:pt x="265" y="1794"/>
                  </a:lnTo>
                  <a:lnTo>
                    <a:pt x="1137" y="834"/>
                  </a:lnTo>
                  <a:lnTo>
                    <a:pt x="1315" y="609"/>
                  </a:lnTo>
                  <a:lnTo>
                    <a:pt x="1381" y="490"/>
                  </a:lnTo>
                  <a:lnTo>
                    <a:pt x="1439" y="370"/>
                  </a:lnTo>
                  <a:lnTo>
                    <a:pt x="1483" y="172"/>
                  </a:lnTo>
                  <a:lnTo>
                    <a:pt x="1518" y="0"/>
                  </a:lnTo>
                  <a:lnTo>
                    <a:pt x="1518" y="516"/>
                  </a:lnTo>
                  <a:lnTo>
                    <a:pt x="1518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429160"/>
              <a:ext cx="546480" cy="1026000"/>
            </a:xfrm>
            <a:custGeom>
              <a:avLst/>
              <a:gdLst/>
              <a:ahLst/>
              <a:rect l="0" t="0" r="r" b="b"/>
              <a:pathLst>
                <a:path w="1518" h="2850">
                  <a:moveTo>
                    <a:pt x="1518" y="229"/>
                  </a:moveTo>
                  <a:lnTo>
                    <a:pt x="1518" y="857"/>
                  </a:lnTo>
                  <a:lnTo>
                    <a:pt x="1483" y="831"/>
                  </a:lnTo>
                  <a:lnTo>
                    <a:pt x="1395" y="831"/>
                  </a:lnTo>
                  <a:lnTo>
                    <a:pt x="1328" y="857"/>
                  </a:lnTo>
                  <a:lnTo>
                    <a:pt x="1258" y="924"/>
                  </a:lnTo>
                  <a:lnTo>
                    <a:pt x="1071" y="1149"/>
                  </a:lnTo>
                  <a:lnTo>
                    <a:pt x="646" y="1617"/>
                  </a:lnTo>
                  <a:lnTo>
                    <a:pt x="221" y="2094"/>
                  </a:lnTo>
                  <a:lnTo>
                    <a:pt x="132" y="2227"/>
                  </a:lnTo>
                  <a:lnTo>
                    <a:pt x="75" y="2360"/>
                  </a:lnTo>
                  <a:lnTo>
                    <a:pt x="44" y="2568"/>
                  </a:lnTo>
                  <a:lnTo>
                    <a:pt x="0" y="2850"/>
                  </a:lnTo>
                  <a:lnTo>
                    <a:pt x="0" y="1608"/>
                  </a:lnTo>
                  <a:lnTo>
                    <a:pt x="22" y="1727"/>
                  </a:lnTo>
                  <a:lnTo>
                    <a:pt x="44" y="1780"/>
                  </a:lnTo>
                  <a:lnTo>
                    <a:pt x="88" y="1807"/>
                  </a:lnTo>
                  <a:lnTo>
                    <a:pt x="132" y="1820"/>
                  </a:lnTo>
                  <a:lnTo>
                    <a:pt x="199" y="1820"/>
                  </a:lnTo>
                  <a:lnTo>
                    <a:pt x="265" y="1794"/>
                  </a:lnTo>
                  <a:lnTo>
                    <a:pt x="1137" y="835"/>
                  </a:lnTo>
                  <a:lnTo>
                    <a:pt x="1315" y="609"/>
                  </a:lnTo>
                  <a:lnTo>
                    <a:pt x="1381" y="490"/>
                  </a:lnTo>
                  <a:lnTo>
                    <a:pt x="1439" y="370"/>
                  </a:lnTo>
                  <a:lnTo>
                    <a:pt x="1483" y="172"/>
                  </a:lnTo>
                  <a:lnTo>
                    <a:pt x="1518" y="0"/>
                  </a:lnTo>
                  <a:lnTo>
                    <a:pt x="1518" y="516"/>
                  </a:lnTo>
                  <a:lnTo>
                    <a:pt x="1518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2440" y="5837400"/>
              <a:ext cx="546480" cy="1026000"/>
            </a:xfrm>
            <a:custGeom>
              <a:avLst/>
              <a:gdLst/>
              <a:ahLst/>
              <a:rect l="0" t="0" r="r" b="b"/>
              <a:pathLst>
                <a:path w="1518" h="2850">
                  <a:moveTo>
                    <a:pt x="1518" y="229"/>
                  </a:moveTo>
                  <a:lnTo>
                    <a:pt x="1518" y="857"/>
                  </a:lnTo>
                  <a:lnTo>
                    <a:pt x="1483" y="831"/>
                  </a:lnTo>
                  <a:lnTo>
                    <a:pt x="1395" y="831"/>
                  </a:lnTo>
                  <a:lnTo>
                    <a:pt x="1328" y="857"/>
                  </a:lnTo>
                  <a:lnTo>
                    <a:pt x="1258" y="924"/>
                  </a:lnTo>
                  <a:lnTo>
                    <a:pt x="1071" y="1149"/>
                  </a:lnTo>
                  <a:lnTo>
                    <a:pt x="646" y="1617"/>
                  </a:lnTo>
                  <a:lnTo>
                    <a:pt x="221" y="2094"/>
                  </a:lnTo>
                  <a:lnTo>
                    <a:pt x="132" y="2227"/>
                  </a:lnTo>
                  <a:lnTo>
                    <a:pt x="75" y="2360"/>
                  </a:lnTo>
                  <a:lnTo>
                    <a:pt x="44" y="2568"/>
                  </a:lnTo>
                  <a:lnTo>
                    <a:pt x="0" y="2850"/>
                  </a:lnTo>
                  <a:lnTo>
                    <a:pt x="0" y="1608"/>
                  </a:lnTo>
                  <a:lnTo>
                    <a:pt x="22" y="1727"/>
                  </a:lnTo>
                  <a:lnTo>
                    <a:pt x="44" y="1780"/>
                  </a:lnTo>
                  <a:lnTo>
                    <a:pt x="88" y="1807"/>
                  </a:lnTo>
                  <a:lnTo>
                    <a:pt x="132" y="1820"/>
                  </a:lnTo>
                  <a:lnTo>
                    <a:pt x="199" y="1820"/>
                  </a:lnTo>
                  <a:lnTo>
                    <a:pt x="265" y="1794"/>
                  </a:lnTo>
                  <a:lnTo>
                    <a:pt x="1137" y="835"/>
                  </a:lnTo>
                  <a:lnTo>
                    <a:pt x="1315" y="609"/>
                  </a:lnTo>
                  <a:lnTo>
                    <a:pt x="1381" y="490"/>
                  </a:lnTo>
                  <a:lnTo>
                    <a:pt x="1439" y="370"/>
                  </a:lnTo>
                  <a:lnTo>
                    <a:pt x="1483" y="172"/>
                  </a:lnTo>
                  <a:lnTo>
                    <a:pt x="1518" y="0"/>
                  </a:lnTo>
                  <a:lnTo>
                    <a:pt x="1518" y="516"/>
                  </a:lnTo>
                  <a:lnTo>
                    <a:pt x="1518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77720" y="6242040"/>
              <a:ext cx="421200" cy="622800"/>
            </a:xfrm>
            <a:custGeom>
              <a:avLst/>
              <a:gdLst/>
              <a:ahLst/>
              <a:rect l="0" t="0" r="r" b="b"/>
              <a:pathLst>
                <a:path w="1170" h="1730">
                  <a:moveTo>
                    <a:pt x="1170" y="229"/>
                  </a:moveTo>
                  <a:lnTo>
                    <a:pt x="1170" y="858"/>
                  </a:lnTo>
                  <a:lnTo>
                    <a:pt x="1135" y="832"/>
                  </a:lnTo>
                  <a:lnTo>
                    <a:pt x="1046" y="832"/>
                  </a:lnTo>
                  <a:lnTo>
                    <a:pt x="980" y="858"/>
                  </a:lnTo>
                  <a:lnTo>
                    <a:pt x="909" y="924"/>
                  </a:lnTo>
                  <a:lnTo>
                    <a:pt x="718" y="1154"/>
                  </a:lnTo>
                  <a:lnTo>
                    <a:pt x="293" y="1620"/>
                  </a:lnTo>
                  <a:lnTo>
                    <a:pt x="199" y="1730"/>
                  </a:lnTo>
                  <a:lnTo>
                    <a:pt x="0" y="1730"/>
                  </a:lnTo>
                  <a:lnTo>
                    <a:pt x="788" y="840"/>
                  </a:lnTo>
                  <a:lnTo>
                    <a:pt x="966" y="611"/>
                  </a:lnTo>
                  <a:lnTo>
                    <a:pt x="1033" y="491"/>
                  </a:lnTo>
                  <a:lnTo>
                    <a:pt x="1090" y="371"/>
                  </a:lnTo>
                  <a:lnTo>
                    <a:pt x="1135" y="172"/>
                  </a:lnTo>
                  <a:lnTo>
                    <a:pt x="1170" y="0"/>
                  </a:lnTo>
                  <a:lnTo>
                    <a:pt x="1170" y="518"/>
                  </a:lnTo>
                  <a:lnTo>
                    <a:pt x="1170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755880"/>
              <a:ext cx="546480" cy="1024200"/>
            </a:xfrm>
            <a:custGeom>
              <a:avLst/>
              <a:gdLst/>
              <a:ahLst/>
              <a:rect l="0" t="0" r="r" b="b"/>
              <a:pathLst>
                <a:path w="1518" h="2845">
                  <a:moveTo>
                    <a:pt x="1518" y="229"/>
                  </a:moveTo>
                  <a:lnTo>
                    <a:pt x="1518" y="856"/>
                  </a:lnTo>
                  <a:lnTo>
                    <a:pt x="1483" y="830"/>
                  </a:lnTo>
                  <a:lnTo>
                    <a:pt x="1395" y="830"/>
                  </a:lnTo>
                  <a:lnTo>
                    <a:pt x="1328" y="856"/>
                  </a:lnTo>
                  <a:lnTo>
                    <a:pt x="1258" y="923"/>
                  </a:lnTo>
                  <a:lnTo>
                    <a:pt x="1071" y="1148"/>
                  </a:lnTo>
                  <a:lnTo>
                    <a:pt x="646" y="1613"/>
                  </a:lnTo>
                  <a:lnTo>
                    <a:pt x="221" y="2090"/>
                  </a:lnTo>
                  <a:lnTo>
                    <a:pt x="132" y="2226"/>
                  </a:lnTo>
                  <a:lnTo>
                    <a:pt x="75" y="2359"/>
                  </a:lnTo>
                  <a:lnTo>
                    <a:pt x="44" y="2562"/>
                  </a:lnTo>
                  <a:lnTo>
                    <a:pt x="0" y="2845"/>
                  </a:lnTo>
                  <a:lnTo>
                    <a:pt x="0" y="1608"/>
                  </a:lnTo>
                  <a:lnTo>
                    <a:pt x="22" y="1727"/>
                  </a:lnTo>
                  <a:lnTo>
                    <a:pt x="44" y="1780"/>
                  </a:lnTo>
                  <a:lnTo>
                    <a:pt x="88" y="1807"/>
                  </a:lnTo>
                  <a:lnTo>
                    <a:pt x="132" y="1820"/>
                  </a:lnTo>
                  <a:lnTo>
                    <a:pt x="199" y="1820"/>
                  </a:lnTo>
                  <a:lnTo>
                    <a:pt x="265" y="1794"/>
                  </a:lnTo>
                  <a:lnTo>
                    <a:pt x="1137" y="834"/>
                  </a:lnTo>
                  <a:lnTo>
                    <a:pt x="1315" y="609"/>
                  </a:lnTo>
                  <a:lnTo>
                    <a:pt x="1381" y="490"/>
                  </a:lnTo>
                  <a:lnTo>
                    <a:pt x="1439" y="370"/>
                  </a:lnTo>
                  <a:lnTo>
                    <a:pt x="1483" y="172"/>
                  </a:lnTo>
                  <a:lnTo>
                    <a:pt x="1518" y="0"/>
                  </a:lnTo>
                  <a:lnTo>
                    <a:pt x="1518" y="516"/>
                  </a:lnTo>
                  <a:lnTo>
                    <a:pt x="1518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52440" y="3414600"/>
              <a:ext cx="549720" cy="913320"/>
            </a:xfrm>
            <a:custGeom>
              <a:avLst/>
              <a:gdLst/>
              <a:ahLst/>
              <a:rect l="0" t="0" r="r" b="b"/>
              <a:pathLst>
                <a:path w="1527" h="2537">
                  <a:moveTo>
                    <a:pt x="1527" y="0"/>
                  </a:moveTo>
                  <a:lnTo>
                    <a:pt x="1518" y="538"/>
                  </a:lnTo>
                  <a:lnTo>
                    <a:pt x="1487" y="512"/>
                  </a:lnTo>
                  <a:lnTo>
                    <a:pt x="1395" y="512"/>
                  </a:lnTo>
                  <a:lnTo>
                    <a:pt x="1328" y="538"/>
                  </a:lnTo>
                  <a:lnTo>
                    <a:pt x="1262" y="605"/>
                  </a:lnTo>
                  <a:lnTo>
                    <a:pt x="1071" y="831"/>
                  </a:lnTo>
                  <a:lnTo>
                    <a:pt x="646" y="1299"/>
                  </a:lnTo>
                  <a:lnTo>
                    <a:pt x="221" y="1781"/>
                  </a:lnTo>
                  <a:lnTo>
                    <a:pt x="132" y="1914"/>
                  </a:lnTo>
                  <a:lnTo>
                    <a:pt x="75" y="2047"/>
                  </a:lnTo>
                  <a:lnTo>
                    <a:pt x="44" y="2254"/>
                  </a:lnTo>
                  <a:lnTo>
                    <a:pt x="0" y="2537"/>
                  </a:lnTo>
                  <a:lnTo>
                    <a:pt x="0" y="1295"/>
                  </a:lnTo>
                  <a:lnTo>
                    <a:pt x="22" y="1414"/>
                  </a:lnTo>
                  <a:lnTo>
                    <a:pt x="44" y="1467"/>
                  </a:lnTo>
                  <a:lnTo>
                    <a:pt x="88" y="1494"/>
                  </a:lnTo>
                  <a:lnTo>
                    <a:pt x="132" y="1507"/>
                  </a:lnTo>
                  <a:lnTo>
                    <a:pt x="199" y="1507"/>
                  </a:lnTo>
                  <a:lnTo>
                    <a:pt x="265" y="1480"/>
                  </a:lnTo>
                  <a:lnTo>
                    <a:pt x="1137" y="516"/>
                  </a:lnTo>
                  <a:lnTo>
                    <a:pt x="1319" y="291"/>
                  </a:lnTo>
                  <a:lnTo>
                    <a:pt x="1386" y="172"/>
                  </a:lnTo>
                  <a:lnTo>
                    <a:pt x="1443" y="53"/>
                  </a:lnTo>
                  <a:lnTo>
                    <a:pt x="1457" y="0"/>
                  </a:lnTo>
                  <a:lnTo>
                    <a:pt x="1527" y="13"/>
                  </a:lnTo>
                  <a:lnTo>
                    <a:pt x="1518" y="198"/>
                  </a:lnTo>
                  <a:lnTo>
                    <a:pt x="1527" y="0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19280" y="-4680"/>
              <a:ext cx="1810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789120"/>
              <a:ext cx="546480" cy="1026000"/>
            </a:xfrm>
            <a:custGeom>
              <a:avLst/>
              <a:gdLst/>
              <a:ahLst/>
              <a:rect l="0" t="0" r="r" b="b"/>
              <a:pathLst>
                <a:path w="1518" h="2850">
                  <a:moveTo>
                    <a:pt x="1518" y="229"/>
                  </a:moveTo>
                  <a:lnTo>
                    <a:pt x="1518" y="857"/>
                  </a:lnTo>
                  <a:lnTo>
                    <a:pt x="1483" y="831"/>
                  </a:lnTo>
                  <a:lnTo>
                    <a:pt x="1395" y="831"/>
                  </a:lnTo>
                  <a:lnTo>
                    <a:pt x="1328" y="857"/>
                  </a:lnTo>
                  <a:lnTo>
                    <a:pt x="1258" y="924"/>
                  </a:lnTo>
                  <a:lnTo>
                    <a:pt x="1071" y="1149"/>
                  </a:lnTo>
                  <a:lnTo>
                    <a:pt x="646" y="1617"/>
                  </a:lnTo>
                  <a:lnTo>
                    <a:pt x="221" y="2094"/>
                  </a:lnTo>
                  <a:lnTo>
                    <a:pt x="132" y="2227"/>
                  </a:lnTo>
                  <a:lnTo>
                    <a:pt x="75" y="2360"/>
                  </a:lnTo>
                  <a:lnTo>
                    <a:pt x="44" y="2568"/>
                  </a:lnTo>
                  <a:lnTo>
                    <a:pt x="0" y="2850"/>
                  </a:lnTo>
                  <a:lnTo>
                    <a:pt x="0" y="1608"/>
                  </a:lnTo>
                  <a:lnTo>
                    <a:pt x="22" y="1727"/>
                  </a:lnTo>
                  <a:lnTo>
                    <a:pt x="44" y="1780"/>
                  </a:lnTo>
                  <a:lnTo>
                    <a:pt x="88" y="1807"/>
                  </a:lnTo>
                  <a:lnTo>
                    <a:pt x="132" y="1820"/>
                  </a:lnTo>
                  <a:lnTo>
                    <a:pt x="199" y="1820"/>
                  </a:lnTo>
                  <a:lnTo>
                    <a:pt x="265" y="1794"/>
                  </a:lnTo>
                  <a:lnTo>
                    <a:pt x="1137" y="835"/>
                  </a:lnTo>
                  <a:lnTo>
                    <a:pt x="1315" y="609"/>
                  </a:lnTo>
                  <a:lnTo>
                    <a:pt x="1381" y="490"/>
                  </a:lnTo>
                  <a:lnTo>
                    <a:pt x="1439" y="370"/>
                  </a:lnTo>
                  <a:lnTo>
                    <a:pt x="1483" y="172"/>
                  </a:lnTo>
                  <a:lnTo>
                    <a:pt x="1518" y="0"/>
                  </a:lnTo>
                  <a:lnTo>
                    <a:pt x="1518" y="516"/>
                  </a:lnTo>
                  <a:lnTo>
                    <a:pt x="1518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197000"/>
              <a:ext cx="546480" cy="1024200"/>
            </a:xfrm>
            <a:custGeom>
              <a:avLst/>
              <a:gdLst/>
              <a:ahLst/>
              <a:rect l="0" t="0" r="r" b="b"/>
              <a:pathLst>
                <a:path w="1518" h="2845">
                  <a:moveTo>
                    <a:pt x="1518" y="229"/>
                  </a:moveTo>
                  <a:lnTo>
                    <a:pt x="1518" y="856"/>
                  </a:lnTo>
                  <a:lnTo>
                    <a:pt x="1483" y="830"/>
                  </a:lnTo>
                  <a:lnTo>
                    <a:pt x="1395" y="830"/>
                  </a:lnTo>
                  <a:lnTo>
                    <a:pt x="1328" y="856"/>
                  </a:lnTo>
                  <a:lnTo>
                    <a:pt x="1258" y="923"/>
                  </a:lnTo>
                  <a:lnTo>
                    <a:pt x="1071" y="1148"/>
                  </a:lnTo>
                  <a:lnTo>
                    <a:pt x="646" y="1613"/>
                  </a:lnTo>
                  <a:lnTo>
                    <a:pt x="221" y="2090"/>
                  </a:lnTo>
                  <a:lnTo>
                    <a:pt x="132" y="2226"/>
                  </a:lnTo>
                  <a:lnTo>
                    <a:pt x="75" y="2359"/>
                  </a:lnTo>
                  <a:lnTo>
                    <a:pt x="44" y="2562"/>
                  </a:lnTo>
                  <a:lnTo>
                    <a:pt x="0" y="2845"/>
                  </a:lnTo>
                  <a:lnTo>
                    <a:pt x="0" y="1608"/>
                  </a:lnTo>
                  <a:lnTo>
                    <a:pt x="22" y="1727"/>
                  </a:lnTo>
                  <a:lnTo>
                    <a:pt x="44" y="1780"/>
                  </a:lnTo>
                  <a:lnTo>
                    <a:pt x="88" y="1807"/>
                  </a:lnTo>
                  <a:lnTo>
                    <a:pt x="132" y="1820"/>
                  </a:lnTo>
                  <a:lnTo>
                    <a:pt x="199" y="1820"/>
                  </a:lnTo>
                  <a:lnTo>
                    <a:pt x="265" y="1794"/>
                  </a:lnTo>
                  <a:lnTo>
                    <a:pt x="1137" y="834"/>
                  </a:lnTo>
                  <a:lnTo>
                    <a:pt x="1315" y="609"/>
                  </a:lnTo>
                  <a:lnTo>
                    <a:pt x="1381" y="490"/>
                  </a:lnTo>
                  <a:lnTo>
                    <a:pt x="1439" y="370"/>
                  </a:lnTo>
                  <a:lnTo>
                    <a:pt x="1483" y="172"/>
                  </a:lnTo>
                  <a:lnTo>
                    <a:pt x="1518" y="0"/>
                  </a:lnTo>
                  <a:lnTo>
                    <a:pt x="1518" y="516"/>
                  </a:lnTo>
                  <a:lnTo>
                    <a:pt x="1518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1603440"/>
              <a:ext cx="546480" cy="1024200"/>
            </a:xfrm>
            <a:custGeom>
              <a:avLst/>
              <a:gdLst/>
              <a:ahLst/>
              <a:rect l="0" t="0" r="r" b="b"/>
              <a:pathLst>
                <a:path w="1518" h="2845">
                  <a:moveTo>
                    <a:pt x="1518" y="229"/>
                  </a:moveTo>
                  <a:lnTo>
                    <a:pt x="1518" y="856"/>
                  </a:lnTo>
                  <a:lnTo>
                    <a:pt x="1483" y="830"/>
                  </a:lnTo>
                  <a:lnTo>
                    <a:pt x="1395" y="830"/>
                  </a:lnTo>
                  <a:lnTo>
                    <a:pt x="1328" y="856"/>
                  </a:lnTo>
                  <a:lnTo>
                    <a:pt x="1258" y="923"/>
                  </a:lnTo>
                  <a:lnTo>
                    <a:pt x="1071" y="1148"/>
                  </a:lnTo>
                  <a:lnTo>
                    <a:pt x="646" y="1613"/>
                  </a:lnTo>
                  <a:lnTo>
                    <a:pt x="221" y="2090"/>
                  </a:lnTo>
                  <a:lnTo>
                    <a:pt x="132" y="2226"/>
                  </a:lnTo>
                  <a:lnTo>
                    <a:pt x="75" y="2359"/>
                  </a:lnTo>
                  <a:lnTo>
                    <a:pt x="44" y="2562"/>
                  </a:lnTo>
                  <a:lnTo>
                    <a:pt x="0" y="2845"/>
                  </a:lnTo>
                  <a:lnTo>
                    <a:pt x="0" y="1608"/>
                  </a:lnTo>
                  <a:lnTo>
                    <a:pt x="22" y="1727"/>
                  </a:lnTo>
                  <a:lnTo>
                    <a:pt x="44" y="1780"/>
                  </a:lnTo>
                  <a:lnTo>
                    <a:pt x="88" y="1807"/>
                  </a:lnTo>
                  <a:lnTo>
                    <a:pt x="132" y="1820"/>
                  </a:lnTo>
                  <a:lnTo>
                    <a:pt x="199" y="1820"/>
                  </a:lnTo>
                  <a:lnTo>
                    <a:pt x="265" y="1794"/>
                  </a:lnTo>
                  <a:lnTo>
                    <a:pt x="1137" y="834"/>
                  </a:lnTo>
                  <a:lnTo>
                    <a:pt x="1315" y="609"/>
                  </a:lnTo>
                  <a:lnTo>
                    <a:pt x="1381" y="490"/>
                  </a:lnTo>
                  <a:lnTo>
                    <a:pt x="1439" y="370"/>
                  </a:lnTo>
                  <a:lnTo>
                    <a:pt x="1483" y="172"/>
                  </a:lnTo>
                  <a:lnTo>
                    <a:pt x="1518" y="0"/>
                  </a:lnTo>
                  <a:lnTo>
                    <a:pt x="1518" y="516"/>
                  </a:lnTo>
                  <a:lnTo>
                    <a:pt x="1518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009880"/>
              <a:ext cx="546480" cy="1026000"/>
            </a:xfrm>
            <a:custGeom>
              <a:avLst/>
              <a:gdLst/>
              <a:ahLst/>
              <a:rect l="0" t="0" r="r" b="b"/>
              <a:pathLst>
                <a:path w="1518" h="2850">
                  <a:moveTo>
                    <a:pt x="1518" y="229"/>
                  </a:moveTo>
                  <a:lnTo>
                    <a:pt x="1518" y="857"/>
                  </a:lnTo>
                  <a:lnTo>
                    <a:pt x="1483" y="831"/>
                  </a:lnTo>
                  <a:lnTo>
                    <a:pt x="1395" y="831"/>
                  </a:lnTo>
                  <a:lnTo>
                    <a:pt x="1328" y="857"/>
                  </a:lnTo>
                  <a:lnTo>
                    <a:pt x="1258" y="924"/>
                  </a:lnTo>
                  <a:lnTo>
                    <a:pt x="1071" y="1149"/>
                  </a:lnTo>
                  <a:lnTo>
                    <a:pt x="646" y="1617"/>
                  </a:lnTo>
                  <a:lnTo>
                    <a:pt x="221" y="2094"/>
                  </a:lnTo>
                  <a:lnTo>
                    <a:pt x="132" y="2227"/>
                  </a:lnTo>
                  <a:lnTo>
                    <a:pt x="75" y="2360"/>
                  </a:lnTo>
                  <a:lnTo>
                    <a:pt x="44" y="2568"/>
                  </a:lnTo>
                  <a:lnTo>
                    <a:pt x="0" y="2850"/>
                  </a:lnTo>
                  <a:lnTo>
                    <a:pt x="0" y="1608"/>
                  </a:lnTo>
                  <a:lnTo>
                    <a:pt x="22" y="1727"/>
                  </a:lnTo>
                  <a:lnTo>
                    <a:pt x="44" y="1780"/>
                  </a:lnTo>
                  <a:lnTo>
                    <a:pt x="88" y="1807"/>
                  </a:lnTo>
                  <a:lnTo>
                    <a:pt x="132" y="1820"/>
                  </a:lnTo>
                  <a:lnTo>
                    <a:pt x="199" y="1820"/>
                  </a:lnTo>
                  <a:lnTo>
                    <a:pt x="265" y="1794"/>
                  </a:lnTo>
                  <a:lnTo>
                    <a:pt x="1137" y="835"/>
                  </a:lnTo>
                  <a:lnTo>
                    <a:pt x="1315" y="609"/>
                  </a:lnTo>
                  <a:lnTo>
                    <a:pt x="1381" y="490"/>
                  </a:lnTo>
                  <a:lnTo>
                    <a:pt x="1439" y="370"/>
                  </a:lnTo>
                  <a:lnTo>
                    <a:pt x="1483" y="172"/>
                  </a:lnTo>
                  <a:lnTo>
                    <a:pt x="1518" y="0"/>
                  </a:lnTo>
                  <a:lnTo>
                    <a:pt x="1518" y="516"/>
                  </a:lnTo>
                  <a:lnTo>
                    <a:pt x="1518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52440" y="2416320"/>
              <a:ext cx="546480" cy="1027440"/>
            </a:xfrm>
            <a:custGeom>
              <a:avLst/>
              <a:gdLst/>
              <a:ahLst/>
              <a:rect l="0" t="0" r="r" b="b"/>
              <a:pathLst>
                <a:path w="1518" h="2854">
                  <a:moveTo>
                    <a:pt x="1518" y="229"/>
                  </a:moveTo>
                  <a:lnTo>
                    <a:pt x="1518" y="856"/>
                  </a:lnTo>
                  <a:lnTo>
                    <a:pt x="1483" y="830"/>
                  </a:lnTo>
                  <a:lnTo>
                    <a:pt x="1395" y="830"/>
                  </a:lnTo>
                  <a:lnTo>
                    <a:pt x="1328" y="856"/>
                  </a:lnTo>
                  <a:lnTo>
                    <a:pt x="1258" y="923"/>
                  </a:lnTo>
                  <a:lnTo>
                    <a:pt x="1071" y="1152"/>
                  </a:lnTo>
                  <a:lnTo>
                    <a:pt x="646" y="1617"/>
                  </a:lnTo>
                  <a:lnTo>
                    <a:pt x="221" y="2098"/>
                  </a:lnTo>
                  <a:lnTo>
                    <a:pt x="132" y="2231"/>
                  </a:lnTo>
                  <a:lnTo>
                    <a:pt x="75" y="2363"/>
                  </a:lnTo>
                  <a:lnTo>
                    <a:pt x="44" y="2571"/>
                  </a:lnTo>
                  <a:lnTo>
                    <a:pt x="0" y="2854"/>
                  </a:lnTo>
                  <a:lnTo>
                    <a:pt x="0" y="1613"/>
                  </a:lnTo>
                  <a:lnTo>
                    <a:pt x="22" y="1732"/>
                  </a:lnTo>
                  <a:lnTo>
                    <a:pt x="44" y="1785"/>
                  </a:lnTo>
                  <a:lnTo>
                    <a:pt x="88" y="1811"/>
                  </a:lnTo>
                  <a:lnTo>
                    <a:pt x="132" y="1825"/>
                  </a:lnTo>
                  <a:lnTo>
                    <a:pt x="199" y="1825"/>
                  </a:lnTo>
                  <a:lnTo>
                    <a:pt x="265" y="1798"/>
                  </a:lnTo>
                  <a:lnTo>
                    <a:pt x="1137" y="839"/>
                  </a:lnTo>
                  <a:lnTo>
                    <a:pt x="1315" y="609"/>
                  </a:lnTo>
                  <a:lnTo>
                    <a:pt x="1381" y="490"/>
                  </a:lnTo>
                  <a:lnTo>
                    <a:pt x="1439" y="370"/>
                  </a:lnTo>
                  <a:lnTo>
                    <a:pt x="1483" y="172"/>
                  </a:lnTo>
                  <a:lnTo>
                    <a:pt x="1518" y="0"/>
                  </a:lnTo>
                  <a:lnTo>
                    <a:pt x="1518" y="516"/>
                  </a:lnTo>
                  <a:lnTo>
                    <a:pt x="1518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47760" y="6632640"/>
              <a:ext cx="554400" cy="236880"/>
            </a:xfrm>
            <a:custGeom>
              <a:avLst/>
              <a:gdLst/>
              <a:ahLst/>
              <a:rect l="0" t="0" r="r" b="b"/>
              <a:pathLst>
                <a:path w="1540" h="658">
                  <a:moveTo>
                    <a:pt x="1527" y="230"/>
                  </a:moveTo>
                  <a:lnTo>
                    <a:pt x="1540" y="640"/>
                  </a:lnTo>
                  <a:lnTo>
                    <a:pt x="0" y="658"/>
                  </a:lnTo>
                  <a:lnTo>
                    <a:pt x="1324" y="635"/>
                  </a:lnTo>
                  <a:lnTo>
                    <a:pt x="1395" y="493"/>
                  </a:lnTo>
                  <a:lnTo>
                    <a:pt x="1452" y="373"/>
                  </a:lnTo>
                  <a:lnTo>
                    <a:pt x="1496" y="173"/>
                  </a:lnTo>
                  <a:lnTo>
                    <a:pt x="1527" y="0"/>
                  </a:lnTo>
                  <a:lnTo>
                    <a:pt x="1527" y="520"/>
                  </a:lnTo>
                  <a:lnTo>
                    <a:pt x="1527" y="230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334800"/>
              <a:ext cx="546480" cy="1026000"/>
            </a:xfrm>
            <a:custGeom>
              <a:avLst/>
              <a:gdLst/>
              <a:ahLst/>
              <a:rect l="0" t="0" r="r" b="b"/>
              <a:pathLst>
                <a:path w="1518" h="2850">
                  <a:moveTo>
                    <a:pt x="1518" y="229"/>
                  </a:moveTo>
                  <a:lnTo>
                    <a:pt x="1518" y="857"/>
                  </a:lnTo>
                  <a:lnTo>
                    <a:pt x="1483" y="831"/>
                  </a:lnTo>
                  <a:lnTo>
                    <a:pt x="1395" y="831"/>
                  </a:lnTo>
                  <a:lnTo>
                    <a:pt x="1328" y="857"/>
                  </a:lnTo>
                  <a:lnTo>
                    <a:pt x="1258" y="924"/>
                  </a:lnTo>
                  <a:lnTo>
                    <a:pt x="1071" y="1149"/>
                  </a:lnTo>
                  <a:lnTo>
                    <a:pt x="646" y="1617"/>
                  </a:lnTo>
                  <a:lnTo>
                    <a:pt x="221" y="2094"/>
                  </a:lnTo>
                  <a:lnTo>
                    <a:pt x="132" y="2227"/>
                  </a:lnTo>
                  <a:lnTo>
                    <a:pt x="75" y="2360"/>
                  </a:lnTo>
                  <a:lnTo>
                    <a:pt x="44" y="2568"/>
                  </a:lnTo>
                  <a:lnTo>
                    <a:pt x="0" y="2850"/>
                  </a:lnTo>
                  <a:lnTo>
                    <a:pt x="0" y="1608"/>
                  </a:lnTo>
                  <a:lnTo>
                    <a:pt x="22" y="1727"/>
                  </a:lnTo>
                  <a:lnTo>
                    <a:pt x="44" y="1780"/>
                  </a:lnTo>
                  <a:lnTo>
                    <a:pt x="88" y="1807"/>
                  </a:lnTo>
                  <a:lnTo>
                    <a:pt x="132" y="1820"/>
                  </a:lnTo>
                  <a:lnTo>
                    <a:pt x="199" y="1820"/>
                  </a:lnTo>
                  <a:lnTo>
                    <a:pt x="265" y="1794"/>
                  </a:lnTo>
                  <a:lnTo>
                    <a:pt x="1137" y="835"/>
                  </a:lnTo>
                  <a:lnTo>
                    <a:pt x="1315" y="609"/>
                  </a:lnTo>
                  <a:lnTo>
                    <a:pt x="1381" y="490"/>
                  </a:lnTo>
                  <a:lnTo>
                    <a:pt x="1439" y="370"/>
                  </a:lnTo>
                  <a:lnTo>
                    <a:pt x="1483" y="172"/>
                  </a:lnTo>
                  <a:lnTo>
                    <a:pt x="1518" y="0"/>
                  </a:lnTo>
                  <a:lnTo>
                    <a:pt x="1518" y="516"/>
                  </a:lnTo>
                  <a:lnTo>
                    <a:pt x="1518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2440" y="-4680"/>
              <a:ext cx="549720" cy="911520"/>
            </a:xfrm>
            <a:custGeom>
              <a:avLst/>
              <a:gdLst/>
              <a:ahLst/>
              <a:rect l="0" t="0" r="r" b="b"/>
              <a:pathLst>
                <a:path w="1527" h="2532">
                  <a:moveTo>
                    <a:pt x="1527" y="0"/>
                  </a:moveTo>
                  <a:lnTo>
                    <a:pt x="1518" y="538"/>
                  </a:lnTo>
                  <a:lnTo>
                    <a:pt x="1487" y="512"/>
                  </a:lnTo>
                  <a:lnTo>
                    <a:pt x="1395" y="512"/>
                  </a:lnTo>
                  <a:lnTo>
                    <a:pt x="1328" y="538"/>
                  </a:lnTo>
                  <a:lnTo>
                    <a:pt x="1262" y="605"/>
                  </a:lnTo>
                  <a:lnTo>
                    <a:pt x="1071" y="830"/>
                  </a:lnTo>
                  <a:lnTo>
                    <a:pt x="646" y="1299"/>
                  </a:lnTo>
                  <a:lnTo>
                    <a:pt x="221" y="1776"/>
                  </a:lnTo>
                  <a:lnTo>
                    <a:pt x="132" y="1909"/>
                  </a:lnTo>
                  <a:lnTo>
                    <a:pt x="75" y="2041"/>
                  </a:lnTo>
                  <a:lnTo>
                    <a:pt x="44" y="2249"/>
                  </a:lnTo>
                  <a:lnTo>
                    <a:pt x="0" y="2532"/>
                  </a:lnTo>
                  <a:lnTo>
                    <a:pt x="0" y="1290"/>
                  </a:lnTo>
                  <a:lnTo>
                    <a:pt x="22" y="1410"/>
                  </a:lnTo>
                  <a:lnTo>
                    <a:pt x="44" y="1463"/>
                  </a:lnTo>
                  <a:lnTo>
                    <a:pt x="88" y="1489"/>
                  </a:lnTo>
                  <a:lnTo>
                    <a:pt x="132" y="1502"/>
                  </a:lnTo>
                  <a:lnTo>
                    <a:pt x="199" y="1502"/>
                  </a:lnTo>
                  <a:lnTo>
                    <a:pt x="265" y="1476"/>
                  </a:lnTo>
                  <a:lnTo>
                    <a:pt x="1137" y="516"/>
                  </a:lnTo>
                  <a:lnTo>
                    <a:pt x="1319" y="291"/>
                  </a:lnTo>
                  <a:lnTo>
                    <a:pt x="1386" y="172"/>
                  </a:lnTo>
                  <a:lnTo>
                    <a:pt x="1443" y="53"/>
                  </a:lnTo>
                  <a:lnTo>
                    <a:pt x="1457" y="0"/>
                  </a:lnTo>
                  <a:lnTo>
                    <a:pt x="1527" y="13"/>
                  </a:lnTo>
                  <a:lnTo>
                    <a:pt x="1518" y="198"/>
                  </a:lnTo>
                  <a:lnTo>
                    <a:pt x="1527" y="0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5680" y="-9360"/>
              <a:ext cx="244800" cy="466920"/>
            </a:xfrm>
            <a:custGeom>
              <a:avLst/>
              <a:gdLst/>
              <a:ahLst/>
              <a:rect l="0" t="0" r="r" b="b"/>
              <a:pathLst>
                <a:path w="680" h="1297">
                  <a:moveTo>
                    <a:pt x="680" y="13"/>
                  </a:moveTo>
                  <a:lnTo>
                    <a:pt x="221" y="539"/>
                  </a:lnTo>
                  <a:lnTo>
                    <a:pt x="133" y="673"/>
                  </a:lnTo>
                  <a:lnTo>
                    <a:pt x="75" y="806"/>
                  </a:lnTo>
                  <a:lnTo>
                    <a:pt x="44" y="1014"/>
                  </a:lnTo>
                  <a:lnTo>
                    <a:pt x="0" y="1297"/>
                  </a:lnTo>
                  <a:lnTo>
                    <a:pt x="0" y="53"/>
                  </a:lnTo>
                  <a:lnTo>
                    <a:pt x="22" y="172"/>
                  </a:lnTo>
                  <a:lnTo>
                    <a:pt x="44" y="225"/>
                  </a:lnTo>
                  <a:lnTo>
                    <a:pt x="88" y="252"/>
                  </a:lnTo>
                  <a:lnTo>
                    <a:pt x="133" y="265"/>
                  </a:lnTo>
                  <a:lnTo>
                    <a:pt x="199" y="265"/>
                  </a:lnTo>
                  <a:lnTo>
                    <a:pt x="266" y="238"/>
                  </a:lnTo>
                  <a:lnTo>
                    <a:pt x="489" y="0"/>
                  </a:lnTo>
                  <a:lnTo>
                    <a:pt x="680" y="13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52440" y="2851200"/>
              <a:ext cx="546480" cy="1026000"/>
            </a:xfrm>
            <a:custGeom>
              <a:avLst/>
              <a:gdLst/>
              <a:ahLst/>
              <a:rect l="0" t="0" r="r" b="b"/>
              <a:pathLst>
                <a:path w="1518" h="2850">
                  <a:moveTo>
                    <a:pt x="1518" y="229"/>
                  </a:moveTo>
                  <a:lnTo>
                    <a:pt x="1518" y="857"/>
                  </a:lnTo>
                  <a:lnTo>
                    <a:pt x="1483" y="831"/>
                  </a:lnTo>
                  <a:lnTo>
                    <a:pt x="1395" y="831"/>
                  </a:lnTo>
                  <a:lnTo>
                    <a:pt x="1328" y="857"/>
                  </a:lnTo>
                  <a:lnTo>
                    <a:pt x="1258" y="924"/>
                  </a:lnTo>
                  <a:lnTo>
                    <a:pt x="1071" y="1149"/>
                  </a:lnTo>
                  <a:lnTo>
                    <a:pt x="646" y="1617"/>
                  </a:lnTo>
                  <a:lnTo>
                    <a:pt x="221" y="2094"/>
                  </a:lnTo>
                  <a:lnTo>
                    <a:pt x="132" y="2227"/>
                  </a:lnTo>
                  <a:lnTo>
                    <a:pt x="75" y="2360"/>
                  </a:lnTo>
                  <a:lnTo>
                    <a:pt x="44" y="2568"/>
                  </a:lnTo>
                  <a:lnTo>
                    <a:pt x="0" y="2850"/>
                  </a:lnTo>
                  <a:lnTo>
                    <a:pt x="0" y="1608"/>
                  </a:lnTo>
                  <a:lnTo>
                    <a:pt x="22" y="1727"/>
                  </a:lnTo>
                  <a:lnTo>
                    <a:pt x="44" y="1780"/>
                  </a:lnTo>
                  <a:lnTo>
                    <a:pt x="88" y="1807"/>
                  </a:lnTo>
                  <a:lnTo>
                    <a:pt x="132" y="1820"/>
                  </a:lnTo>
                  <a:lnTo>
                    <a:pt x="199" y="1820"/>
                  </a:lnTo>
                  <a:lnTo>
                    <a:pt x="265" y="1794"/>
                  </a:lnTo>
                  <a:lnTo>
                    <a:pt x="1137" y="835"/>
                  </a:lnTo>
                  <a:lnTo>
                    <a:pt x="1315" y="609"/>
                  </a:lnTo>
                  <a:lnTo>
                    <a:pt x="1381" y="490"/>
                  </a:lnTo>
                  <a:lnTo>
                    <a:pt x="1439" y="370"/>
                  </a:lnTo>
                  <a:lnTo>
                    <a:pt x="1483" y="172"/>
                  </a:lnTo>
                  <a:lnTo>
                    <a:pt x="1518" y="0"/>
                  </a:lnTo>
                  <a:lnTo>
                    <a:pt x="1518" y="516"/>
                  </a:lnTo>
                  <a:lnTo>
                    <a:pt x="1518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14200" y="1440"/>
              <a:ext cx="0" cy="6855120"/>
            </a:xfrm>
            <a:prstGeom prst="line">
              <a:avLst/>
            </a:prstGeom>
            <a:ln w="12600">
              <a:solidFill>
                <a:srgbClr val="e5d5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23840" y="1440"/>
              <a:ext cx="0" cy="6855120"/>
            </a:xfrm>
            <a:prstGeom prst="line">
              <a:avLst/>
            </a:prstGeom>
            <a:ln w="12600">
              <a:solidFill>
                <a:srgbClr val="e5d5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0"/>
            <a:ext cx="1557360" cy="6878880"/>
            <a:chOff x="0" y="0"/>
            <a:chExt cx="1557360" cy="6878880"/>
          </a:xfrm>
        </p:grpSpPr>
        <p:sp>
          <p:nvSpPr>
            <p:cNvPr id="71" name=""/>
            <p:cNvSpPr/>
            <p:nvPr/>
          </p:nvSpPr>
          <p:spPr>
            <a:xfrm>
              <a:off x="719280" y="3424320"/>
              <a:ext cx="1810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342432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2440" y="342432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2440" y="4194000"/>
              <a:ext cx="546480" cy="1027440"/>
            </a:xfrm>
            <a:custGeom>
              <a:avLst/>
              <a:gdLst/>
              <a:ahLst/>
              <a:rect l="0" t="0" r="r" b="b"/>
              <a:pathLst>
                <a:path w="1518" h="2854">
                  <a:moveTo>
                    <a:pt x="1518" y="229"/>
                  </a:moveTo>
                  <a:lnTo>
                    <a:pt x="1518" y="856"/>
                  </a:lnTo>
                  <a:lnTo>
                    <a:pt x="1483" y="830"/>
                  </a:lnTo>
                  <a:lnTo>
                    <a:pt x="1395" y="830"/>
                  </a:lnTo>
                  <a:lnTo>
                    <a:pt x="1328" y="856"/>
                  </a:lnTo>
                  <a:lnTo>
                    <a:pt x="1258" y="923"/>
                  </a:lnTo>
                  <a:lnTo>
                    <a:pt x="1071" y="1152"/>
                  </a:lnTo>
                  <a:lnTo>
                    <a:pt x="646" y="1617"/>
                  </a:lnTo>
                  <a:lnTo>
                    <a:pt x="221" y="2098"/>
                  </a:lnTo>
                  <a:lnTo>
                    <a:pt x="132" y="2231"/>
                  </a:lnTo>
                  <a:lnTo>
                    <a:pt x="75" y="2363"/>
                  </a:lnTo>
                  <a:lnTo>
                    <a:pt x="44" y="2571"/>
                  </a:lnTo>
                  <a:lnTo>
                    <a:pt x="0" y="2854"/>
                  </a:lnTo>
                  <a:lnTo>
                    <a:pt x="0" y="1613"/>
                  </a:lnTo>
                  <a:lnTo>
                    <a:pt x="22" y="1732"/>
                  </a:lnTo>
                  <a:lnTo>
                    <a:pt x="44" y="1785"/>
                  </a:lnTo>
                  <a:lnTo>
                    <a:pt x="88" y="1811"/>
                  </a:lnTo>
                  <a:lnTo>
                    <a:pt x="132" y="1825"/>
                  </a:lnTo>
                  <a:lnTo>
                    <a:pt x="199" y="1825"/>
                  </a:lnTo>
                  <a:lnTo>
                    <a:pt x="265" y="1798"/>
                  </a:lnTo>
                  <a:lnTo>
                    <a:pt x="1137" y="839"/>
                  </a:lnTo>
                  <a:lnTo>
                    <a:pt x="1315" y="609"/>
                  </a:lnTo>
                  <a:lnTo>
                    <a:pt x="1381" y="490"/>
                  </a:lnTo>
                  <a:lnTo>
                    <a:pt x="1439" y="370"/>
                  </a:lnTo>
                  <a:lnTo>
                    <a:pt x="1483" y="172"/>
                  </a:lnTo>
                  <a:lnTo>
                    <a:pt x="1518" y="0"/>
                  </a:lnTo>
                  <a:lnTo>
                    <a:pt x="1518" y="516"/>
                  </a:lnTo>
                  <a:lnTo>
                    <a:pt x="1518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4626000"/>
              <a:ext cx="546480" cy="1024200"/>
            </a:xfrm>
            <a:custGeom>
              <a:avLst/>
              <a:gdLst/>
              <a:ahLst/>
              <a:rect l="0" t="0" r="r" b="b"/>
              <a:pathLst>
                <a:path w="1518" h="2845">
                  <a:moveTo>
                    <a:pt x="1518" y="229"/>
                  </a:moveTo>
                  <a:lnTo>
                    <a:pt x="1518" y="856"/>
                  </a:lnTo>
                  <a:lnTo>
                    <a:pt x="1483" y="830"/>
                  </a:lnTo>
                  <a:lnTo>
                    <a:pt x="1395" y="830"/>
                  </a:lnTo>
                  <a:lnTo>
                    <a:pt x="1328" y="856"/>
                  </a:lnTo>
                  <a:lnTo>
                    <a:pt x="1258" y="923"/>
                  </a:lnTo>
                  <a:lnTo>
                    <a:pt x="1071" y="1148"/>
                  </a:lnTo>
                  <a:lnTo>
                    <a:pt x="646" y="1613"/>
                  </a:lnTo>
                  <a:lnTo>
                    <a:pt x="221" y="2090"/>
                  </a:lnTo>
                  <a:lnTo>
                    <a:pt x="132" y="2226"/>
                  </a:lnTo>
                  <a:lnTo>
                    <a:pt x="75" y="2359"/>
                  </a:lnTo>
                  <a:lnTo>
                    <a:pt x="44" y="2562"/>
                  </a:lnTo>
                  <a:lnTo>
                    <a:pt x="0" y="2845"/>
                  </a:lnTo>
                  <a:lnTo>
                    <a:pt x="0" y="1608"/>
                  </a:lnTo>
                  <a:lnTo>
                    <a:pt x="22" y="1727"/>
                  </a:lnTo>
                  <a:lnTo>
                    <a:pt x="44" y="1780"/>
                  </a:lnTo>
                  <a:lnTo>
                    <a:pt x="88" y="1807"/>
                  </a:lnTo>
                  <a:lnTo>
                    <a:pt x="132" y="1820"/>
                  </a:lnTo>
                  <a:lnTo>
                    <a:pt x="199" y="1820"/>
                  </a:lnTo>
                  <a:lnTo>
                    <a:pt x="265" y="1794"/>
                  </a:lnTo>
                  <a:lnTo>
                    <a:pt x="1137" y="834"/>
                  </a:lnTo>
                  <a:lnTo>
                    <a:pt x="1315" y="609"/>
                  </a:lnTo>
                  <a:lnTo>
                    <a:pt x="1381" y="490"/>
                  </a:lnTo>
                  <a:lnTo>
                    <a:pt x="1439" y="370"/>
                  </a:lnTo>
                  <a:lnTo>
                    <a:pt x="1483" y="172"/>
                  </a:lnTo>
                  <a:lnTo>
                    <a:pt x="1518" y="0"/>
                  </a:lnTo>
                  <a:lnTo>
                    <a:pt x="1518" y="516"/>
                  </a:lnTo>
                  <a:lnTo>
                    <a:pt x="1518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2440" y="5033880"/>
              <a:ext cx="546480" cy="1024200"/>
            </a:xfrm>
            <a:custGeom>
              <a:avLst/>
              <a:gdLst/>
              <a:ahLst/>
              <a:rect l="0" t="0" r="r" b="b"/>
              <a:pathLst>
                <a:path w="1518" h="2845">
                  <a:moveTo>
                    <a:pt x="1518" y="229"/>
                  </a:moveTo>
                  <a:lnTo>
                    <a:pt x="1518" y="856"/>
                  </a:lnTo>
                  <a:lnTo>
                    <a:pt x="1483" y="830"/>
                  </a:lnTo>
                  <a:lnTo>
                    <a:pt x="1395" y="830"/>
                  </a:lnTo>
                  <a:lnTo>
                    <a:pt x="1328" y="856"/>
                  </a:lnTo>
                  <a:lnTo>
                    <a:pt x="1258" y="923"/>
                  </a:lnTo>
                  <a:lnTo>
                    <a:pt x="1071" y="1148"/>
                  </a:lnTo>
                  <a:lnTo>
                    <a:pt x="646" y="1613"/>
                  </a:lnTo>
                  <a:lnTo>
                    <a:pt x="221" y="2090"/>
                  </a:lnTo>
                  <a:lnTo>
                    <a:pt x="132" y="2226"/>
                  </a:lnTo>
                  <a:lnTo>
                    <a:pt x="75" y="2359"/>
                  </a:lnTo>
                  <a:lnTo>
                    <a:pt x="44" y="2562"/>
                  </a:lnTo>
                  <a:lnTo>
                    <a:pt x="0" y="2845"/>
                  </a:lnTo>
                  <a:lnTo>
                    <a:pt x="0" y="1608"/>
                  </a:lnTo>
                  <a:lnTo>
                    <a:pt x="22" y="1727"/>
                  </a:lnTo>
                  <a:lnTo>
                    <a:pt x="44" y="1780"/>
                  </a:lnTo>
                  <a:lnTo>
                    <a:pt x="88" y="1807"/>
                  </a:lnTo>
                  <a:lnTo>
                    <a:pt x="132" y="1820"/>
                  </a:lnTo>
                  <a:lnTo>
                    <a:pt x="199" y="1820"/>
                  </a:lnTo>
                  <a:lnTo>
                    <a:pt x="265" y="1794"/>
                  </a:lnTo>
                  <a:lnTo>
                    <a:pt x="1137" y="834"/>
                  </a:lnTo>
                  <a:lnTo>
                    <a:pt x="1315" y="609"/>
                  </a:lnTo>
                  <a:lnTo>
                    <a:pt x="1381" y="490"/>
                  </a:lnTo>
                  <a:lnTo>
                    <a:pt x="1439" y="370"/>
                  </a:lnTo>
                  <a:lnTo>
                    <a:pt x="1483" y="172"/>
                  </a:lnTo>
                  <a:lnTo>
                    <a:pt x="1518" y="0"/>
                  </a:lnTo>
                  <a:lnTo>
                    <a:pt x="1518" y="516"/>
                  </a:lnTo>
                  <a:lnTo>
                    <a:pt x="1518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5438880"/>
              <a:ext cx="546480" cy="1026000"/>
            </a:xfrm>
            <a:custGeom>
              <a:avLst/>
              <a:gdLst/>
              <a:ahLst/>
              <a:rect l="0" t="0" r="r" b="b"/>
              <a:pathLst>
                <a:path w="1518" h="2850">
                  <a:moveTo>
                    <a:pt x="1518" y="229"/>
                  </a:moveTo>
                  <a:lnTo>
                    <a:pt x="1518" y="857"/>
                  </a:lnTo>
                  <a:lnTo>
                    <a:pt x="1483" y="831"/>
                  </a:lnTo>
                  <a:lnTo>
                    <a:pt x="1395" y="831"/>
                  </a:lnTo>
                  <a:lnTo>
                    <a:pt x="1328" y="857"/>
                  </a:lnTo>
                  <a:lnTo>
                    <a:pt x="1258" y="924"/>
                  </a:lnTo>
                  <a:lnTo>
                    <a:pt x="1071" y="1149"/>
                  </a:lnTo>
                  <a:lnTo>
                    <a:pt x="646" y="1617"/>
                  </a:lnTo>
                  <a:lnTo>
                    <a:pt x="221" y="2094"/>
                  </a:lnTo>
                  <a:lnTo>
                    <a:pt x="132" y="2227"/>
                  </a:lnTo>
                  <a:lnTo>
                    <a:pt x="75" y="2360"/>
                  </a:lnTo>
                  <a:lnTo>
                    <a:pt x="44" y="2568"/>
                  </a:lnTo>
                  <a:lnTo>
                    <a:pt x="0" y="2850"/>
                  </a:lnTo>
                  <a:lnTo>
                    <a:pt x="0" y="1608"/>
                  </a:lnTo>
                  <a:lnTo>
                    <a:pt x="22" y="1727"/>
                  </a:lnTo>
                  <a:lnTo>
                    <a:pt x="44" y="1780"/>
                  </a:lnTo>
                  <a:lnTo>
                    <a:pt x="88" y="1807"/>
                  </a:lnTo>
                  <a:lnTo>
                    <a:pt x="132" y="1820"/>
                  </a:lnTo>
                  <a:lnTo>
                    <a:pt x="199" y="1820"/>
                  </a:lnTo>
                  <a:lnTo>
                    <a:pt x="265" y="1794"/>
                  </a:lnTo>
                  <a:lnTo>
                    <a:pt x="1137" y="835"/>
                  </a:lnTo>
                  <a:lnTo>
                    <a:pt x="1315" y="609"/>
                  </a:lnTo>
                  <a:lnTo>
                    <a:pt x="1381" y="490"/>
                  </a:lnTo>
                  <a:lnTo>
                    <a:pt x="1439" y="370"/>
                  </a:lnTo>
                  <a:lnTo>
                    <a:pt x="1483" y="172"/>
                  </a:lnTo>
                  <a:lnTo>
                    <a:pt x="1518" y="0"/>
                  </a:lnTo>
                  <a:lnTo>
                    <a:pt x="1518" y="516"/>
                  </a:lnTo>
                  <a:lnTo>
                    <a:pt x="1518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5846760"/>
              <a:ext cx="546480" cy="1026000"/>
            </a:xfrm>
            <a:custGeom>
              <a:avLst/>
              <a:gdLst/>
              <a:ahLst/>
              <a:rect l="0" t="0" r="r" b="b"/>
              <a:pathLst>
                <a:path w="1518" h="2850">
                  <a:moveTo>
                    <a:pt x="1518" y="229"/>
                  </a:moveTo>
                  <a:lnTo>
                    <a:pt x="1518" y="857"/>
                  </a:lnTo>
                  <a:lnTo>
                    <a:pt x="1483" y="831"/>
                  </a:lnTo>
                  <a:lnTo>
                    <a:pt x="1395" y="831"/>
                  </a:lnTo>
                  <a:lnTo>
                    <a:pt x="1328" y="857"/>
                  </a:lnTo>
                  <a:lnTo>
                    <a:pt x="1258" y="924"/>
                  </a:lnTo>
                  <a:lnTo>
                    <a:pt x="1071" y="1149"/>
                  </a:lnTo>
                  <a:lnTo>
                    <a:pt x="646" y="1617"/>
                  </a:lnTo>
                  <a:lnTo>
                    <a:pt x="221" y="2094"/>
                  </a:lnTo>
                  <a:lnTo>
                    <a:pt x="132" y="2227"/>
                  </a:lnTo>
                  <a:lnTo>
                    <a:pt x="75" y="2360"/>
                  </a:lnTo>
                  <a:lnTo>
                    <a:pt x="44" y="2568"/>
                  </a:lnTo>
                  <a:lnTo>
                    <a:pt x="0" y="2850"/>
                  </a:lnTo>
                  <a:lnTo>
                    <a:pt x="0" y="1608"/>
                  </a:lnTo>
                  <a:lnTo>
                    <a:pt x="22" y="1727"/>
                  </a:lnTo>
                  <a:lnTo>
                    <a:pt x="44" y="1780"/>
                  </a:lnTo>
                  <a:lnTo>
                    <a:pt x="88" y="1807"/>
                  </a:lnTo>
                  <a:lnTo>
                    <a:pt x="132" y="1820"/>
                  </a:lnTo>
                  <a:lnTo>
                    <a:pt x="199" y="1820"/>
                  </a:lnTo>
                  <a:lnTo>
                    <a:pt x="265" y="1794"/>
                  </a:lnTo>
                  <a:lnTo>
                    <a:pt x="1137" y="835"/>
                  </a:lnTo>
                  <a:lnTo>
                    <a:pt x="1315" y="609"/>
                  </a:lnTo>
                  <a:lnTo>
                    <a:pt x="1381" y="490"/>
                  </a:lnTo>
                  <a:lnTo>
                    <a:pt x="1439" y="370"/>
                  </a:lnTo>
                  <a:lnTo>
                    <a:pt x="1483" y="172"/>
                  </a:lnTo>
                  <a:lnTo>
                    <a:pt x="1518" y="0"/>
                  </a:lnTo>
                  <a:lnTo>
                    <a:pt x="1518" y="516"/>
                  </a:lnTo>
                  <a:lnTo>
                    <a:pt x="1518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7720" y="6251400"/>
              <a:ext cx="421200" cy="622800"/>
            </a:xfrm>
            <a:custGeom>
              <a:avLst/>
              <a:gdLst/>
              <a:ahLst/>
              <a:rect l="0" t="0" r="r" b="b"/>
              <a:pathLst>
                <a:path w="1170" h="1730">
                  <a:moveTo>
                    <a:pt x="1170" y="229"/>
                  </a:moveTo>
                  <a:lnTo>
                    <a:pt x="1170" y="858"/>
                  </a:lnTo>
                  <a:lnTo>
                    <a:pt x="1135" y="832"/>
                  </a:lnTo>
                  <a:lnTo>
                    <a:pt x="1046" y="832"/>
                  </a:lnTo>
                  <a:lnTo>
                    <a:pt x="980" y="858"/>
                  </a:lnTo>
                  <a:lnTo>
                    <a:pt x="909" y="924"/>
                  </a:lnTo>
                  <a:lnTo>
                    <a:pt x="718" y="1154"/>
                  </a:lnTo>
                  <a:lnTo>
                    <a:pt x="293" y="1620"/>
                  </a:lnTo>
                  <a:lnTo>
                    <a:pt x="199" y="1730"/>
                  </a:lnTo>
                  <a:lnTo>
                    <a:pt x="0" y="1730"/>
                  </a:lnTo>
                  <a:lnTo>
                    <a:pt x="788" y="840"/>
                  </a:lnTo>
                  <a:lnTo>
                    <a:pt x="966" y="611"/>
                  </a:lnTo>
                  <a:lnTo>
                    <a:pt x="1033" y="491"/>
                  </a:lnTo>
                  <a:lnTo>
                    <a:pt x="1090" y="371"/>
                  </a:lnTo>
                  <a:lnTo>
                    <a:pt x="1135" y="172"/>
                  </a:lnTo>
                  <a:lnTo>
                    <a:pt x="1170" y="0"/>
                  </a:lnTo>
                  <a:lnTo>
                    <a:pt x="1170" y="518"/>
                  </a:lnTo>
                  <a:lnTo>
                    <a:pt x="1170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3765600"/>
              <a:ext cx="546480" cy="1024200"/>
            </a:xfrm>
            <a:custGeom>
              <a:avLst/>
              <a:gdLst/>
              <a:ahLst/>
              <a:rect l="0" t="0" r="r" b="b"/>
              <a:pathLst>
                <a:path w="1518" h="2845">
                  <a:moveTo>
                    <a:pt x="1518" y="229"/>
                  </a:moveTo>
                  <a:lnTo>
                    <a:pt x="1518" y="856"/>
                  </a:lnTo>
                  <a:lnTo>
                    <a:pt x="1483" y="830"/>
                  </a:lnTo>
                  <a:lnTo>
                    <a:pt x="1395" y="830"/>
                  </a:lnTo>
                  <a:lnTo>
                    <a:pt x="1328" y="856"/>
                  </a:lnTo>
                  <a:lnTo>
                    <a:pt x="1258" y="923"/>
                  </a:lnTo>
                  <a:lnTo>
                    <a:pt x="1071" y="1148"/>
                  </a:lnTo>
                  <a:lnTo>
                    <a:pt x="646" y="1613"/>
                  </a:lnTo>
                  <a:lnTo>
                    <a:pt x="221" y="2090"/>
                  </a:lnTo>
                  <a:lnTo>
                    <a:pt x="132" y="2226"/>
                  </a:lnTo>
                  <a:lnTo>
                    <a:pt x="75" y="2359"/>
                  </a:lnTo>
                  <a:lnTo>
                    <a:pt x="44" y="2562"/>
                  </a:lnTo>
                  <a:lnTo>
                    <a:pt x="0" y="2845"/>
                  </a:lnTo>
                  <a:lnTo>
                    <a:pt x="0" y="1608"/>
                  </a:lnTo>
                  <a:lnTo>
                    <a:pt x="22" y="1727"/>
                  </a:lnTo>
                  <a:lnTo>
                    <a:pt x="44" y="1780"/>
                  </a:lnTo>
                  <a:lnTo>
                    <a:pt x="88" y="1807"/>
                  </a:lnTo>
                  <a:lnTo>
                    <a:pt x="132" y="1820"/>
                  </a:lnTo>
                  <a:lnTo>
                    <a:pt x="199" y="1820"/>
                  </a:lnTo>
                  <a:lnTo>
                    <a:pt x="265" y="1794"/>
                  </a:lnTo>
                  <a:lnTo>
                    <a:pt x="1137" y="834"/>
                  </a:lnTo>
                  <a:lnTo>
                    <a:pt x="1315" y="609"/>
                  </a:lnTo>
                  <a:lnTo>
                    <a:pt x="1381" y="490"/>
                  </a:lnTo>
                  <a:lnTo>
                    <a:pt x="1439" y="370"/>
                  </a:lnTo>
                  <a:lnTo>
                    <a:pt x="1483" y="172"/>
                  </a:lnTo>
                  <a:lnTo>
                    <a:pt x="1518" y="0"/>
                  </a:lnTo>
                  <a:lnTo>
                    <a:pt x="1518" y="516"/>
                  </a:lnTo>
                  <a:lnTo>
                    <a:pt x="1518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3424320"/>
              <a:ext cx="549720" cy="913320"/>
            </a:xfrm>
            <a:custGeom>
              <a:avLst/>
              <a:gdLst/>
              <a:ahLst/>
              <a:rect l="0" t="0" r="r" b="b"/>
              <a:pathLst>
                <a:path w="1527" h="2537">
                  <a:moveTo>
                    <a:pt x="1527" y="0"/>
                  </a:moveTo>
                  <a:lnTo>
                    <a:pt x="1518" y="538"/>
                  </a:lnTo>
                  <a:lnTo>
                    <a:pt x="1487" y="512"/>
                  </a:lnTo>
                  <a:lnTo>
                    <a:pt x="1395" y="512"/>
                  </a:lnTo>
                  <a:lnTo>
                    <a:pt x="1328" y="538"/>
                  </a:lnTo>
                  <a:lnTo>
                    <a:pt x="1262" y="605"/>
                  </a:lnTo>
                  <a:lnTo>
                    <a:pt x="1071" y="831"/>
                  </a:lnTo>
                  <a:lnTo>
                    <a:pt x="646" y="1299"/>
                  </a:lnTo>
                  <a:lnTo>
                    <a:pt x="221" y="1781"/>
                  </a:lnTo>
                  <a:lnTo>
                    <a:pt x="132" y="1914"/>
                  </a:lnTo>
                  <a:lnTo>
                    <a:pt x="75" y="2047"/>
                  </a:lnTo>
                  <a:lnTo>
                    <a:pt x="44" y="2254"/>
                  </a:lnTo>
                  <a:lnTo>
                    <a:pt x="0" y="2537"/>
                  </a:lnTo>
                  <a:lnTo>
                    <a:pt x="0" y="1295"/>
                  </a:lnTo>
                  <a:lnTo>
                    <a:pt x="22" y="1414"/>
                  </a:lnTo>
                  <a:lnTo>
                    <a:pt x="44" y="1467"/>
                  </a:lnTo>
                  <a:lnTo>
                    <a:pt x="88" y="1494"/>
                  </a:lnTo>
                  <a:lnTo>
                    <a:pt x="132" y="1507"/>
                  </a:lnTo>
                  <a:lnTo>
                    <a:pt x="199" y="1507"/>
                  </a:lnTo>
                  <a:lnTo>
                    <a:pt x="265" y="1480"/>
                  </a:lnTo>
                  <a:lnTo>
                    <a:pt x="1137" y="516"/>
                  </a:lnTo>
                  <a:lnTo>
                    <a:pt x="1319" y="291"/>
                  </a:lnTo>
                  <a:lnTo>
                    <a:pt x="1386" y="172"/>
                  </a:lnTo>
                  <a:lnTo>
                    <a:pt x="1443" y="53"/>
                  </a:lnTo>
                  <a:lnTo>
                    <a:pt x="1457" y="0"/>
                  </a:lnTo>
                  <a:lnTo>
                    <a:pt x="1527" y="13"/>
                  </a:lnTo>
                  <a:lnTo>
                    <a:pt x="1518" y="198"/>
                  </a:lnTo>
                  <a:lnTo>
                    <a:pt x="1527" y="0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9280" y="4680"/>
              <a:ext cx="1810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2440" y="798480"/>
              <a:ext cx="546480" cy="1026000"/>
            </a:xfrm>
            <a:custGeom>
              <a:avLst/>
              <a:gdLst/>
              <a:ahLst/>
              <a:rect l="0" t="0" r="r" b="b"/>
              <a:pathLst>
                <a:path w="1518" h="2850">
                  <a:moveTo>
                    <a:pt x="1518" y="229"/>
                  </a:moveTo>
                  <a:lnTo>
                    <a:pt x="1518" y="857"/>
                  </a:lnTo>
                  <a:lnTo>
                    <a:pt x="1483" y="831"/>
                  </a:lnTo>
                  <a:lnTo>
                    <a:pt x="1395" y="831"/>
                  </a:lnTo>
                  <a:lnTo>
                    <a:pt x="1328" y="857"/>
                  </a:lnTo>
                  <a:lnTo>
                    <a:pt x="1258" y="924"/>
                  </a:lnTo>
                  <a:lnTo>
                    <a:pt x="1071" y="1149"/>
                  </a:lnTo>
                  <a:lnTo>
                    <a:pt x="646" y="1617"/>
                  </a:lnTo>
                  <a:lnTo>
                    <a:pt x="221" y="2094"/>
                  </a:lnTo>
                  <a:lnTo>
                    <a:pt x="132" y="2227"/>
                  </a:lnTo>
                  <a:lnTo>
                    <a:pt x="75" y="2360"/>
                  </a:lnTo>
                  <a:lnTo>
                    <a:pt x="44" y="2568"/>
                  </a:lnTo>
                  <a:lnTo>
                    <a:pt x="0" y="2850"/>
                  </a:lnTo>
                  <a:lnTo>
                    <a:pt x="0" y="1608"/>
                  </a:lnTo>
                  <a:lnTo>
                    <a:pt x="22" y="1727"/>
                  </a:lnTo>
                  <a:lnTo>
                    <a:pt x="44" y="1780"/>
                  </a:lnTo>
                  <a:lnTo>
                    <a:pt x="88" y="1807"/>
                  </a:lnTo>
                  <a:lnTo>
                    <a:pt x="132" y="1820"/>
                  </a:lnTo>
                  <a:lnTo>
                    <a:pt x="199" y="1820"/>
                  </a:lnTo>
                  <a:lnTo>
                    <a:pt x="265" y="1794"/>
                  </a:lnTo>
                  <a:lnTo>
                    <a:pt x="1137" y="835"/>
                  </a:lnTo>
                  <a:lnTo>
                    <a:pt x="1315" y="609"/>
                  </a:lnTo>
                  <a:lnTo>
                    <a:pt x="1381" y="490"/>
                  </a:lnTo>
                  <a:lnTo>
                    <a:pt x="1439" y="370"/>
                  </a:lnTo>
                  <a:lnTo>
                    <a:pt x="1483" y="172"/>
                  </a:lnTo>
                  <a:lnTo>
                    <a:pt x="1518" y="0"/>
                  </a:lnTo>
                  <a:lnTo>
                    <a:pt x="1518" y="516"/>
                  </a:lnTo>
                  <a:lnTo>
                    <a:pt x="1518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1206360"/>
              <a:ext cx="546480" cy="1024200"/>
            </a:xfrm>
            <a:custGeom>
              <a:avLst/>
              <a:gdLst/>
              <a:ahLst/>
              <a:rect l="0" t="0" r="r" b="b"/>
              <a:pathLst>
                <a:path w="1518" h="2845">
                  <a:moveTo>
                    <a:pt x="1518" y="229"/>
                  </a:moveTo>
                  <a:lnTo>
                    <a:pt x="1518" y="856"/>
                  </a:lnTo>
                  <a:lnTo>
                    <a:pt x="1483" y="830"/>
                  </a:lnTo>
                  <a:lnTo>
                    <a:pt x="1395" y="830"/>
                  </a:lnTo>
                  <a:lnTo>
                    <a:pt x="1328" y="856"/>
                  </a:lnTo>
                  <a:lnTo>
                    <a:pt x="1258" y="923"/>
                  </a:lnTo>
                  <a:lnTo>
                    <a:pt x="1071" y="1148"/>
                  </a:lnTo>
                  <a:lnTo>
                    <a:pt x="646" y="1613"/>
                  </a:lnTo>
                  <a:lnTo>
                    <a:pt x="221" y="2090"/>
                  </a:lnTo>
                  <a:lnTo>
                    <a:pt x="132" y="2226"/>
                  </a:lnTo>
                  <a:lnTo>
                    <a:pt x="75" y="2359"/>
                  </a:lnTo>
                  <a:lnTo>
                    <a:pt x="44" y="2562"/>
                  </a:lnTo>
                  <a:lnTo>
                    <a:pt x="0" y="2845"/>
                  </a:lnTo>
                  <a:lnTo>
                    <a:pt x="0" y="1608"/>
                  </a:lnTo>
                  <a:lnTo>
                    <a:pt x="22" y="1727"/>
                  </a:lnTo>
                  <a:lnTo>
                    <a:pt x="44" y="1780"/>
                  </a:lnTo>
                  <a:lnTo>
                    <a:pt x="88" y="1807"/>
                  </a:lnTo>
                  <a:lnTo>
                    <a:pt x="132" y="1820"/>
                  </a:lnTo>
                  <a:lnTo>
                    <a:pt x="199" y="1820"/>
                  </a:lnTo>
                  <a:lnTo>
                    <a:pt x="265" y="1794"/>
                  </a:lnTo>
                  <a:lnTo>
                    <a:pt x="1137" y="834"/>
                  </a:lnTo>
                  <a:lnTo>
                    <a:pt x="1315" y="609"/>
                  </a:lnTo>
                  <a:lnTo>
                    <a:pt x="1381" y="490"/>
                  </a:lnTo>
                  <a:lnTo>
                    <a:pt x="1439" y="370"/>
                  </a:lnTo>
                  <a:lnTo>
                    <a:pt x="1483" y="172"/>
                  </a:lnTo>
                  <a:lnTo>
                    <a:pt x="1518" y="0"/>
                  </a:lnTo>
                  <a:lnTo>
                    <a:pt x="1518" y="516"/>
                  </a:lnTo>
                  <a:lnTo>
                    <a:pt x="1518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2440" y="1612800"/>
              <a:ext cx="546480" cy="1024200"/>
            </a:xfrm>
            <a:custGeom>
              <a:avLst/>
              <a:gdLst/>
              <a:ahLst/>
              <a:rect l="0" t="0" r="r" b="b"/>
              <a:pathLst>
                <a:path w="1518" h="2845">
                  <a:moveTo>
                    <a:pt x="1518" y="229"/>
                  </a:moveTo>
                  <a:lnTo>
                    <a:pt x="1518" y="856"/>
                  </a:lnTo>
                  <a:lnTo>
                    <a:pt x="1483" y="830"/>
                  </a:lnTo>
                  <a:lnTo>
                    <a:pt x="1395" y="830"/>
                  </a:lnTo>
                  <a:lnTo>
                    <a:pt x="1328" y="856"/>
                  </a:lnTo>
                  <a:lnTo>
                    <a:pt x="1258" y="923"/>
                  </a:lnTo>
                  <a:lnTo>
                    <a:pt x="1071" y="1148"/>
                  </a:lnTo>
                  <a:lnTo>
                    <a:pt x="646" y="1613"/>
                  </a:lnTo>
                  <a:lnTo>
                    <a:pt x="221" y="2090"/>
                  </a:lnTo>
                  <a:lnTo>
                    <a:pt x="132" y="2226"/>
                  </a:lnTo>
                  <a:lnTo>
                    <a:pt x="75" y="2359"/>
                  </a:lnTo>
                  <a:lnTo>
                    <a:pt x="44" y="2562"/>
                  </a:lnTo>
                  <a:lnTo>
                    <a:pt x="0" y="2845"/>
                  </a:lnTo>
                  <a:lnTo>
                    <a:pt x="0" y="1608"/>
                  </a:lnTo>
                  <a:lnTo>
                    <a:pt x="22" y="1727"/>
                  </a:lnTo>
                  <a:lnTo>
                    <a:pt x="44" y="1780"/>
                  </a:lnTo>
                  <a:lnTo>
                    <a:pt x="88" y="1807"/>
                  </a:lnTo>
                  <a:lnTo>
                    <a:pt x="132" y="1820"/>
                  </a:lnTo>
                  <a:lnTo>
                    <a:pt x="199" y="1820"/>
                  </a:lnTo>
                  <a:lnTo>
                    <a:pt x="265" y="1794"/>
                  </a:lnTo>
                  <a:lnTo>
                    <a:pt x="1137" y="834"/>
                  </a:lnTo>
                  <a:lnTo>
                    <a:pt x="1315" y="609"/>
                  </a:lnTo>
                  <a:lnTo>
                    <a:pt x="1381" y="490"/>
                  </a:lnTo>
                  <a:lnTo>
                    <a:pt x="1439" y="370"/>
                  </a:lnTo>
                  <a:lnTo>
                    <a:pt x="1483" y="172"/>
                  </a:lnTo>
                  <a:lnTo>
                    <a:pt x="1518" y="0"/>
                  </a:lnTo>
                  <a:lnTo>
                    <a:pt x="1518" y="516"/>
                  </a:lnTo>
                  <a:lnTo>
                    <a:pt x="1518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2019240"/>
              <a:ext cx="546480" cy="1026000"/>
            </a:xfrm>
            <a:custGeom>
              <a:avLst/>
              <a:gdLst/>
              <a:ahLst/>
              <a:rect l="0" t="0" r="r" b="b"/>
              <a:pathLst>
                <a:path w="1518" h="2850">
                  <a:moveTo>
                    <a:pt x="1518" y="229"/>
                  </a:moveTo>
                  <a:lnTo>
                    <a:pt x="1518" y="857"/>
                  </a:lnTo>
                  <a:lnTo>
                    <a:pt x="1483" y="831"/>
                  </a:lnTo>
                  <a:lnTo>
                    <a:pt x="1395" y="831"/>
                  </a:lnTo>
                  <a:lnTo>
                    <a:pt x="1328" y="857"/>
                  </a:lnTo>
                  <a:lnTo>
                    <a:pt x="1258" y="924"/>
                  </a:lnTo>
                  <a:lnTo>
                    <a:pt x="1071" y="1149"/>
                  </a:lnTo>
                  <a:lnTo>
                    <a:pt x="646" y="1617"/>
                  </a:lnTo>
                  <a:lnTo>
                    <a:pt x="221" y="2094"/>
                  </a:lnTo>
                  <a:lnTo>
                    <a:pt x="132" y="2227"/>
                  </a:lnTo>
                  <a:lnTo>
                    <a:pt x="75" y="2360"/>
                  </a:lnTo>
                  <a:lnTo>
                    <a:pt x="44" y="2568"/>
                  </a:lnTo>
                  <a:lnTo>
                    <a:pt x="0" y="2850"/>
                  </a:lnTo>
                  <a:lnTo>
                    <a:pt x="0" y="1608"/>
                  </a:lnTo>
                  <a:lnTo>
                    <a:pt x="22" y="1727"/>
                  </a:lnTo>
                  <a:lnTo>
                    <a:pt x="44" y="1780"/>
                  </a:lnTo>
                  <a:lnTo>
                    <a:pt x="88" y="1807"/>
                  </a:lnTo>
                  <a:lnTo>
                    <a:pt x="132" y="1820"/>
                  </a:lnTo>
                  <a:lnTo>
                    <a:pt x="199" y="1820"/>
                  </a:lnTo>
                  <a:lnTo>
                    <a:pt x="265" y="1794"/>
                  </a:lnTo>
                  <a:lnTo>
                    <a:pt x="1137" y="835"/>
                  </a:lnTo>
                  <a:lnTo>
                    <a:pt x="1315" y="609"/>
                  </a:lnTo>
                  <a:lnTo>
                    <a:pt x="1381" y="490"/>
                  </a:lnTo>
                  <a:lnTo>
                    <a:pt x="1439" y="370"/>
                  </a:lnTo>
                  <a:lnTo>
                    <a:pt x="1483" y="172"/>
                  </a:lnTo>
                  <a:lnTo>
                    <a:pt x="1518" y="0"/>
                  </a:lnTo>
                  <a:lnTo>
                    <a:pt x="1518" y="516"/>
                  </a:lnTo>
                  <a:lnTo>
                    <a:pt x="1518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2425680"/>
              <a:ext cx="546480" cy="1027440"/>
            </a:xfrm>
            <a:custGeom>
              <a:avLst/>
              <a:gdLst/>
              <a:ahLst/>
              <a:rect l="0" t="0" r="r" b="b"/>
              <a:pathLst>
                <a:path w="1518" h="2854">
                  <a:moveTo>
                    <a:pt x="1518" y="229"/>
                  </a:moveTo>
                  <a:lnTo>
                    <a:pt x="1518" y="856"/>
                  </a:lnTo>
                  <a:lnTo>
                    <a:pt x="1483" y="830"/>
                  </a:lnTo>
                  <a:lnTo>
                    <a:pt x="1395" y="830"/>
                  </a:lnTo>
                  <a:lnTo>
                    <a:pt x="1328" y="856"/>
                  </a:lnTo>
                  <a:lnTo>
                    <a:pt x="1258" y="923"/>
                  </a:lnTo>
                  <a:lnTo>
                    <a:pt x="1071" y="1152"/>
                  </a:lnTo>
                  <a:lnTo>
                    <a:pt x="646" y="1617"/>
                  </a:lnTo>
                  <a:lnTo>
                    <a:pt x="221" y="2098"/>
                  </a:lnTo>
                  <a:lnTo>
                    <a:pt x="132" y="2231"/>
                  </a:lnTo>
                  <a:lnTo>
                    <a:pt x="75" y="2363"/>
                  </a:lnTo>
                  <a:lnTo>
                    <a:pt x="44" y="2571"/>
                  </a:lnTo>
                  <a:lnTo>
                    <a:pt x="0" y="2854"/>
                  </a:lnTo>
                  <a:lnTo>
                    <a:pt x="0" y="1613"/>
                  </a:lnTo>
                  <a:lnTo>
                    <a:pt x="22" y="1732"/>
                  </a:lnTo>
                  <a:lnTo>
                    <a:pt x="44" y="1785"/>
                  </a:lnTo>
                  <a:lnTo>
                    <a:pt x="88" y="1811"/>
                  </a:lnTo>
                  <a:lnTo>
                    <a:pt x="132" y="1825"/>
                  </a:lnTo>
                  <a:lnTo>
                    <a:pt x="199" y="1825"/>
                  </a:lnTo>
                  <a:lnTo>
                    <a:pt x="265" y="1798"/>
                  </a:lnTo>
                  <a:lnTo>
                    <a:pt x="1137" y="839"/>
                  </a:lnTo>
                  <a:lnTo>
                    <a:pt x="1315" y="609"/>
                  </a:lnTo>
                  <a:lnTo>
                    <a:pt x="1381" y="490"/>
                  </a:lnTo>
                  <a:lnTo>
                    <a:pt x="1439" y="370"/>
                  </a:lnTo>
                  <a:lnTo>
                    <a:pt x="1483" y="172"/>
                  </a:lnTo>
                  <a:lnTo>
                    <a:pt x="1518" y="0"/>
                  </a:lnTo>
                  <a:lnTo>
                    <a:pt x="1518" y="516"/>
                  </a:lnTo>
                  <a:lnTo>
                    <a:pt x="1518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7760" y="6642000"/>
              <a:ext cx="554400" cy="236880"/>
            </a:xfrm>
            <a:custGeom>
              <a:avLst/>
              <a:gdLst/>
              <a:ahLst/>
              <a:rect l="0" t="0" r="r" b="b"/>
              <a:pathLst>
                <a:path w="1540" h="658">
                  <a:moveTo>
                    <a:pt x="1527" y="230"/>
                  </a:moveTo>
                  <a:lnTo>
                    <a:pt x="1540" y="640"/>
                  </a:lnTo>
                  <a:lnTo>
                    <a:pt x="0" y="658"/>
                  </a:lnTo>
                  <a:lnTo>
                    <a:pt x="1324" y="635"/>
                  </a:lnTo>
                  <a:lnTo>
                    <a:pt x="1395" y="493"/>
                  </a:lnTo>
                  <a:lnTo>
                    <a:pt x="1452" y="373"/>
                  </a:lnTo>
                  <a:lnTo>
                    <a:pt x="1496" y="173"/>
                  </a:lnTo>
                  <a:lnTo>
                    <a:pt x="1527" y="0"/>
                  </a:lnTo>
                  <a:lnTo>
                    <a:pt x="1527" y="520"/>
                  </a:lnTo>
                  <a:lnTo>
                    <a:pt x="1527" y="230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344520"/>
              <a:ext cx="546480" cy="1026000"/>
            </a:xfrm>
            <a:custGeom>
              <a:avLst/>
              <a:gdLst/>
              <a:ahLst/>
              <a:rect l="0" t="0" r="r" b="b"/>
              <a:pathLst>
                <a:path w="1518" h="2850">
                  <a:moveTo>
                    <a:pt x="1518" y="229"/>
                  </a:moveTo>
                  <a:lnTo>
                    <a:pt x="1518" y="857"/>
                  </a:lnTo>
                  <a:lnTo>
                    <a:pt x="1483" y="831"/>
                  </a:lnTo>
                  <a:lnTo>
                    <a:pt x="1395" y="831"/>
                  </a:lnTo>
                  <a:lnTo>
                    <a:pt x="1328" y="857"/>
                  </a:lnTo>
                  <a:lnTo>
                    <a:pt x="1258" y="924"/>
                  </a:lnTo>
                  <a:lnTo>
                    <a:pt x="1071" y="1149"/>
                  </a:lnTo>
                  <a:lnTo>
                    <a:pt x="646" y="1617"/>
                  </a:lnTo>
                  <a:lnTo>
                    <a:pt x="221" y="2094"/>
                  </a:lnTo>
                  <a:lnTo>
                    <a:pt x="132" y="2227"/>
                  </a:lnTo>
                  <a:lnTo>
                    <a:pt x="75" y="2360"/>
                  </a:lnTo>
                  <a:lnTo>
                    <a:pt x="44" y="2568"/>
                  </a:lnTo>
                  <a:lnTo>
                    <a:pt x="0" y="2850"/>
                  </a:lnTo>
                  <a:lnTo>
                    <a:pt x="0" y="1608"/>
                  </a:lnTo>
                  <a:lnTo>
                    <a:pt x="22" y="1727"/>
                  </a:lnTo>
                  <a:lnTo>
                    <a:pt x="44" y="1780"/>
                  </a:lnTo>
                  <a:lnTo>
                    <a:pt x="88" y="1807"/>
                  </a:lnTo>
                  <a:lnTo>
                    <a:pt x="132" y="1820"/>
                  </a:lnTo>
                  <a:lnTo>
                    <a:pt x="199" y="1820"/>
                  </a:lnTo>
                  <a:lnTo>
                    <a:pt x="265" y="1794"/>
                  </a:lnTo>
                  <a:lnTo>
                    <a:pt x="1137" y="835"/>
                  </a:lnTo>
                  <a:lnTo>
                    <a:pt x="1315" y="609"/>
                  </a:lnTo>
                  <a:lnTo>
                    <a:pt x="1381" y="490"/>
                  </a:lnTo>
                  <a:lnTo>
                    <a:pt x="1439" y="370"/>
                  </a:lnTo>
                  <a:lnTo>
                    <a:pt x="1483" y="172"/>
                  </a:lnTo>
                  <a:lnTo>
                    <a:pt x="1518" y="0"/>
                  </a:lnTo>
                  <a:lnTo>
                    <a:pt x="1518" y="516"/>
                  </a:lnTo>
                  <a:lnTo>
                    <a:pt x="1518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4680"/>
              <a:ext cx="549720" cy="911520"/>
            </a:xfrm>
            <a:custGeom>
              <a:avLst/>
              <a:gdLst/>
              <a:ahLst/>
              <a:rect l="0" t="0" r="r" b="b"/>
              <a:pathLst>
                <a:path w="1527" h="2532">
                  <a:moveTo>
                    <a:pt x="1527" y="0"/>
                  </a:moveTo>
                  <a:lnTo>
                    <a:pt x="1518" y="538"/>
                  </a:lnTo>
                  <a:lnTo>
                    <a:pt x="1487" y="512"/>
                  </a:lnTo>
                  <a:lnTo>
                    <a:pt x="1395" y="512"/>
                  </a:lnTo>
                  <a:lnTo>
                    <a:pt x="1328" y="538"/>
                  </a:lnTo>
                  <a:lnTo>
                    <a:pt x="1262" y="605"/>
                  </a:lnTo>
                  <a:lnTo>
                    <a:pt x="1071" y="830"/>
                  </a:lnTo>
                  <a:lnTo>
                    <a:pt x="646" y="1299"/>
                  </a:lnTo>
                  <a:lnTo>
                    <a:pt x="221" y="1776"/>
                  </a:lnTo>
                  <a:lnTo>
                    <a:pt x="132" y="1909"/>
                  </a:lnTo>
                  <a:lnTo>
                    <a:pt x="75" y="2041"/>
                  </a:lnTo>
                  <a:lnTo>
                    <a:pt x="44" y="2249"/>
                  </a:lnTo>
                  <a:lnTo>
                    <a:pt x="0" y="2532"/>
                  </a:lnTo>
                  <a:lnTo>
                    <a:pt x="0" y="1290"/>
                  </a:lnTo>
                  <a:lnTo>
                    <a:pt x="22" y="1410"/>
                  </a:lnTo>
                  <a:lnTo>
                    <a:pt x="44" y="1463"/>
                  </a:lnTo>
                  <a:lnTo>
                    <a:pt x="88" y="1489"/>
                  </a:lnTo>
                  <a:lnTo>
                    <a:pt x="132" y="1502"/>
                  </a:lnTo>
                  <a:lnTo>
                    <a:pt x="199" y="1502"/>
                  </a:lnTo>
                  <a:lnTo>
                    <a:pt x="265" y="1476"/>
                  </a:lnTo>
                  <a:lnTo>
                    <a:pt x="1137" y="516"/>
                  </a:lnTo>
                  <a:lnTo>
                    <a:pt x="1319" y="291"/>
                  </a:lnTo>
                  <a:lnTo>
                    <a:pt x="1386" y="172"/>
                  </a:lnTo>
                  <a:lnTo>
                    <a:pt x="1443" y="53"/>
                  </a:lnTo>
                  <a:lnTo>
                    <a:pt x="1457" y="0"/>
                  </a:lnTo>
                  <a:lnTo>
                    <a:pt x="1527" y="13"/>
                  </a:lnTo>
                  <a:lnTo>
                    <a:pt x="1518" y="198"/>
                  </a:lnTo>
                  <a:lnTo>
                    <a:pt x="1527" y="0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5680" y="0"/>
              <a:ext cx="244800" cy="466920"/>
            </a:xfrm>
            <a:custGeom>
              <a:avLst/>
              <a:gdLst/>
              <a:ahLst/>
              <a:rect l="0" t="0" r="r" b="b"/>
              <a:pathLst>
                <a:path w="680" h="1297">
                  <a:moveTo>
                    <a:pt x="680" y="13"/>
                  </a:moveTo>
                  <a:lnTo>
                    <a:pt x="221" y="539"/>
                  </a:lnTo>
                  <a:lnTo>
                    <a:pt x="133" y="673"/>
                  </a:lnTo>
                  <a:lnTo>
                    <a:pt x="75" y="806"/>
                  </a:lnTo>
                  <a:lnTo>
                    <a:pt x="44" y="1014"/>
                  </a:lnTo>
                  <a:lnTo>
                    <a:pt x="0" y="1297"/>
                  </a:lnTo>
                  <a:lnTo>
                    <a:pt x="0" y="53"/>
                  </a:lnTo>
                  <a:lnTo>
                    <a:pt x="22" y="172"/>
                  </a:lnTo>
                  <a:lnTo>
                    <a:pt x="44" y="225"/>
                  </a:lnTo>
                  <a:lnTo>
                    <a:pt x="88" y="252"/>
                  </a:lnTo>
                  <a:lnTo>
                    <a:pt x="133" y="265"/>
                  </a:lnTo>
                  <a:lnTo>
                    <a:pt x="199" y="265"/>
                  </a:lnTo>
                  <a:lnTo>
                    <a:pt x="266" y="238"/>
                  </a:lnTo>
                  <a:lnTo>
                    <a:pt x="489" y="0"/>
                  </a:lnTo>
                  <a:lnTo>
                    <a:pt x="680" y="13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2860560"/>
              <a:ext cx="546480" cy="1026000"/>
            </a:xfrm>
            <a:custGeom>
              <a:avLst/>
              <a:gdLst/>
              <a:ahLst/>
              <a:rect l="0" t="0" r="r" b="b"/>
              <a:pathLst>
                <a:path w="1518" h="2850">
                  <a:moveTo>
                    <a:pt x="1518" y="229"/>
                  </a:moveTo>
                  <a:lnTo>
                    <a:pt x="1518" y="857"/>
                  </a:lnTo>
                  <a:lnTo>
                    <a:pt x="1483" y="831"/>
                  </a:lnTo>
                  <a:lnTo>
                    <a:pt x="1395" y="831"/>
                  </a:lnTo>
                  <a:lnTo>
                    <a:pt x="1328" y="857"/>
                  </a:lnTo>
                  <a:lnTo>
                    <a:pt x="1258" y="924"/>
                  </a:lnTo>
                  <a:lnTo>
                    <a:pt x="1071" y="1149"/>
                  </a:lnTo>
                  <a:lnTo>
                    <a:pt x="646" y="1617"/>
                  </a:lnTo>
                  <a:lnTo>
                    <a:pt x="221" y="2094"/>
                  </a:lnTo>
                  <a:lnTo>
                    <a:pt x="132" y="2227"/>
                  </a:lnTo>
                  <a:lnTo>
                    <a:pt x="75" y="2360"/>
                  </a:lnTo>
                  <a:lnTo>
                    <a:pt x="44" y="2568"/>
                  </a:lnTo>
                  <a:lnTo>
                    <a:pt x="0" y="2850"/>
                  </a:lnTo>
                  <a:lnTo>
                    <a:pt x="0" y="1608"/>
                  </a:lnTo>
                  <a:lnTo>
                    <a:pt x="22" y="1727"/>
                  </a:lnTo>
                  <a:lnTo>
                    <a:pt x="44" y="1780"/>
                  </a:lnTo>
                  <a:lnTo>
                    <a:pt x="88" y="1807"/>
                  </a:lnTo>
                  <a:lnTo>
                    <a:pt x="132" y="1820"/>
                  </a:lnTo>
                  <a:lnTo>
                    <a:pt x="199" y="1820"/>
                  </a:lnTo>
                  <a:lnTo>
                    <a:pt x="265" y="1794"/>
                  </a:lnTo>
                  <a:lnTo>
                    <a:pt x="1137" y="835"/>
                  </a:lnTo>
                  <a:lnTo>
                    <a:pt x="1315" y="609"/>
                  </a:lnTo>
                  <a:lnTo>
                    <a:pt x="1381" y="490"/>
                  </a:lnTo>
                  <a:lnTo>
                    <a:pt x="1439" y="370"/>
                  </a:lnTo>
                  <a:lnTo>
                    <a:pt x="1483" y="172"/>
                  </a:lnTo>
                  <a:lnTo>
                    <a:pt x="1518" y="0"/>
                  </a:lnTo>
                  <a:lnTo>
                    <a:pt x="1518" y="516"/>
                  </a:lnTo>
                  <a:lnTo>
                    <a:pt x="1518" y="229"/>
                  </a:lnTo>
                  <a:close/>
                </a:path>
              </a:pathLst>
            </a:custGeom>
            <a:gradFill rotWithShape="0">
              <a:gsLst>
                <a:gs pos="0">
                  <a:srgbClr val="6a6240"/>
                </a:gs>
                <a:gs pos="50000">
                  <a:srgbClr val="e5d58a"/>
                </a:gs>
                <a:gs pos="100000">
                  <a:srgbClr val="6a624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4200" y="11160"/>
              <a:ext cx="0" cy="6854760"/>
            </a:xfrm>
            <a:prstGeom prst="line">
              <a:avLst/>
            </a:prstGeom>
            <a:ln w="12600">
              <a:solidFill>
                <a:srgbClr val="e5d5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23840" y="11160"/>
              <a:ext cx="0" cy="6854760"/>
            </a:xfrm>
            <a:prstGeom prst="line">
              <a:avLst/>
            </a:prstGeom>
            <a:ln w="12600">
              <a:solidFill>
                <a:srgbClr val="e5d5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1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23800" y="1611360"/>
              <a:ext cx="1713240" cy="1683000"/>
              <a:chOff x="523800" y="1611360"/>
              <a:chExt cx="1713240" cy="16830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523800" y="1611360"/>
                <a:ext cx="1713240" cy="1683000"/>
                <a:chOff x="523800" y="1611360"/>
                <a:chExt cx="1713240" cy="1683000"/>
              </a:xfrm>
            </p:grpSpPr>
            <p:grpSp>
              <p:nvGrpSpPr>
                <p:cNvPr id="104" name=""/>
                <p:cNvGrpSpPr/>
                <p:nvPr/>
              </p:nvGrpSpPr>
              <p:grpSpPr>
                <a:xfrm>
                  <a:off x="523800" y="1611360"/>
                  <a:ext cx="1713240" cy="1683000"/>
                  <a:chOff x="523800" y="1611360"/>
                  <a:chExt cx="1713240" cy="1683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>
                    <a:off x="528480" y="3032280"/>
                    <a:ext cx="1704960" cy="2620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240"/>
                      </a:gs>
                    </a:gsLst>
                    <a:lin ang="5400000"/>
                  </a:gra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528480" y="1611360"/>
                    <a:ext cx="1704960" cy="2620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2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523800" y="1627200"/>
                    <a:ext cx="295560" cy="1632240"/>
                  </a:xfrm>
                  <a:custGeom>
                    <a:avLst/>
                    <a:gdLst/>
                    <a:ahLst/>
                    <a:rect l="0" t="0" r="r" b="b"/>
                    <a:pathLst>
                      <a:path w="821" h="4534">
                        <a:moveTo>
                          <a:pt x="0" y="0"/>
                        </a:moveTo>
                        <a:lnTo>
                          <a:pt x="246" y="4534"/>
                        </a:lnTo>
                        <a:lnTo>
                          <a:pt x="575" y="4534"/>
                        </a:lnTo>
                        <a:lnTo>
                          <a:pt x="82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2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1941480" y="1611360"/>
                    <a:ext cx="295560" cy="1632240"/>
                  </a:xfrm>
                  <a:custGeom>
                    <a:avLst/>
                    <a:gdLst/>
                    <a:ahLst/>
                    <a:rect l="0" t="0" r="r" b="b"/>
                    <a:pathLst>
                      <a:path w="821" h="4534">
                        <a:moveTo>
                          <a:pt x="821" y="0"/>
                        </a:moveTo>
                        <a:lnTo>
                          <a:pt x="575" y="4534"/>
                        </a:lnTo>
                        <a:lnTo>
                          <a:pt x="246" y="4534"/>
                        </a:lnTo>
                        <a:lnTo>
                          <a:pt x="0" y="0"/>
                        </a:lnTo>
                        <a:lnTo>
                          <a:pt x="82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240"/>
                      </a:gs>
                    </a:gsLst>
                    <a:lin ang="0"/>
                  </a:gra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" name=""/>
                <p:cNvSpPr/>
                <p:nvPr/>
              </p:nvSpPr>
              <p:spPr>
                <a:xfrm>
                  <a:off x="687240" y="1763640"/>
                  <a:ext cx="138744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2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68240" y="1857240"/>
                  <a:ext cx="1225440" cy="119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240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87400" y="1969920"/>
                  <a:ext cx="987480" cy="965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2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990720" y="2068560"/>
                  <a:ext cx="78120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240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1006560" y="2135160"/>
                <a:ext cx="709920" cy="638280"/>
                <a:chOff x="1006560" y="2135160"/>
                <a:chExt cx="709920" cy="6382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359000" y="2236680"/>
                  <a:ext cx="52200" cy="457560"/>
                </a:xfrm>
                <a:custGeom>
                  <a:avLst/>
                  <a:gdLst/>
                  <a:ahLst/>
                  <a:rect l="0" t="0" r="r" b="b"/>
                  <a:pathLst>
                    <a:path w="145" h="1271">
                      <a:moveTo>
                        <a:pt x="0" y="635"/>
                      </a:moveTo>
                      <a:lnTo>
                        <a:pt x="0" y="1271"/>
                      </a:lnTo>
                      <a:lnTo>
                        <a:pt x="0" y="1271"/>
                      </a:lnTo>
                      <a:cubicBezTo>
                        <a:pt x="24" y="1267"/>
                        <a:pt x="48" y="1238"/>
                        <a:pt x="70" y="1186"/>
                      </a:cubicBezTo>
                      <a:cubicBezTo>
                        <a:pt x="92" y="1130"/>
                        <a:pt x="112" y="1050"/>
                        <a:pt x="125" y="954"/>
                      </a:cubicBezTo>
                      <a:cubicBezTo>
                        <a:pt x="138" y="857"/>
                        <a:pt x="145" y="747"/>
                        <a:pt x="145" y="635"/>
                      </a:cubicBezTo>
                      <a:cubicBezTo>
                        <a:pt x="145" y="524"/>
                        <a:pt x="138" y="414"/>
                        <a:pt x="125" y="317"/>
                      </a:cubicBezTo>
                      <a:cubicBezTo>
                        <a:pt x="112" y="221"/>
                        <a:pt x="92" y="141"/>
                        <a:pt x="70" y="85"/>
                      </a:cubicBezTo>
                      <a:cubicBezTo>
                        <a:pt x="48" y="33"/>
                        <a:pt x="24" y="4"/>
                        <a:pt x="0" y="0"/>
                      </a:cubicBezTo>
                      <a:lnTo>
                        <a:pt x="0" y="6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240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12920" y="2236680"/>
                  <a:ext cx="56160" cy="457920"/>
                </a:xfrm>
                <a:custGeom>
                  <a:avLst/>
                  <a:gdLst/>
                  <a:ahLst/>
                  <a:rect l="0" t="0" r="r" b="b"/>
                  <a:pathLst>
                    <a:path w="156" h="1272">
                      <a:moveTo>
                        <a:pt x="155" y="636"/>
                      </a:moveTo>
                      <a:lnTo>
                        <a:pt x="156" y="1"/>
                      </a:lnTo>
                      <a:lnTo>
                        <a:pt x="156" y="1"/>
                      </a:lnTo>
                      <a:cubicBezTo>
                        <a:pt x="154" y="1"/>
                        <a:pt x="152" y="0"/>
                        <a:pt x="150" y="0"/>
                      </a:cubicBezTo>
                      <a:cubicBezTo>
                        <a:pt x="123" y="0"/>
                        <a:pt x="97" y="30"/>
                        <a:pt x="75" y="86"/>
                      </a:cubicBezTo>
                      <a:cubicBezTo>
                        <a:pt x="52" y="141"/>
                        <a:pt x="33" y="222"/>
                        <a:pt x="20" y="318"/>
                      </a:cubicBezTo>
                      <a:cubicBezTo>
                        <a:pt x="7" y="415"/>
                        <a:pt x="0" y="525"/>
                        <a:pt x="0" y="636"/>
                      </a:cubicBezTo>
                      <a:cubicBezTo>
                        <a:pt x="0" y="748"/>
                        <a:pt x="7" y="858"/>
                        <a:pt x="20" y="954"/>
                      </a:cubicBezTo>
                      <a:cubicBezTo>
                        <a:pt x="33" y="1051"/>
                        <a:pt x="52" y="1131"/>
                        <a:pt x="75" y="1187"/>
                      </a:cubicBezTo>
                      <a:cubicBezTo>
                        <a:pt x="97" y="1243"/>
                        <a:pt x="123" y="1272"/>
                        <a:pt x="150" y="1272"/>
                      </a:cubicBezTo>
                      <a:cubicBezTo>
                        <a:pt x="151" y="1272"/>
                        <a:pt x="153" y="1272"/>
                        <a:pt x="155" y="1272"/>
                      </a:cubicBezTo>
                      <a:lnTo>
                        <a:pt x="155" y="63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2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/>
                </a:prstGeom>
                <a:gradFill rotWithShape="0">
                  <a:gsLst>
                    <a:gs pos="0">
                      <a:srgbClr val="6a6240"/>
                    </a:gs>
                    <a:gs pos="50000">
                      <a:srgbClr val="e5d58a"/>
                    </a:gs>
                    <a:gs pos="100000">
                      <a:srgbClr val="6a6240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006560" y="2328840"/>
                  <a:ext cx="351360" cy="365400"/>
                </a:xfrm>
                <a:custGeom>
                  <a:avLst/>
                  <a:gdLst/>
                  <a:ahLst/>
                  <a:rect l="0" t="0" r="r" b="b"/>
                  <a:pathLst>
                    <a:path w="976" h="1015">
                      <a:moveTo>
                        <a:pt x="976" y="1015"/>
                      </a:moveTo>
                      <a:lnTo>
                        <a:pt x="941" y="904"/>
                      </a:lnTo>
                      <a:lnTo>
                        <a:pt x="896" y="798"/>
                      </a:lnTo>
                      <a:lnTo>
                        <a:pt x="861" y="700"/>
                      </a:lnTo>
                      <a:lnTo>
                        <a:pt x="843" y="603"/>
                      </a:lnTo>
                      <a:lnTo>
                        <a:pt x="834" y="491"/>
                      </a:lnTo>
                      <a:lnTo>
                        <a:pt x="821" y="376"/>
                      </a:lnTo>
                      <a:lnTo>
                        <a:pt x="812" y="318"/>
                      </a:lnTo>
                      <a:lnTo>
                        <a:pt x="803" y="270"/>
                      </a:lnTo>
                      <a:lnTo>
                        <a:pt x="790" y="230"/>
                      </a:lnTo>
                      <a:lnTo>
                        <a:pt x="768" y="190"/>
                      </a:lnTo>
                      <a:lnTo>
                        <a:pt x="750" y="163"/>
                      </a:lnTo>
                      <a:lnTo>
                        <a:pt x="727" y="132"/>
                      </a:lnTo>
                      <a:lnTo>
                        <a:pt x="696" y="106"/>
                      </a:lnTo>
                      <a:lnTo>
                        <a:pt x="665" y="79"/>
                      </a:lnTo>
                      <a:lnTo>
                        <a:pt x="634" y="57"/>
                      </a:lnTo>
                      <a:lnTo>
                        <a:pt x="594" y="39"/>
                      </a:lnTo>
                      <a:lnTo>
                        <a:pt x="550" y="22"/>
                      </a:lnTo>
                      <a:lnTo>
                        <a:pt x="497" y="8"/>
                      </a:lnTo>
                      <a:lnTo>
                        <a:pt x="443" y="0"/>
                      </a:lnTo>
                      <a:lnTo>
                        <a:pt x="390" y="0"/>
                      </a:lnTo>
                      <a:lnTo>
                        <a:pt x="337" y="0"/>
                      </a:lnTo>
                      <a:lnTo>
                        <a:pt x="288" y="8"/>
                      </a:lnTo>
                      <a:lnTo>
                        <a:pt x="239" y="31"/>
                      </a:lnTo>
                      <a:lnTo>
                        <a:pt x="199" y="44"/>
                      </a:lnTo>
                      <a:lnTo>
                        <a:pt x="155" y="70"/>
                      </a:lnTo>
                      <a:lnTo>
                        <a:pt x="110" y="106"/>
                      </a:lnTo>
                      <a:lnTo>
                        <a:pt x="79" y="137"/>
                      </a:lnTo>
                      <a:lnTo>
                        <a:pt x="48" y="181"/>
                      </a:lnTo>
                      <a:lnTo>
                        <a:pt x="22" y="225"/>
                      </a:lnTo>
                      <a:lnTo>
                        <a:pt x="4" y="279"/>
                      </a:lnTo>
                      <a:lnTo>
                        <a:pt x="0" y="323"/>
                      </a:lnTo>
                      <a:lnTo>
                        <a:pt x="0" y="349"/>
                      </a:lnTo>
                      <a:lnTo>
                        <a:pt x="13" y="318"/>
                      </a:lnTo>
                      <a:lnTo>
                        <a:pt x="35" y="296"/>
                      </a:lnTo>
                      <a:lnTo>
                        <a:pt x="66" y="283"/>
                      </a:lnTo>
                      <a:lnTo>
                        <a:pt x="110" y="265"/>
                      </a:lnTo>
                      <a:lnTo>
                        <a:pt x="155" y="256"/>
                      </a:lnTo>
                      <a:lnTo>
                        <a:pt x="203" y="252"/>
                      </a:lnTo>
                      <a:lnTo>
                        <a:pt x="249" y="252"/>
                      </a:lnTo>
                      <a:lnTo>
                        <a:pt x="297" y="265"/>
                      </a:lnTo>
                      <a:lnTo>
                        <a:pt x="328" y="279"/>
                      </a:lnTo>
                      <a:lnTo>
                        <a:pt x="359" y="296"/>
                      </a:lnTo>
                      <a:lnTo>
                        <a:pt x="386" y="323"/>
                      </a:lnTo>
                      <a:lnTo>
                        <a:pt x="404" y="345"/>
                      </a:lnTo>
                      <a:lnTo>
                        <a:pt x="412" y="376"/>
                      </a:lnTo>
                      <a:lnTo>
                        <a:pt x="421" y="407"/>
                      </a:lnTo>
                      <a:lnTo>
                        <a:pt x="426" y="451"/>
                      </a:lnTo>
                      <a:lnTo>
                        <a:pt x="435" y="496"/>
                      </a:lnTo>
                      <a:lnTo>
                        <a:pt x="443" y="550"/>
                      </a:lnTo>
                      <a:lnTo>
                        <a:pt x="457" y="598"/>
                      </a:lnTo>
                      <a:lnTo>
                        <a:pt x="470" y="652"/>
                      </a:lnTo>
                      <a:lnTo>
                        <a:pt x="492" y="700"/>
                      </a:lnTo>
                      <a:lnTo>
                        <a:pt x="514" y="745"/>
                      </a:lnTo>
                      <a:lnTo>
                        <a:pt x="545" y="798"/>
                      </a:lnTo>
                      <a:lnTo>
                        <a:pt x="581" y="842"/>
                      </a:lnTo>
                      <a:lnTo>
                        <a:pt x="621" y="882"/>
                      </a:lnTo>
                      <a:lnTo>
                        <a:pt x="665" y="917"/>
                      </a:lnTo>
                      <a:lnTo>
                        <a:pt x="723" y="953"/>
                      </a:lnTo>
                      <a:lnTo>
                        <a:pt x="763" y="970"/>
                      </a:lnTo>
                      <a:lnTo>
                        <a:pt x="812" y="988"/>
                      </a:lnTo>
                      <a:lnTo>
                        <a:pt x="861" y="1001"/>
                      </a:lnTo>
                      <a:lnTo>
                        <a:pt x="918" y="1010"/>
                      </a:lnTo>
                      <a:lnTo>
                        <a:pt x="976" y="101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240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63680" y="2328840"/>
                  <a:ext cx="352800" cy="365400"/>
                </a:xfrm>
                <a:custGeom>
                  <a:avLst/>
                  <a:gdLst/>
                  <a:ahLst/>
                  <a:rect l="0" t="0" r="r" b="b"/>
                  <a:pathLst>
                    <a:path w="980" h="1015">
                      <a:moveTo>
                        <a:pt x="0" y="1015"/>
                      </a:moveTo>
                      <a:lnTo>
                        <a:pt x="31" y="904"/>
                      </a:lnTo>
                      <a:lnTo>
                        <a:pt x="75" y="798"/>
                      </a:lnTo>
                      <a:lnTo>
                        <a:pt x="110" y="700"/>
                      </a:lnTo>
                      <a:lnTo>
                        <a:pt x="128" y="603"/>
                      </a:lnTo>
                      <a:lnTo>
                        <a:pt x="137" y="491"/>
                      </a:lnTo>
                      <a:lnTo>
                        <a:pt x="150" y="376"/>
                      </a:lnTo>
                      <a:lnTo>
                        <a:pt x="159" y="318"/>
                      </a:lnTo>
                      <a:lnTo>
                        <a:pt x="168" y="270"/>
                      </a:lnTo>
                      <a:lnTo>
                        <a:pt x="181" y="230"/>
                      </a:lnTo>
                      <a:lnTo>
                        <a:pt x="203" y="190"/>
                      </a:lnTo>
                      <a:lnTo>
                        <a:pt x="221" y="163"/>
                      </a:lnTo>
                      <a:lnTo>
                        <a:pt x="249" y="132"/>
                      </a:lnTo>
                      <a:lnTo>
                        <a:pt x="275" y="106"/>
                      </a:lnTo>
                      <a:lnTo>
                        <a:pt x="306" y="79"/>
                      </a:lnTo>
                      <a:lnTo>
                        <a:pt x="342" y="57"/>
                      </a:lnTo>
                      <a:lnTo>
                        <a:pt x="381" y="39"/>
                      </a:lnTo>
                      <a:lnTo>
                        <a:pt x="426" y="22"/>
                      </a:lnTo>
                      <a:lnTo>
                        <a:pt x="479" y="8"/>
                      </a:lnTo>
                      <a:lnTo>
                        <a:pt x="532" y="0"/>
                      </a:lnTo>
                      <a:lnTo>
                        <a:pt x="585" y="0"/>
                      </a:lnTo>
                      <a:lnTo>
                        <a:pt x="634" y="0"/>
                      </a:lnTo>
                      <a:lnTo>
                        <a:pt x="687" y="8"/>
                      </a:lnTo>
                      <a:lnTo>
                        <a:pt x="731" y="31"/>
                      </a:lnTo>
                      <a:lnTo>
                        <a:pt x="777" y="44"/>
                      </a:lnTo>
                      <a:lnTo>
                        <a:pt x="817" y="70"/>
                      </a:lnTo>
                      <a:lnTo>
                        <a:pt x="865" y="106"/>
                      </a:lnTo>
                      <a:lnTo>
                        <a:pt x="892" y="137"/>
                      </a:lnTo>
                      <a:lnTo>
                        <a:pt x="927" y="181"/>
                      </a:lnTo>
                      <a:lnTo>
                        <a:pt x="954" y="225"/>
                      </a:lnTo>
                      <a:lnTo>
                        <a:pt x="972" y="279"/>
                      </a:lnTo>
                      <a:lnTo>
                        <a:pt x="980" y="323"/>
                      </a:lnTo>
                      <a:lnTo>
                        <a:pt x="976" y="349"/>
                      </a:lnTo>
                      <a:lnTo>
                        <a:pt x="963" y="318"/>
                      </a:lnTo>
                      <a:lnTo>
                        <a:pt x="941" y="296"/>
                      </a:lnTo>
                      <a:lnTo>
                        <a:pt x="910" y="283"/>
                      </a:lnTo>
                      <a:lnTo>
                        <a:pt x="865" y="265"/>
                      </a:lnTo>
                      <a:lnTo>
                        <a:pt x="817" y="256"/>
                      </a:lnTo>
                      <a:lnTo>
                        <a:pt x="772" y="252"/>
                      </a:lnTo>
                      <a:lnTo>
                        <a:pt x="727" y="252"/>
                      </a:lnTo>
                      <a:lnTo>
                        <a:pt x="678" y="265"/>
                      </a:lnTo>
                      <a:lnTo>
                        <a:pt x="643" y="279"/>
                      </a:lnTo>
                      <a:lnTo>
                        <a:pt x="616" y="296"/>
                      </a:lnTo>
                      <a:lnTo>
                        <a:pt x="585" y="323"/>
                      </a:lnTo>
                      <a:lnTo>
                        <a:pt x="572" y="345"/>
                      </a:lnTo>
                      <a:lnTo>
                        <a:pt x="563" y="376"/>
                      </a:lnTo>
                      <a:lnTo>
                        <a:pt x="554" y="407"/>
                      </a:lnTo>
                      <a:lnTo>
                        <a:pt x="545" y="451"/>
                      </a:lnTo>
                      <a:lnTo>
                        <a:pt x="541" y="496"/>
                      </a:lnTo>
                      <a:lnTo>
                        <a:pt x="532" y="550"/>
                      </a:lnTo>
                      <a:lnTo>
                        <a:pt x="519" y="598"/>
                      </a:lnTo>
                      <a:lnTo>
                        <a:pt x="501" y="652"/>
                      </a:lnTo>
                      <a:lnTo>
                        <a:pt x="483" y="700"/>
                      </a:lnTo>
                      <a:lnTo>
                        <a:pt x="461" y="745"/>
                      </a:lnTo>
                      <a:lnTo>
                        <a:pt x="430" y="798"/>
                      </a:lnTo>
                      <a:lnTo>
                        <a:pt x="395" y="842"/>
                      </a:lnTo>
                      <a:lnTo>
                        <a:pt x="350" y="882"/>
                      </a:lnTo>
                      <a:lnTo>
                        <a:pt x="306" y="917"/>
                      </a:lnTo>
                      <a:lnTo>
                        <a:pt x="253" y="953"/>
                      </a:lnTo>
                      <a:lnTo>
                        <a:pt x="208" y="970"/>
                      </a:lnTo>
                      <a:lnTo>
                        <a:pt x="163" y="988"/>
                      </a:lnTo>
                      <a:lnTo>
                        <a:pt x="110" y="1001"/>
                      </a:lnTo>
                      <a:lnTo>
                        <a:pt x="53" y="1010"/>
                      </a:lnTo>
                      <a:lnTo>
                        <a:pt x="0" y="101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240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240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14600" y="1371600"/>
            <a:ext cx="6404040" cy="23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of the Python Programm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741760" y="4124160"/>
            <a:ext cx="6400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Marc Bjorklund</a:t>
            </a:r>
            <a:br>
              <a:rPr sz="3200"/>
            </a:b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Sriram Melkot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February 25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523880" y="91440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: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682640" y="2362320"/>
            <a:ext cx="71992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600200" y="8380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: System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386000" y="2292480"/>
            <a:ext cx="72374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500120" y="22860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500120" y="152388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Python code is extensible and embed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Python code is easy to read and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Python compares very favorably to other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500120" y="22860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to Pyth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00120" y="1523880"/>
            <a:ext cx="3605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5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Interpr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Object-ori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895480" y="3962520"/>
            <a:ext cx="4813200" cy="2200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5334120" y="1523880"/>
            <a:ext cx="3605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5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Embed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500120" y="22860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819520" y="1828800"/>
            <a:ext cx="628164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dddb93"/>
                </a:solidFill>
                <a:latin typeface="Arial"/>
                <a:ea typeface="Arial"/>
              </a:rPr>
              <a:t>Por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cfcc65"/>
                </a:solidFill>
                <a:latin typeface="Arial"/>
                <a:ea typeface="Arial"/>
              </a:rPr>
              <a:t>Exte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Rea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7d7b29"/>
                </a:solidFill>
                <a:latin typeface="Arial"/>
                <a:ea typeface="Arial"/>
              </a:rPr>
              <a:t>Wri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500120" y="22860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500120" y="1295280"/>
            <a:ext cx="76010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  <a:ea typeface="Arial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Conceptually, compiler should isolate user programs from underlying OS and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Internetworking introduces heterogene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Hardware and OS are evolving very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  <a:ea typeface="Arial"/>
              </a:rPr>
              <a:t>How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Python code can be run in an </a:t>
            </a:r>
            <a:r>
              <a:rPr b="1" i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Python code can be compiled to fast </a:t>
            </a:r>
            <a:r>
              <a:rPr b="1" i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Byt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Standardized Libraries: CGI, Sockets,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  <a:ea typeface="Arial"/>
              </a:rPr>
              <a:t>Wher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Windows, Unix, OS/2 and even the </a:t>
            </a:r>
            <a:r>
              <a:rPr b="1" i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JVM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500120" y="22860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500120" y="1523880"/>
            <a:ext cx="52052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Extending Pyth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C/C++ functions can be im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CP1252"/>
              <a:buChar char=""/>
            </a:pPr>
            <a:r>
              <a:rPr b="1" i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python.h</a:t>
            </a: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 adds optional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Import it into python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Extending </a:t>
            </a:r>
            <a:r>
              <a:rPr b="1" i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using</a:t>
            </a: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 Pyth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You can embed the entire python interpreter!</a:t>
            </a: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No licens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85040" y="1746360"/>
            <a:ext cx="1003320" cy="393840"/>
          </a:xfrm>
          <a:prstGeom prst="rect">
            <a:avLst/>
          </a:prstGeom>
          <a:noFill/>
          <a:ln w="12600">
            <a:solidFill>
              <a:srgbClr val="3333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257960" y="2419200"/>
            <a:ext cx="546120" cy="393840"/>
          </a:xfrm>
          <a:prstGeom prst="rect">
            <a:avLst/>
          </a:prstGeom>
          <a:noFill/>
          <a:ln w="12600">
            <a:solidFill>
              <a:srgbClr val="3333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969320" y="2419200"/>
            <a:ext cx="546120" cy="393840"/>
          </a:xfrm>
          <a:prstGeom prst="rect">
            <a:avLst/>
          </a:prstGeom>
          <a:noFill/>
          <a:ln w="12600">
            <a:solidFill>
              <a:srgbClr val="3333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445520" y="2502000"/>
            <a:ext cx="184320" cy="2570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505640" y="1803240"/>
            <a:ext cx="793800" cy="333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8058240" y="2511360"/>
            <a:ext cx="412920" cy="2570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562880" y="2101680"/>
            <a:ext cx="292320" cy="356040"/>
          </a:xfrm>
          <a:custGeom>
            <a:avLst/>
            <a:gdLst/>
            <a:ahLst/>
            <a:rect l="0" t="0" r="r" b="b"/>
            <a:pathLst>
              <a:path fill="none" w="812" h="989">
                <a:moveTo>
                  <a:pt x="812" y="0"/>
                </a:moveTo>
                <a:lnTo>
                  <a:pt x="783" y="180"/>
                </a:lnTo>
                <a:lnTo>
                  <a:pt x="695" y="340"/>
                </a:lnTo>
                <a:lnTo>
                  <a:pt x="637" y="404"/>
                </a:lnTo>
                <a:lnTo>
                  <a:pt x="550" y="457"/>
                </a:lnTo>
                <a:lnTo>
                  <a:pt x="495" y="484"/>
                </a:lnTo>
                <a:lnTo>
                  <a:pt x="408" y="494"/>
                </a:lnTo>
                <a:lnTo>
                  <a:pt x="320" y="505"/>
                </a:lnTo>
                <a:lnTo>
                  <a:pt x="261" y="532"/>
                </a:lnTo>
                <a:lnTo>
                  <a:pt x="203" y="585"/>
                </a:lnTo>
                <a:lnTo>
                  <a:pt x="116" y="648"/>
                </a:lnTo>
                <a:lnTo>
                  <a:pt x="29" y="809"/>
                </a:lnTo>
                <a:lnTo>
                  <a:pt x="0" y="989"/>
                </a:lnTo>
              </a:path>
            </a:pathLst>
          </a:custGeom>
          <a:ln w="12600">
            <a:solidFill>
              <a:srgbClr val="3333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918560" y="2101680"/>
            <a:ext cx="292320" cy="356040"/>
          </a:xfrm>
          <a:custGeom>
            <a:avLst/>
            <a:gdLst/>
            <a:ahLst/>
            <a:rect l="0" t="0" r="r" b="b"/>
            <a:pathLst>
              <a:path fill="none" w="812" h="989">
                <a:moveTo>
                  <a:pt x="0" y="0"/>
                </a:moveTo>
                <a:lnTo>
                  <a:pt x="28" y="180"/>
                </a:lnTo>
                <a:lnTo>
                  <a:pt x="119" y="340"/>
                </a:lnTo>
                <a:lnTo>
                  <a:pt x="181" y="404"/>
                </a:lnTo>
                <a:lnTo>
                  <a:pt x="239" y="457"/>
                </a:lnTo>
                <a:lnTo>
                  <a:pt x="329" y="484"/>
                </a:lnTo>
                <a:lnTo>
                  <a:pt x="391" y="494"/>
                </a:lnTo>
                <a:lnTo>
                  <a:pt x="482" y="505"/>
                </a:lnTo>
                <a:lnTo>
                  <a:pt x="540" y="532"/>
                </a:lnTo>
                <a:lnTo>
                  <a:pt x="631" y="585"/>
                </a:lnTo>
                <a:lnTo>
                  <a:pt x="692" y="648"/>
                </a:lnTo>
                <a:lnTo>
                  <a:pt x="783" y="809"/>
                </a:lnTo>
                <a:lnTo>
                  <a:pt x="812" y="989"/>
                </a:lnTo>
              </a:path>
            </a:pathLst>
          </a:custGeom>
          <a:ln w="12600">
            <a:solidFill>
              <a:srgbClr val="3333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2760" y="3879720"/>
            <a:ext cx="1384200" cy="1384200"/>
          </a:xfrm>
          <a:prstGeom prst="rect">
            <a:avLst/>
          </a:prstGeom>
          <a:noFill/>
          <a:ln w="12600">
            <a:solidFill>
              <a:srgbClr val="3333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7613640" y="4809960"/>
            <a:ext cx="793800" cy="333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461360" y="4718160"/>
            <a:ext cx="1003320" cy="469800"/>
          </a:xfrm>
          <a:prstGeom prst="ellipse">
            <a:avLst/>
          </a:prstGeom>
          <a:solidFill>
            <a:srgbClr val="f6f1d6">
              <a:alpha val="50000"/>
            </a:srgbClr>
          </a:solidFill>
          <a:ln w="12600">
            <a:solidFill>
              <a:srgbClr val="3333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7381800" y="4038480"/>
            <a:ext cx="1203480" cy="380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790040" y="4549680"/>
            <a:ext cx="0" cy="4680"/>
          </a:xfrm>
          <a:custGeom>
            <a:avLst/>
            <a:gdLst/>
            <a:ahLst/>
            <a:rect l="0" t="0" r="r" b="b"/>
            <a:pathLst>
              <a:path fill="none" w="0" h="13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  <a:lnTo>
                  <a:pt x="0" y="10"/>
                </a:lnTo>
                <a:lnTo>
                  <a:pt x="0" y="13"/>
                </a:lnTo>
              </a:path>
            </a:pathLst>
          </a:custGeom>
          <a:ln w="12600">
            <a:solidFill>
              <a:srgbClr val="333300"/>
            </a:solidFill>
            <a:round/>
            <a:tailEnd len="med" type="triangle" w="med"/>
          </a:ln>
        </p:spPr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514600" y="368280"/>
            <a:ext cx="4721400" cy="6489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2933640" y="1882800"/>
            <a:ext cx="4610160" cy="2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66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Readabi</a:t>
            </a:r>
            <a:r>
              <a:rPr b="1" lang="en-US" sz="7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lang="en-US" sz="66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Writab  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600200" y="5638680"/>
            <a:ext cx="3824280" cy="449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6781680" y="5638680"/>
            <a:ext cx="2117880" cy="449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2209680" y="457200"/>
            <a:ext cx="61563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676520" y="304920"/>
            <a:ext cx="7348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500120" y="152388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Indentation indicates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Clear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Functions can return multipl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Exceptions separate error handling code from mai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562720" y="144792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</a:pPr>
            <a:r>
              <a:rPr b="1" lang="en-US" sz="1400" spc="-1" strike="noStrike" u="sng">
                <a:solidFill>
                  <a:srgbClr val="333300"/>
                </a:solidFill>
                <a:uFillTx/>
                <a:latin typeface="Arial"/>
                <a:ea typeface="Arial"/>
              </a:rPr>
              <a:t>Fibonacci Numbers in Pyt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</a:pP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a, b = 0,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</a:pP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while b &lt; 5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</a:pP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print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</a:pP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a, b = b, a+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</a:pPr>
            <a:r>
              <a:rPr b="1" lang="en-US" sz="1400" spc="-1" strike="noStrike" u="sng">
                <a:solidFill>
                  <a:srgbClr val="333300"/>
                </a:solidFill>
                <a:uFillTx/>
                <a:latin typeface="Arial"/>
                <a:ea typeface="Arial"/>
              </a:rPr>
              <a:t>Fibonacci Numbers in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</a:pP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</a:pP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int a=0, b=1, t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</a:pP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while (b &lt; 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</a:pP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</a:pP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printf (“%d\n”, 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</a:pP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tmp = b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</a:pP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b = a + b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</a:pP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a = t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</a:pP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</a:pPr>
            <a:r>
              <a:rPr b="0" lang="en-US" sz="1400" spc="-1" strike="noStrike">
                <a:solidFill>
                  <a:srgbClr val="3333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500120" y="22860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500120" y="152388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5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High-level Data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Arial"/>
              </a:rPr>
              <a:t>Dictionaries (assoc. arr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Arial"/>
              </a:rPr>
              <a:t>Lists, tu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Automatic 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Arial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Arial"/>
              </a:rPr>
              <a:t>Not True Garbag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500120" y="22860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500120" y="152388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5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Compact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Wingdings"/>
              <a:buChar char=""/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Standard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Arial"/>
              </a:rPr>
              <a:t>String Mani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Arial"/>
              </a:rPr>
              <a:t>Regular Expression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Arial"/>
              </a:rPr>
              <a:t>Images and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79"/>
              </a:spcBef>
              <a:buClr>
                <a:srgbClr val="999933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Arial"/>
              </a:rPr>
              <a:t>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on</dc:creator>
  <dc:description/>
  <dc:language>en-US</dc:language>
  <cp:lastModifiedBy>peon</cp:lastModifiedBy>
  <cp:revision>0</cp:revision>
  <dc:subject/>
  <dc:title>Presentation on the Python Programming Language</dc:title>
</cp:coreProperties>
</file>