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E44-A669-42F1-B101-0B181946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C71-B305-42A9-AB33-1AD259F7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91B-4024-4F85-9720-3C324E6E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627-7695-45BC-96A1-27D24DA9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7C7A-5F35-4CA9-B27D-D0815E52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8D28-3BCE-45F0-BD06-2D888662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FE50-211F-4E04-A92F-313978B6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EB4C-9934-486A-AC79-6DC6E9D7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96F4-6BE2-4227-8CE3-A31446B7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6FA5-583B-4F4A-BCB8-EF11D09A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6086-D614-471C-B0EA-14F15A4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FDE-B6EA-4A5C-8999-E28B7629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D7D6-FD53-4D9D-AF34-9C5A06FE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3483-FDEB-45A5-B773-8870E023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AF9A-08D2-4983-AC48-C8E89450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B22D-4A58-4563-994E-BB68A4B9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A082-A328-442A-96F5-3A0D472D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E2A-E175-46DC-8B50-EF5C5B01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4A4-9091-4D06-8625-E8CA6FAD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A3A-64C2-4C47-A678-A6F91097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20E-23AD-4D77-A918-88F9F26D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E2A-A497-4852-907B-68BC639B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05D-1E12-4076-A8D1-2914E6E3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270-36D7-4D20-A4D4-A39D79C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B3FE-B8D9-4044-9F0E-76C7944B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FE53-15A9-498D-A358-9E31034179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malltal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n Arrivillag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anya Busso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6" name="STLOGO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20383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capsulation in Smalltal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362320"/>
            <a:ext cx="2590920" cy="35049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429000"/>
            <a:ext cx="13716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2743200"/>
            <a:ext cx="2286000" cy="3124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2"/>
            <a:endCxn id="104" idx="2"/>
          </p:cNvCxnSpPr>
          <p:nvPr/>
        </p:nvCxnSpPr>
        <p:spPr>
          <a:xfrm flipV="1" rot="10800000">
            <a:off x="2894760" y="4304160"/>
            <a:ext cx="2667960" cy="1562760"/>
          </a:xfrm>
          <a:prstGeom prst="curvedConnector5">
            <a:avLst>
              <a:gd name="adj1" fmla="val 25708"/>
              <a:gd name="adj2" fmla="val 57304"/>
              <a:gd name="adj3" fmla="val 2570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7" idx="0"/>
            <a:endCxn id="104" idx="0"/>
          </p:cNvCxnSpPr>
          <p:nvPr/>
        </p:nvCxnSpPr>
        <p:spPr>
          <a:xfrm flipV="1" rot="16200000">
            <a:off x="4609800" y="646920"/>
            <a:ext cx="381600" cy="3810960"/>
          </a:xfrm>
          <a:prstGeom prst="curvedConnector5">
            <a:avLst>
              <a:gd name="adj1" fmla="val 159962"/>
              <a:gd name="adj2" fmla="val 49995"/>
              <a:gd name="adj3" fmla="val 15996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75248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4" idx="3"/>
            <a:endCxn id="107" idx="1"/>
          </p:cNvCxnSpPr>
          <p:nvPr/>
        </p:nvCxnSpPr>
        <p:spPr>
          <a:xfrm flipV="1">
            <a:off x="4191120" y="3200040"/>
            <a:ext cx="1707120" cy="915120"/>
          </a:xfrm>
          <a:prstGeom prst="curvedConnector5">
            <a:avLst>
              <a:gd name="adj1" fmla="val 40181"/>
              <a:gd name="adj2" fmla="val 87485"/>
              <a:gd name="adj3" fmla="val 40181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51055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capsulation in Smalltal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it support our objectiv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s re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driving a c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usability &amp; Ease o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users need only know ‘interface’, not the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capsulation: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malltalk vs. C++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verything is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eudo message passing through membe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ll of an object’s state is encapsu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data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word ‘friend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capsulation in C++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118" name=""/>
          <p:cNvCxnSpPr>
            <a:stCxn id="119" idx="3"/>
            <a:endCxn id="120" idx="3"/>
          </p:cNvCxnSpPr>
          <p:nvPr/>
        </p:nvCxnSpPr>
        <p:spPr>
          <a:xfrm flipV="1" rot="16200000">
            <a:off x="4982040" y="4694760"/>
            <a:ext cx="536760" cy="2120040"/>
          </a:xfrm>
          <a:prstGeom prst="curvedConnector5">
            <a:avLst>
              <a:gd name="adj1" fmla="val -98859"/>
              <a:gd name="adj2" fmla="val 28413"/>
              <a:gd name="adj3" fmla="val -9885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600200" y="2362320"/>
            <a:ext cx="2590920" cy="35049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200400"/>
            <a:ext cx="13716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4267080"/>
            <a:ext cx="1981080" cy="2057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105520"/>
            <a:ext cx="2590920" cy="76176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1905120"/>
            <a:ext cx="1981080" cy="2057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en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9" idx="2"/>
            <a:endCxn id="121" idx="3"/>
          </p:cNvCxnSpPr>
          <p:nvPr/>
        </p:nvCxnSpPr>
        <p:spPr>
          <a:xfrm rot="10800000">
            <a:off x="4190400" y="4114080"/>
            <a:ext cx="1829520" cy="118188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21" idx="0"/>
          </p:cNvCxnSpPr>
          <p:nvPr/>
        </p:nvCxnSpPr>
        <p:spPr>
          <a:xfrm rot="5400000">
            <a:off x="4524840" y="577080"/>
            <a:ext cx="155880" cy="3415680"/>
          </a:xfrm>
          <a:prstGeom prst="curvedConnector5">
            <a:avLst>
              <a:gd name="adj1" fmla="val -117592"/>
              <a:gd name="adj2" fmla="val 49994"/>
              <a:gd name="adj3" fmla="val -1175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2"/>
            <a:endCxn id="122" idx="3"/>
          </p:cNvCxnSpPr>
          <p:nvPr/>
        </p:nvCxnSpPr>
        <p:spPr>
          <a:xfrm flipV="1" rot="10800000">
            <a:off x="3581280" y="2933280"/>
            <a:ext cx="2439000" cy="9914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nheritance in Smalltal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4495320"/>
            <a:ext cx="8178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ization &amp; Specializ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class &amp; super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class has a super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52480" y="1905120"/>
            <a:ext cx="5486400" cy="2361960"/>
            <a:chOff x="1752480" y="1905120"/>
            <a:chExt cx="5486400" cy="2361960"/>
          </a:xfrm>
        </p:grpSpPr>
        <p:sp>
          <p:nvSpPr>
            <p:cNvPr id="131" name=""/>
            <p:cNvSpPr/>
            <p:nvPr/>
          </p:nvSpPr>
          <p:spPr>
            <a:xfrm>
              <a:off x="2971800" y="1905120"/>
              <a:ext cx="213372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ni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1" idx="2"/>
              <a:endCxn id="133" idx="0"/>
            </p:cNvCxnSpPr>
            <p:nvPr/>
          </p:nvCxnSpPr>
          <p:spPr>
            <a:xfrm flipV="1" rot="10800000">
              <a:off x="4037760" y="2437920"/>
              <a:ext cx="1080" cy="3819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3352680" y="2819520"/>
              <a:ext cx="137160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i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2819520"/>
              <a:ext cx="160020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m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52480" y="2819520"/>
              <a:ext cx="137160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pt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1" idx="2"/>
              <a:endCxn id="135" idx="0"/>
            </p:cNvCxnSpPr>
            <p:nvPr/>
          </p:nvCxnSpPr>
          <p:spPr>
            <a:xfrm rot="5400000">
              <a:off x="3047040" y="1828440"/>
              <a:ext cx="381960" cy="1600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1" idx="2"/>
              <a:endCxn id="134" idx="0"/>
            </p:cNvCxnSpPr>
            <p:nvPr/>
          </p:nvCxnSpPr>
          <p:spPr>
            <a:xfrm flipH="1" rot="16200000">
              <a:off x="4704120" y="1771200"/>
              <a:ext cx="381960" cy="171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38" name=""/>
            <p:cNvSpPr/>
            <p:nvPr/>
          </p:nvSpPr>
          <p:spPr>
            <a:xfrm>
              <a:off x="5867280" y="3733920"/>
              <a:ext cx="137160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o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91120" y="3733920"/>
              <a:ext cx="137160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or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4" idx="2"/>
              <a:endCxn id="139" idx="0"/>
            </p:cNvCxnSpPr>
            <p:nvPr/>
          </p:nvCxnSpPr>
          <p:spPr>
            <a:xfrm rot="5400000">
              <a:off x="5123880" y="3105000"/>
              <a:ext cx="381960" cy="876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34" idx="2"/>
              <a:endCxn id="138" idx="0"/>
            </p:cNvCxnSpPr>
            <p:nvPr/>
          </p:nvCxnSpPr>
          <p:spPr>
            <a:xfrm flipH="1" rot="16200000">
              <a:off x="5962320" y="3142800"/>
              <a:ext cx="381960" cy="800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1752480" y="3733920"/>
              <a:ext cx="137160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nak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3" name=""/>
            <p:cNvCxnSpPr>
              <a:stCxn id="135" idx="2"/>
              <a:endCxn id="142" idx="0"/>
            </p:cNvCxnSpPr>
            <p:nvPr/>
          </p:nvCxnSpPr>
          <p:spPr>
            <a:xfrm flipV="1" rot="10800000">
              <a:off x="2437560" y="3352320"/>
              <a:ext cx="1080" cy="3819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nheritance in Smalltal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2057400"/>
            <a:ext cx="2895480" cy="19051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d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os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572000"/>
            <a:ext cx="3352680" cy="19051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5" idx="4"/>
            <a:endCxn id="146" idx="0"/>
          </p:cNvCxnSpPr>
          <p:nvPr/>
        </p:nvCxnSpPr>
        <p:spPr>
          <a:xfrm flipH="1" rot="16200000">
            <a:off x="3809880" y="4190400"/>
            <a:ext cx="61020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067040" y="2743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20040" y="52578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59092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02920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33412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nheritance in Smalltal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17884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it support our objectiv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s re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up similar ‘things’ into class hierarc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usability &amp; Ease o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new classes by specializing existing 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nheritance: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malltalk vs. C++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eritance in C+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, private, prot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den on program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Inheri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ed in C+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supported in Small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943600" y="4267080"/>
            <a:ext cx="2971800" cy="2362320"/>
            <a:chOff x="5943600" y="4267080"/>
            <a:chExt cx="2971800" cy="2362320"/>
          </a:xfrm>
        </p:grpSpPr>
        <p:sp>
          <p:nvSpPr>
            <p:cNvPr id="159" name=""/>
            <p:cNvSpPr/>
            <p:nvPr/>
          </p:nvSpPr>
          <p:spPr>
            <a:xfrm>
              <a:off x="5943600" y="4267080"/>
              <a:ext cx="1295280" cy="914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lass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hod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81680" y="5715000"/>
              <a:ext cx="1295640" cy="914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lass A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int?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0120" y="4267080"/>
              <a:ext cx="1295280" cy="914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lass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hod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59" idx="2"/>
              <a:endCxn id="160" idx="0"/>
            </p:cNvCxnSpPr>
            <p:nvPr/>
          </p:nvCxnSpPr>
          <p:spPr>
            <a:xfrm flipH="1" rot="16200000">
              <a:off x="6742800" y="5028840"/>
              <a:ext cx="534240" cy="839160"/>
            </a:xfrm>
            <a:prstGeom prst="curvedConnector5">
              <a:avLst>
                <a:gd name="adj1" fmla="val 49966"/>
                <a:gd name="adj2" fmla="val 50000"/>
                <a:gd name="adj3" fmla="val 4996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61" idx="2"/>
              <a:endCxn id="160" idx="0"/>
            </p:cNvCxnSpPr>
            <p:nvPr/>
          </p:nvCxnSpPr>
          <p:spPr>
            <a:xfrm rot="5400000">
              <a:off x="7581240" y="5029200"/>
              <a:ext cx="534240" cy="838800"/>
            </a:xfrm>
            <a:prstGeom prst="curvedConnector5">
              <a:avLst>
                <a:gd name="adj1" fmla="val 49966"/>
                <a:gd name="adj2" fmla="val 49978"/>
                <a:gd name="adj3" fmla="val 49966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ynamic Bindi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bles in Smalltalk don’t have typ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this goo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ymorphism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4114800"/>
            <a:ext cx="5638680" cy="1600200"/>
            <a:chOff x="228600" y="4114800"/>
            <a:chExt cx="5638680" cy="1600200"/>
          </a:xfrm>
        </p:grpSpPr>
        <p:sp>
          <p:nvSpPr>
            <p:cNvPr id="167" name=""/>
            <p:cNvSpPr/>
            <p:nvPr/>
          </p:nvSpPr>
          <p:spPr>
            <a:xfrm>
              <a:off x="228600" y="4800600"/>
              <a:ext cx="1295280" cy="9144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rc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520" y="4800600"/>
              <a:ext cx="1295280" cy="9144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iang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4800600"/>
              <a:ext cx="1295280" cy="9144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ctang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4080" y="4800600"/>
              <a:ext cx="1295640" cy="9144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qua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0200" y="4114800"/>
              <a:ext cx="2895480" cy="3808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hap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248520" y="4114800"/>
            <a:ext cx="2514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1 dra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2 dra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3 dra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ynamic Bindi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it support our objectiv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s the re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ing a c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talk vs. C+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++ keyword ‘virtual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den on program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side: effici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verview of Presenta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 of Smallt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of the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ed by O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Features of O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 to C+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torage Managemen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rbage Collection &amp; Reference coun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it support our objectiv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s re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talk vs. C+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&amp; delete: burden on the program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++ memory leaks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bjectives Revisite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2664000"/>
          <a:ext cx="8458200" cy="327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4000"/>
                    <a:ext cx="84582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666880" y="3352680"/>
            <a:ext cx="68580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4191120"/>
            <a:ext cx="685800" cy="7617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4191120"/>
            <a:ext cx="685800" cy="7617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3352680"/>
            <a:ext cx="68580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352680"/>
            <a:ext cx="68580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5105520"/>
            <a:ext cx="685800" cy="7617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5105520"/>
            <a:ext cx="685800" cy="7617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105520"/>
            <a:ext cx="685800" cy="7617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5105520"/>
            <a:ext cx="685800" cy="7617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talk is a PURELY Object Oriented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is an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support for complete encapsulation, inheritance, dynamic binding, automatic storage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easy and it’s fu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STLOGO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20383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malltal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743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isto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d at Xerox PARC in 7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ideas of Alan K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ted in Simula, Lisp and SketchP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ells developed first window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e object oriented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owed user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number of key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 form, easy to rea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1788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real world o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 reus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ease of 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788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Smalltalk support these objectiv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OP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OO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-Oriented Program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rinciples of OO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1788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Bi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ag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malltalk Languag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es &amp; O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es provide methods &amp; instance varia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object is an instance of a 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is an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ssages &amp;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ssage: a request to an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ssages invoke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malltalk Languag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752480"/>
            <a:ext cx="72388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 SubClass Cir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tance variables r, x,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^ 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us :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 &lt;= val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X :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&lt;= val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Y :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 &lt;= val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ng1 &lt;= Circle new. thing2 &lt;= Circle ne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ng1 radius: 10; setX: 22; setY: 39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ng2 radius: 24; setX: 120; setY: 1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ng1 radius print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prints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23:16:11Z</dcterms:created>
  <dc:creator>Tanya Bussom</dc:creator>
  <dc:description/>
  <dc:language>en-US</dc:language>
  <cp:lastModifiedBy>James D. Arthur</cp:lastModifiedBy>
  <dcterms:modified xsi:type="dcterms:W3CDTF">1999-04-02T20:21:27Z</dcterms:modified>
  <cp:revision>33</cp:revision>
  <dc:subject/>
  <dc:title>Smalltalk</dc:title>
</cp:coreProperties>
</file>