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F71-FD82-4A25-846A-2435BA70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5AE-8841-4863-8203-F40A98C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4C6-0F98-4559-8B28-70FF4BDC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B9C-B3AD-4039-BB46-8633B70C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915E-D54E-4CE4-BDBC-473C51E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4D9-A800-4B7C-B4DC-75FF8C8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165-A038-4DB6-8EC4-55CECF4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821C-FEDF-4668-9DAC-EBBE1586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3553-3874-4CEE-9379-773B551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D903-7FEA-48F7-861A-B9BFA83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7065-302C-421D-BCA4-70DBDA9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82C-E22B-4F65-B588-9408CEFA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ED2-A838-4FDC-AAF5-160E29B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6330-2539-4C26-95CB-641040C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C37C-4692-427F-908E-79BA5AE6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792-1D50-40F2-BE36-6D2B7C73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DAF-B51F-4BC5-8168-3C55C5D3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780-3F79-41B3-9C16-738B085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545-AFE8-42B6-BB73-B8F466E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DE0-AD0C-4FDD-B026-6FF9FB4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0F0-4C67-45CD-96CA-6E3071DD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473-C00F-4A9A-B2AB-1ADF818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8E7-87A6-4C2B-BE62-BD7ABD2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897-B391-4A40-A10A-B53AF3F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9906-3231-4A22-9BFE-E0FDA7959F5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D48C-9595-45C5-8AE1-0BF9AEE138C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ODE COMPRESSION</a:t>
            </a:r>
            <a:br>
              <a:rPr sz="4800"/>
            </a:b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A META-LANGUAGE APPROACH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352680"/>
            <a:ext cx="4114800" cy="41324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David Adam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arc Bjorklund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Tracy Lewi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Sriram Melko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ike Park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ire C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walkthrough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ompile program into lcc t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Form streams of literals for each ope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MTF index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Compress with Huffman or Arithmetic co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Gz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257800" y="1752480"/>
          <a:ext cx="351648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5164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ire C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rectly Applicable to Java Mobile Co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809880"/>
            <a:ext cx="609624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Ewall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mplemen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Seri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otected lo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getCas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lo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cent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ubl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addCas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lo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cent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otected Card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getCreditCar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ublic void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putCreditCar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ivate long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mone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ivate Card </a:t>
            </a:r>
            <a:r>
              <a:rPr b="0" lang="en-US" sz="1800" spc="-1" strike="noStrike">
                <a:solidFill>
                  <a:srgbClr val="ccecff"/>
                </a:solidFill>
                <a:latin typeface="Courier New"/>
              </a:rPr>
              <a:t>creditCar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Goals (Revisted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aster Load Ti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crease CPU throughpu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duce Network/Disk ac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Memory Requir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ging is expensi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maller working set = less pa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744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RISC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 “Meta-Language”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nimizes latency between request and execu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sures instructions occur on byte-bounda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ISC code required to be interpret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RISC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 “Meta-Language”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tion of BRISC co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perand specializ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tternize inpu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termine if pattern should be add to dictiona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pcode Combin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didate combin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cost-benefit metri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RISC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 “Meta-Language”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rminate when improvement below some threshold (greedy algorith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from the Omni-Ware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ually there is a time/space tradeoff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solution is a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WIN/WIN !!!!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hieved expected go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ster Load Times (Wire Cod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duced Memory Requirements (BRIS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QUESTION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53" name="dilbert990305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76312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1. Compile Into Tre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 co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 salt (int j, int i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(j &gt;0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per(i,j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--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n j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197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o the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lcc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e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GNI(ADDRLP8[72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I(INDIRI(ADDRLP8[68]),CNSTC[0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I[1](INDIRI(ADDRLP8[68],CNSTC[0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GI(INDITI(ADDRLP8[72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GI(INDITI(ADDRLP8[68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I(ADDRLP8[pepper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GNI(ADDRP8[68]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I(INDIRI(ADDRP8[68]),CNSTC[1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BEL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I(INDITI(ADDRLP8[68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2. Forms Streams of Litera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tternize and form streams of liter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GNI(ADDRLP8[*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I(INDIRI(ADDRLP8[*]),CNSTC[*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I[1](INDIRI(ADDRLP8[*],CNSTC[*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GI(INDITI(ADDRLP8[*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GI(INDITI(ADDRLP8[*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I(ADDRLP8[pepper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GNI(ADDRP8[*]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I(INDIRI(ADDRP8[*]),CNSTC[*]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BEL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I(INDITI(ADDRLP8[*])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DDRPL8 stream i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320"/>
            <a:ext cx="1981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943600"/>
            <a:ext cx="2971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2 72 68 72 68 68 68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utlin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ression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re Co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IS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3. Apply Move-To-Fron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TF indexing transforms the following stream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 tab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816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971800"/>
            <a:ext cx="2971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2 72 68 72 68 68 68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715000"/>
            <a:ext cx="990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2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0532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343400"/>
            <a:ext cx="19051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1 0 2 2 1 1 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4. Compres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pply Huffman or Arithmetic coding to all MTF indice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 ½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    ½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 ¼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2   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 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112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,1,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14600" y="4114800"/>
            <a:ext cx="2971800" cy="609480"/>
            <a:chOff x="2514600" y="4114800"/>
            <a:chExt cx="2971800" cy="609480"/>
          </a:xfrm>
        </p:grpSpPr>
        <p:grpSp>
          <p:nvGrpSpPr>
            <p:cNvPr id="174" name=""/>
            <p:cNvGrpSpPr/>
            <p:nvPr/>
          </p:nvGrpSpPr>
          <p:grpSpPr>
            <a:xfrm>
              <a:off x="2514600" y="4266360"/>
              <a:ext cx="838440" cy="457920"/>
              <a:chOff x="2514600" y="4266360"/>
              <a:chExt cx="838440" cy="457920"/>
            </a:xfrm>
          </p:grpSpPr>
          <p:sp>
            <p:nvSpPr>
              <p:cNvPr id="175" name=""/>
              <p:cNvSpPr/>
              <p:nvPr/>
            </p:nvSpPr>
            <p:spPr>
              <a:xfrm>
                <a:off x="2514600" y="4267080"/>
                <a:ext cx="152280" cy="4572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" name=""/>
              <p:cNvCxnSpPr/>
              <p:nvPr/>
            </p:nvCxnSpPr>
            <p:spPr>
              <a:xfrm flipV="1">
                <a:off x="2590920" y="4266360"/>
                <a:ext cx="762480" cy="259560"/>
              </a:xfrm>
              <a:prstGeom prst="curvedConnector5">
                <a:avLst>
                  <a:gd name="adj1" fmla="val 49976"/>
                  <a:gd name="adj2" fmla="val 50000"/>
                  <a:gd name="adj3" fmla="val 49976"/>
                </a:avLst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77" name=""/>
            <p:cNvSpPr/>
            <p:nvPr/>
          </p:nvSpPr>
          <p:spPr>
            <a:xfrm>
              <a:off x="4952880" y="41148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5. GZIP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zip the streams into final compressed ver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 algn="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 algn="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c0c0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16112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RISC Example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perand Specializ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en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,sp,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spill.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4,16 (s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enter sp,*,*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enter *,sp,*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enter *,*,24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pill.i n4,*(*)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pill.i *,16(*)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pill.i *,*(sp)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16112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RISC Example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pcode Combin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en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,sp,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spill.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4,16 (s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[enter sp,*,*],[spill.i n4,*(*)]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[enter sp,*,*],[spill.i *,16(*)]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[enter sp,*,*],[spill.i *,*(sp)]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[enter *,sp,*],[spill.i n4,*(*)]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16112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sults - Wire Code </a:t>
            </a:r>
            <a:br>
              <a:rPr sz="4200"/>
            </a:b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560" y="1765440"/>
          <a:ext cx="759600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765440"/>
                    <a:ext cx="759600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467480" y="6324480"/>
            <a:ext cx="1524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6356520"/>
            <a:ext cx="1371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sults from Omni-War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161120" y="0"/>
            <a:ext cx="198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81080" y="1295280"/>
          <a:ext cx="5410440" cy="14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95280"/>
                    <a:ext cx="54104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752480" y="2590920"/>
          <a:ext cx="5105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590920"/>
                    <a:ext cx="51055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981080" y="4521240"/>
          <a:ext cx="472464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521240"/>
                    <a:ext cx="4724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8055000" y="6280200"/>
            <a:ext cx="7840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Times New Roman"/>
              </a:rPr>
              <a:t>BAC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pply Move-To-Fron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TF indexing transforms the following stream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 tab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3816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971800"/>
            <a:ext cx="2971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2 72 68 72 68 68 68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5715000"/>
            <a:ext cx="990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2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50532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343400"/>
            <a:ext cx="19051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1 0 2 2 1 1 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New Technolog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bile Applications - Agents, Apple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mogeneous Execution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ad Balanc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rge Application Size / Application Serv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terpreted Languages - Ja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ual Mach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New Needs -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ld Architectur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ld von Neumann Architec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on Neumann Bottlenec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equate for stand-alone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PU/Disk speed ratio (Tradition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PU/Network speed ratio (Mobile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23744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Goal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aster Load Ti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crease CPU throughpu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duce Network/Disk ac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Memory Requir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ging is expensi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maller working set = less pa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23744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aster Load Times 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- Wire Cod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re forma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ad compressed cod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ust be decompressed in memo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hieves a higher CPU throughpu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23744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aladin" descr=""/>
          <p:cNvPicPr/>
          <p:nvPr/>
        </p:nvPicPr>
        <p:blipFill>
          <a:blip r:embed="rId1"/>
          <a:stretch/>
        </p:blipFill>
        <p:spPr>
          <a:xfrm>
            <a:off x="7769160" y="4821120"/>
            <a:ext cx="1298520" cy="1173240"/>
          </a:xfrm>
          <a:prstGeom prst="rect">
            <a:avLst/>
          </a:prstGeom>
          <a:ln w="0">
            <a:noFill/>
          </a:ln>
        </p:spPr>
      </p:pic>
      <p:pic>
        <p:nvPicPr>
          <p:cNvPr id="107" name="aladin" descr=""/>
          <p:cNvPicPr/>
          <p:nvPr/>
        </p:nvPicPr>
        <p:blipFill>
          <a:blip r:embed="rId2"/>
          <a:stretch/>
        </p:blipFill>
        <p:spPr>
          <a:xfrm>
            <a:off x="530280" y="4973760"/>
            <a:ext cx="1298520" cy="1172880"/>
          </a:xfrm>
          <a:prstGeom prst="rect">
            <a:avLst/>
          </a:prstGeom>
          <a:ln w="0">
            <a:noFill/>
          </a:ln>
        </p:spPr>
      </p:pic>
      <p:pic>
        <p:nvPicPr>
          <p:cNvPr id="108" name="aladin" descr=""/>
          <p:cNvPicPr/>
          <p:nvPr/>
        </p:nvPicPr>
        <p:blipFill>
          <a:blip r:embed="rId3"/>
          <a:stretch/>
        </p:blipFill>
        <p:spPr>
          <a:xfrm>
            <a:off x="2244600" y="5621400"/>
            <a:ext cx="282600" cy="255600"/>
          </a:xfrm>
          <a:prstGeom prst="rect">
            <a:avLst/>
          </a:prstGeom>
          <a:ln w="0">
            <a:noFill/>
          </a:ln>
        </p:spPr>
      </p:pic>
      <p:pic>
        <p:nvPicPr>
          <p:cNvPr id="109" name="aladin" descr=""/>
          <p:cNvPicPr/>
          <p:nvPr/>
        </p:nvPicPr>
        <p:blipFill>
          <a:blip r:embed="rId4"/>
          <a:stretch/>
        </p:blipFill>
        <p:spPr>
          <a:xfrm>
            <a:off x="8763120" y="5600880"/>
            <a:ext cx="282600" cy="255240"/>
          </a:xfrm>
          <a:prstGeom prst="rect">
            <a:avLst/>
          </a:prstGeom>
          <a:ln w="0">
            <a:noFill/>
          </a:ln>
        </p:spPr>
      </p:pic>
      <p:pic>
        <p:nvPicPr>
          <p:cNvPr id="110" name="aladin" descr=""/>
          <p:cNvPicPr/>
          <p:nvPr/>
        </p:nvPicPr>
        <p:blipFill>
          <a:blip r:embed="rId5"/>
          <a:stretch/>
        </p:blipFill>
        <p:spPr>
          <a:xfrm>
            <a:off x="7769160" y="4821120"/>
            <a:ext cx="1295640" cy="1171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9680" y="5537160"/>
            <a:ext cx="5410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994360"/>
            <a:ext cx="5410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537160"/>
            <a:ext cx="5410440" cy="45720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537160"/>
            <a:ext cx="152280" cy="457200"/>
          </a:xfrm>
          <a:prstGeom prst="ellipse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537160"/>
            <a:ext cx="152280" cy="457200"/>
          </a:xfrm>
          <a:prstGeom prst="ellipse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53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ahoma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5867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ahoma"/>
              </a:rPr>
              <a:t>Wire Cod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ladin" descr=""/>
          <p:cNvPicPr/>
          <p:nvPr/>
        </p:nvPicPr>
        <p:blipFill>
          <a:blip r:embed="rId6"/>
          <a:stretch/>
        </p:blipFill>
        <p:spPr>
          <a:xfrm>
            <a:off x="7772400" y="4848120"/>
            <a:ext cx="129528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duced Memory Requirements - 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“Meta-Language”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ta-Language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language describing other languag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ecute without decompres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terpreted or Compiled by a V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ecution time roughly the sam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orage requirements greatly reduc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237440" y="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esign Spa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ctiona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inding Tim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-sta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tterniz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esign Spa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m Streams for Operand and Op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ve-To-Front (MTF) indexing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rithmetic coding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ffman cod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Moti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Times New Roman"/>
              </a:rPr>
              <a:t>Compression Techn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ire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BR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21:06:43Z</dcterms:created>
  <dc:creator>peon</dc:creator>
  <dc:description/>
  <dc:language>en-US</dc:language>
  <cp:lastModifiedBy>James D. Arthur</cp:lastModifiedBy>
  <dcterms:modified xsi:type="dcterms:W3CDTF">1999-04-21T15:41:57Z</dcterms:modified>
  <cp:revision>25</cp:revision>
  <dc:subject/>
  <dc:title>CODE COMPRESSION A META-LANGUAGE APPROACH</dc:title>
</cp:coreProperties>
</file>