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76320"/>
            <a:ext cx="8839080" cy="6723360"/>
            <a:chOff x="152280" y="76320"/>
            <a:chExt cx="8839080" cy="6723360"/>
          </a:xfrm>
        </p:grpSpPr>
        <p:sp>
          <p:nvSpPr>
            <p:cNvPr id="1" name=""/>
            <p:cNvSpPr/>
            <p:nvPr/>
          </p:nvSpPr>
          <p:spPr>
            <a:xfrm>
              <a:off x="152280" y="228600"/>
              <a:ext cx="8839080" cy="6324480"/>
            </a:xfrm>
            <a:prstGeom prst="rect">
              <a:avLst/>
            </a:prstGeom>
            <a:noFill/>
            <a:ln w="25560">
              <a:solidFill>
                <a:srgbClr val="fde3ba"/>
              </a:solidFill>
              <a:custDash>
                <a:ds d="49296" sp="49296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001960" y="76320"/>
              <a:ext cx="5313600" cy="6723360"/>
              <a:chOff x="2001960" y="76320"/>
              <a:chExt cx="5313600" cy="6723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00800" y="76320"/>
                <a:ext cx="914760" cy="762120"/>
                <a:chOff x="6400800" y="76320"/>
                <a:chExt cx="914760" cy="7621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32560" y="15228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00800" y="763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f57b4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01960" y="6019920"/>
                <a:ext cx="1005120" cy="779760"/>
                <a:chOff x="2001960" y="6019920"/>
                <a:chExt cx="1005120" cy="7797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224080" y="61135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01960" y="60199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f57b4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Introduction to C Program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Windows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This is Slide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This is Line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M. Maurer</dc:creator>
  <dc:description/>
  <dc:language>en-US</dc:language>
  <cp:lastModifiedBy>Peter M. Maurer</cp:lastModifiedBy>
  <cp:revision>0</cp:revision>
  <dc:subject>Design Automation Lectures</dc:subject>
  <dc:title>Introduction to C Programming</dc:title>
</cp:coreProperties>
</file>