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895320"/>
              <a:chOff x="0" y="0"/>
              <a:chExt cx="9131400" cy="89532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31400" cy="895320"/>
              </a:xfrm>
              <a:prstGeom prst="rect">
                <a:avLst/>
              </a:prstGeom>
              <a:gradFill rotWithShape="0">
                <a:gsLst>
                  <a:gs pos="0">
                    <a:srgbClr val="8e01fc"/>
                  </a:gs>
                  <a:gs pos="100000">
                    <a:srgbClr val="2a004b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0" y="190440"/>
                <a:ext cx="8761680" cy="446400"/>
                <a:chOff x="0" y="190440"/>
                <a:chExt cx="8761680" cy="4464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0" y="609480"/>
                  <a:ext cx="6934320" cy="25560"/>
                  <a:chOff x="0" y="609480"/>
                  <a:chExt cx="6934320" cy="2556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0" y="609480"/>
                    <a:ext cx="5935680" cy="2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5924520" y="609480"/>
                    <a:ext cx="1009800" cy="2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6880320" y="190440"/>
                  <a:ext cx="1881360" cy="446400"/>
                  <a:chOff x="6880320" y="190440"/>
                  <a:chExt cx="1881360" cy="44640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6962760" y="190440"/>
                    <a:ext cx="1798920" cy="446400"/>
                  </a:xfrm>
                  <a:custGeom>
                    <a:avLst/>
                    <a:gdLst/>
                    <a:ahLst/>
                    <a:rect l="0" t="0" r="r" b="b"/>
                    <a:pathLst>
                      <a:path w="4997" h="1240">
                        <a:moveTo>
                          <a:pt x="0" y="211"/>
                        </a:moveTo>
                        <a:lnTo>
                          <a:pt x="189" y="154"/>
                        </a:lnTo>
                        <a:lnTo>
                          <a:pt x="970" y="702"/>
                        </a:lnTo>
                        <a:lnTo>
                          <a:pt x="1023" y="733"/>
                        </a:lnTo>
                        <a:lnTo>
                          <a:pt x="1067" y="746"/>
                        </a:lnTo>
                        <a:lnTo>
                          <a:pt x="1102" y="750"/>
                        </a:lnTo>
                        <a:lnTo>
                          <a:pt x="1133" y="750"/>
                        </a:lnTo>
                        <a:lnTo>
                          <a:pt x="1168" y="750"/>
                        </a:lnTo>
                        <a:lnTo>
                          <a:pt x="1256" y="728"/>
                        </a:lnTo>
                        <a:lnTo>
                          <a:pt x="3974" y="79"/>
                        </a:lnTo>
                        <a:lnTo>
                          <a:pt x="4115" y="52"/>
                        </a:lnTo>
                        <a:lnTo>
                          <a:pt x="4238" y="26"/>
                        </a:lnTo>
                        <a:lnTo>
                          <a:pt x="4318" y="17"/>
                        </a:lnTo>
                        <a:lnTo>
                          <a:pt x="4423" y="8"/>
                        </a:lnTo>
                        <a:lnTo>
                          <a:pt x="4512" y="0"/>
                        </a:lnTo>
                        <a:lnTo>
                          <a:pt x="4595" y="8"/>
                        </a:lnTo>
                        <a:lnTo>
                          <a:pt x="4719" y="26"/>
                        </a:lnTo>
                        <a:lnTo>
                          <a:pt x="4798" y="48"/>
                        </a:lnTo>
                        <a:lnTo>
                          <a:pt x="4873" y="83"/>
                        </a:lnTo>
                        <a:lnTo>
                          <a:pt x="4957" y="123"/>
                        </a:lnTo>
                        <a:lnTo>
                          <a:pt x="4997" y="207"/>
                        </a:lnTo>
                        <a:lnTo>
                          <a:pt x="4970" y="277"/>
                        </a:lnTo>
                        <a:lnTo>
                          <a:pt x="4917" y="335"/>
                        </a:lnTo>
                        <a:lnTo>
                          <a:pt x="4851" y="388"/>
                        </a:lnTo>
                        <a:lnTo>
                          <a:pt x="4732" y="458"/>
                        </a:lnTo>
                        <a:lnTo>
                          <a:pt x="4582" y="520"/>
                        </a:lnTo>
                        <a:lnTo>
                          <a:pt x="4494" y="555"/>
                        </a:lnTo>
                        <a:lnTo>
                          <a:pt x="4393" y="586"/>
                        </a:lnTo>
                        <a:lnTo>
                          <a:pt x="4212" y="631"/>
                        </a:lnTo>
                        <a:lnTo>
                          <a:pt x="3960" y="688"/>
                        </a:lnTo>
                        <a:lnTo>
                          <a:pt x="1825" y="1169"/>
                        </a:lnTo>
                        <a:lnTo>
                          <a:pt x="1609" y="1209"/>
                        </a:lnTo>
                        <a:lnTo>
                          <a:pt x="1464" y="1235"/>
                        </a:lnTo>
                        <a:lnTo>
                          <a:pt x="1292" y="1235"/>
                        </a:lnTo>
                        <a:lnTo>
                          <a:pt x="1124" y="1235"/>
                        </a:lnTo>
                        <a:lnTo>
                          <a:pt x="471" y="1240"/>
                        </a:lnTo>
                        <a:lnTo>
                          <a:pt x="304" y="1235"/>
                        </a:lnTo>
                        <a:lnTo>
                          <a:pt x="291" y="1231"/>
                        </a:lnTo>
                        <a:lnTo>
                          <a:pt x="273" y="1213"/>
                        </a:lnTo>
                        <a:lnTo>
                          <a:pt x="255" y="1213"/>
                        </a:lnTo>
                        <a:lnTo>
                          <a:pt x="233" y="1196"/>
                        </a:lnTo>
                        <a:lnTo>
                          <a:pt x="233" y="1178"/>
                        </a:lnTo>
                        <a:lnTo>
                          <a:pt x="246" y="1156"/>
                        </a:lnTo>
                        <a:lnTo>
                          <a:pt x="273" y="1134"/>
                        </a:lnTo>
                        <a:lnTo>
                          <a:pt x="343" y="1081"/>
                        </a:lnTo>
                        <a:lnTo>
                          <a:pt x="414" y="1050"/>
                        </a:lnTo>
                        <a:lnTo>
                          <a:pt x="436" y="1041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7904160" y="468360"/>
                    <a:ext cx="3542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984" h="323">
                        <a:moveTo>
                          <a:pt x="0" y="217"/>
                        </a:moveTo>
                        <a:lnTo>
                          <a:pt x="264" y="244"/>
                        </a:lnTo>
                        <a:lnTo>
                          <a:pt x="396" y="323"/>
                        </a:lnTo>
                        <a:lnTo>
                          <a:pt x="525" y="301"/>
                        </a:lnTo>
                        <a:lnTo>
                          <a:pt x="636" y="288"/>
                        </a:lnTo>
                        <a:lnTo>
                          <a:pt x="662" y="315"/>
                        </a:lnTo>
                        <a:lnTo>
                          <a:pt x="931" y="293"/>
                        </a:lnTo>
                        <a:lnTo>
                          <a:pt x="971" y="239"/>
                        </a:lnTo>
                        <a:lnTo>
                          <a:pt x="979" y="212"/>
                        </a:lnTo>
                        <a:lnTo>
                          <a:pt x="984" y="177"/>
                        </a:lnTo>
                        <a:lnTo>
                          <a:pt x="979" y="137"/>
                        </a:lnTo>
                        <a:lnTo>
                          <a:pt x="975" y="111"/>
                        </a:lnTo>
                        <a:lnTo>
                          <a:pt x="962" y="79"/>
                        </a:lnTo>
                        <a:lnTo>
                          <a:pt x="931" y="0"/>
                        </a:lnTo>
                        <a:lnTo>
                          <a:pt x="0" y="2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6880320" y="542880"/>
                    <a:ext cx="373320" cy="4968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138">
                        <a:moveTo>
                          <a:pt x="1037" y="60"/>
                        </a:moveTo>
                        <a:lnTo>
                          <a:pt x="1028" y="67"/>
                        </a:lnTo>
                        <a:lnTo>
                          <a:pt x="1024" y="74"/>
                        </a:lnTo>
                        <a:lnTo>
                          <a:pt x="1007" y="85"/>
                        </a:lnTo>
                        <a:lnTo>
                          <a:pt x="981" y="100"/>
                        </a:lnTo>
                        <a:lnTo>
                          <a:pt x="938" y="116"/>
                        </a:lnTo>
                        <a:lnTo>
                          <a:pt x="891" y="123"/>
                        </a:lnTo>
                        <a:lnTo>
                          <a:pt x="813" y="135"/>
                        </a:lnTo>
                        <a:lnTo>
                          <a:pt x="723" y="138"/>
                        </a:lnTo>
                        <a:lnTo>
                          <a:pt x="645" y="138"/>
                        </a:lnTo>
                        <a:lnTo>
                          <a:pt x="611" y="135"/>
                        </a:lnTo>
                        <a:lnTo>
                          <a:pt x="529" y="127"/>
                        </a:lnTo>
                        <a:lnTo>
                          <a:pt x="0" y="45"/>
                        </a:lnTo>
                        <a:lnTo>
                          <a:pt x="25" y="37"/>
                        </a:lnTo>
                        <a:lnTo>
                          <a:pt x="55" y="25"/>
                        </a:lnTo>
                        <a:lnTo>
                          <a:pt x="90" y="18"/>
                        </a:lnTo>
                        <a:lnTo>
                          <a:pt x="154" y="3"/>
                        </a:lnTo>
                        <a:lnTo>
                          <a:pt x="223" y="0"/>
                        </a:lnTo>
                        <a:lnTo>
                          <a:pt x="1037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054920" y="289080"/>
                    <a:ext cx="811440" cy="174960"/>
                  </a:xfrm>
                  <a:custGeom>
                    <a:avLst/>
                    <a:gdLst/>
                    <a:ahLst/>
                    <a:rect l="0" t="0" r="r" b="b"/>
                    <a:pathLst>
                      <a:path w="2254" h="486">
                        <a:moveTo>
                          <a:pt x="2254" y="318"/>
                        </a:moveTo>
                        <a:lnTo>
                          <a:pt x="202" y="0"/>
                        </a:lnTo>
                        <a:lnTo>
                          <a:pt x="0" y="61"/>
                        </a:lnTo>
                        <a:lnTo>
                          <a:pt x="811" y="296"/>
                        </a:lnTo>
                        <a:lnTo>
                          <a:pt x="1288" y="486"/>
                        </a:lnTo>
                        <a:lnTo>
                          <a:pt x="2254" y="3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" name=""/>
            <p:cNvGrpSpPr/>
            <p:nvPr/>
          </p:nvGrpSpPr>
          <p:grpSpPr>
            <a:xfrm>
              <a:off x="0" y="4572000"/>
              <a:ext cx="9131400" cy="2273400"/>
              <a:chOff x="0" y="4572000"/>
              <a:chExt cx="9131400" cy="2273400"/>
            </a:xfrm>
          </p:grpSpPr>
          <p:sp>
            <p:nvSpPr>
              <p:cNvPr id="13" name=""/>
              <p:cNvSpPr/>
              <p:nvPr/>
            </p:nvSpPr>
            <p:spPr>
              <a:xfrm>
                <a:off x="0" y="6400800"/>
                <a:ext cx="9131400" cy="444600"/>
              </a:xfrm>
              <a:prstGeom prst="rect">
                <a:avLst/>
              </a:prstGeom>
              <a:gradFill rotWithShape="0">
                <a:gsLst>
                  <a:gs pos="0">
                    <a:srgbClr val="00004c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" name=""/>
              <p:cNvGrpSpPr/>
              <p:nvPr/>
            </p:nvGrpSpPr>
            <p:grpSpPr>
              <a:xfrm>
                <a:off x="160200" y="4572000"/>
                <a:ext cx="1078560" cy="1911960"/>
                <a:chOff x="160200" y="4572000"/>
                <a:chExt cx="1078560" cy="191196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349200" y="5398920"/>
                  <a:ext cx="59040" cy="562320"/>
                </a:xfrm>
                <a:custGeom>
                  <a:avLst/>
                  <a:gdLst/>
                  <a:ahLst/>
                  <a:rect l="0" t="0" r="r" b="b"/>
                  <a:pathLst>
                    <a:path w="164" h="1562">
                      <a:moveTo>
                        <a:pt x="92" y="166"/>
                      </a:moveTo>
                      <a:lnTo>
                        <a:pt x="92" y="265"/>
                      </a:lnTo>
                      <a:lnTo>
                        <a:pt x="164" y="1562"/>
                      </a:lnTo>
                      <a:lnTo>
                        <a:pt x="138" y="1529"/>
                      </a:lnTo>
                      <a:lnTo>
                        <a:pt x="118" y="1452"/>
                      </a:lnTo>
                      <a:lnTo>
                        <a:pt x="62" y="1202"/>
                      </a:lnTo>
                      <a:lnTo>
                        <a:pt x="25" y="991"/>
                      </a:lnTo>
                      <a:lnTo>
                        <a:pt x="11" y="864"/>
                      </a:lnTo>
                      <a:lnTo>
                        <a:pt x="2" y="737"/>
                      </a:lnTo>
                      <a:lnTo>
                        <a:pt x="0" y="570"/>
                      </a:lnTo>
                      <a:lnTo>
                        <a:pt x="6" y="404"/>
                      </a:lnTo>
                      <a:lnTo>
                        <a:pt x="25" y="220"/>
                      </a:lnTo>
                      <a:lnTo>
                        <a:pt x="41" y="84"/>
                      </a:lnTo>
                      <a:lnTo>
                        <a:pt x="55" y="7"/>
                      </a:lnTo>
                      <a:lnTo>
                        <a:pt x="57" y="0"/>
                      </a:lnTo>
                      <a:lnTo>
                        <a:pt x="9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01760" y="6224760"/>
                  <a:ext cx="837000" cy="259200"/>
                </a:xfrm>
                <a:custGeom>
                  <a:avLst/>
                  <a:gdLst/>
                  <a:ahLst/>
                  <a:rect l="0" t="0" r="r" b="b"/>
                  <a:pathLst>
                    <a:path w="2325" h="720">
                      <a:moveTo>
                        <a:pt x="17" y="86"/>
                      </a:moveTo>
                      <a:lnTo>
                        <a:pt x="246" y="66"/>
                      </a:lnTo>
                      <a:lnTo>
                        <a:pt x="2186" y="2"/>
                      </a:lnTo>
                      <a:lnTo>
                        <a:pt x="2236" y="2"/>
                      </a:lnTo>
                      <a:lnTo>
                        <a:pt x="2293" y="0"/>
                      </a:lnTo>
                      <a:lnTo>
                        <a:pt x="2308" y="14"/>
                      </a:lnTo>
                      <a:lnTo>
                        <a:pt x="2320" y="54"/>
                      </a:lnTo>
                      <a:lnTo>
                        <a:pt x="2325" y="88"/>
                      </a:lnTo>
                      <a:lnTo>
                        <a:pt x="2323" y="125"/>
                      </a:lnTo>
                      <a:lnTo>
                        <a:pt x="2313" y="162"/>
                      </a:lnTo>
                      <a:lnTo>
                        <a:pt x="2301" y="195"/>
                      </a:lnTo>
                      <a:lnTo>
                        <a:pt x="2281" y="227"/>
                      </a:lnTo>
                      <a:lnTo>
                        <a:pt x="2256" y="261"/>
                      </a:lnTo>
                      <a:lnTo>
                        <a:pt x="2221" y="301"/>
                      </a:lnTo>
                      <a:lnTo>
                        <a:pt x="2186" y="333"/>
                      </a:lnTo>
                      <a:lnTo>
                        <a:pt x="2107" y="402"/>
                      </a:lnTo>
                      <a:lnTo>
                        <a:pt x="2072" y="434"/>
                      </a:lnTo>
                      <a:lnTo>
                        <a:pt x="2045" y="466"/>
                      </a:lnTo>
                      <a:lnTo>
                        <a:pt x="2015" y="505"/>
                      </a:lnTo>
                      <a:lnTo>
                        <a:pt x="1987" y="548"/>
                      </a:lnTo>
                      <a:lnTo>
                        <a:pt x="1977" y="560"/>
                      </a:lnTo>
                      <a:lnTo>
                        <a:pt x="1908" y="587"/>
                      </a:lnTo>
                      <a:lnTo>
                        <a:pt x="1876" y="587"/>
                      </a:lnTo>
                      <a:lnTo>
                        <a:pt x="1696" y="600"/>
                      </a:lnTo>
                      <a:lnTo>
                        <a:pt x="1581" y="612"/>
                      </a:lnTo>
                      <a:lnTo>
                        <a:pt x="1397" y="642"/>
                      </a:lnTo>
                      <a:lnTo>
                        <a:pt x="1067" y="706"/>
                      </a:lnTo>
                      <a:lnTo>
                        <a:pt x="990" y="715"/>
                      </a:lnTo>
                      <a:lnTo>
                        <a:pt x="913" y="720"/>
                      </a:lnTo>
                      <a:lnTo>
                        <a:pt x="836" y="720"/>
                      </a:lnTo>
                      <a:lnTo>
                        <a:pt x="783" y="720"/>
                      </a:lnTo>
                      <a:lnTo>
                        <a:pt x="711" y="715"/>
                      </a:lnTo>
                      <a:lnTo>
                        <a:pt x="590" y="701"/>
                      </a:lnTo>
                      <a:lnTo>
                        <a:pt x="541" y="691"/>
                      </a:lnTo>
                      <a:lnTo>
                        <a:pt x="499" y="681"/>
                      </a:lnTo>
                      <a:lnTo>
                        <a:pt x="459" y="669"/>
                      </a:lnTo>
                      <a:lnTo>
                        <a:pt x="422" y="651"/>
                      </a:lnTo>
                      <a:lnTo>
                        <a:pt x="385" y="634"/>
                      </a:lnTo>
                      <a:lnTo>
                        <a:pt x="352" y="614"/>
                      </a:lnTo>
                      <a:lnTo>
                        <a:pt x="308" y="578"/>
                      </a:lnTo>
                      <a:lnTo>
                        <a:pt x="270" y="537"/>
                      </a:lnTo>
                      <a:lnTo>
                        <a:pt x="86" y="323"/>
                      </a:lnTo>
                      <a:lnTo>
                        <a:pt x="62" y="291"/>
                      </a:lnTo>
                      <a:lnTo>
                        <a:pt x="42" y="257"/>
                      </a:lnTo>
                      <a:lnTo>
                        <a:pt x="22" y="222"/>
                      </a:lnTo>
                      <a:lnTo>
                        <a:pt x="9" y="183"/>
                      </a:lnTo>
                      <a:lnTo>
                        <a:pt x="2" y="152"/>
                      </a:lnTo>
                      <a:lnTo>
                        <a:pt x="0" y="118"/>
                      </a:lnTo>
                      <a:lnTo>
                        <a:pt x="0" y="103"/>
                      </a:lnTo>
                      <a:lnTo>
                        <a:pt x="17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401760" y="6219720"/>
                  <a:ext cx="552960" cy="167040"/>
                </a:xfrm>
                <a:custGeom>
                  <a:avLst/>
                  <a:gdLst/>
                  <a:ahLst/>
                  <a:rect l="0" t="0" r="r" b="b"/>
                  <a:pathLst>
                    <a:path w="1536" h="464">
                      <a:moveTo>
                        <a:pt x="799" y="464"/>
                      </a:moveTo>
                      <a:lnTo>
                        <a:pt x="752" y="461"/>
                      </a:lnTo>
                      <a:lnTo>
                        <a:pt x="687" y="461"/>
                      </a:lnTo>
                      <a:lnTo>
                        <a:pt x="590" y="461"/>
                      </a:lnTo>
                      <a:lnTo>
                        <a:pt x="495" y="454"/>
                      </a:lnTo>
                      <a:lnTo>
                        <a:pt x="416" y="444"/>
                      </a:lnTo>
                      <a:lnTo>
                        <a:pt x="363" y="437"/>
                      </a:lnTo>
                      <a:lnTo>
                        <a:pt x="323" y="430"/>
                      </a:lnTo>
                      <a:lnTo>
                        <a:pt x="286" y="418"/>
                      </a:lnTo>
                      <a:lnTo>
                        <a:pt x="246" y="404"/>
                      </a:lnTo>
                      <a:lnTo>
                        <a:pt x="208" y="389"/>
                      </a:lnTo>
                      <a:lnTo>
                        <a:pt x="174" y="370"/>
                      </a:lnTo>
                      <a:lnTo>
                        <a:pt x="139" y="353"/>
                      </a:lnTo>
                      <a:lnTo>
                        <a:pt x="99" y="324"/>
                      </a:lnTo>
                      <a:lnTo>
                        <a:pt x="64" y="296"/>
                      </a:lnTo>
                      <a:lnTo>
                        <a:pt x="37" y="262"/>
                      </a:lnTo>
                      <a:lnTo>
                        <a:pt x="17" y="230"/>
                      </a:lnTo>
                      <a:lnTo>
                        <a:pt x="7" y="199"/>
                      </a:lnTo>
                      <a:lnTo>
                        <a:pt x="0" y="165"/>
                      </a:lnTo>
                      <a:lnTo>
                        <a:pt x="2" y="131"/>
                      </a:lnTo>
                      <a:lnTo>
                        <a:pt x="37" y="107"/>
                      </a:lnTo>
                      <a:lnTo>
                        <a:pt x="77" y="98"/>
                      </a:lnTo>
                      <a:lnTo>
                        <a:pt x="114" y="91"/>
                      </a:lnTo>
                      <a:lnTo>
                        <a:pt x="184" y="86"/>
                      </a:lnTo>
                      <a:lnTo>
                        <a:pt x="602" y="64"/>
                      </a:lnTo>
                      <a:lnTo>
                        <a:pt x="647" y="64"/>
                      </a:lnTo>
                      <a:lnTo>
                        <a:pt x="801" y="67"/>
                      </a:lnTo>
                      <a:lnTo>
                        <a:pt x="896" y="64"/>
                      </a:lnTo>
                      <a:lnTo>
                        <a:pt x="1055" y="55"/>
                      </a:lnTo>
                      <a:lnTo>
                        <a:pt x="1087" y="47"/>
                      </a:lnTo>
                      <a:lnTo>
                        <a:pt x="1137" y="31"/>
                      </a:lnTo>
                      <a:lnTo>
                        <a:pt x="1180" y="21"/>
                      </a:lnTo>
                      <a:lnTo>
                        <a:pt x="1218" y="14"/>
                      </a:lnTo>
                      <a:lnTo>
                        <a:pt x="1255" y="9"/>
                      </a:lnTo>
                      <a:lnTo>
                        <a:pt x="1305" y="9"/>
                      </a:lnTo>
                      <a:lnTo>
                        <a:pt x="1536" y="0"/>
                      </a:lnTo>
                      <a:lnTo>
                        <a:pt x="1392" y="57"/>
                      </a:lnTo>
                      <a:lnTo>
                        <a:pt x="1213" y="148"/>
                      </a:lnTo>
                      <a:lnTo>
                        <a:pt x="1132" y="189"/>
                      </a:lnTo>
                      <a:lnTo>
                        <a:pt x="1077" y="223"/>
                      </a:lnTo>
                      <a:lnTo>
                        <a:pt x="1043" y="227"/>
                      </a:lnTo>
                      <a:lnTo>
                        <a:pt x="846" y="248"/>
                      </a:lnTo>
                      <a:lnTo>
                        <a:pt x="779" y="250"/>
                      </a:lnTo>
                      <a:lnTo>
                        <a:pt x="722" y="248"/>
                      </a:lnTo>
                      <a:lnTo>
                        <a:pt x="650" y="243"/>
                      </a:lnTo>
                      <a:lnTo>
                        <a:pt x="617" y="243"/>
                      </a:lnTo>
                      <a:lnTo>
                        <a:pt x="600" y="276"/>
                      </a:lnTo>
                      <a:lnTo>
                        <a:pt x="565" y="288"/>
                      </a:lnTo>
                      <a:lnTo>
                        <a:pt x="528" y="286"/>
                      </a:lnTo>
                      <a:lnTo>
                        <a:pt x="485" y="281"/>
                      </a:lnTo>
                      <a:lnTo>
                        <a:pt x="433" y="272"/>
                      </a:lnTo>
                      <a:lnTo>
                        <a:pt x="398" y="264"/>
                      </a:lnTo>
                      <a:lnTo>
                        <a:pt x="368" y="255"/>
                      </a:lnTo>
                      <a:lnTo>
                        <a:pt x="330" y="238"/>
                      </a:lnTo>
                      <a:lnTo>
                        <a:pt x="298" y="220"/>
                      </a:lnTo>
                      <a:lnTo>
                        <a:pt x="263" y="196"/>
                      </a:lnTo>
                      <a:lnTo>
                        <a:pt x="241" y="227"/>
                      </a:lnTo>
                      <a:lnTo>
                        <a:pt x="241" y="260"/>
                      </a:lnTo>
                      <a:lnTo>
                        <a:pt x="256" y="296"/>
                      </a:lnTo>
                      <a:lnTo>
                        <a:pt x="300" y="324"/>
                      </a:lnTo>
                      <a:lnTo>
                        <a:pt x="338" y="346"/>
                      </a:lnTo>
                      <a:lnTo>
                        <a:pt x="370" y="360"/>
                      </a:lnTo>
                      <a:lnTo>
                        <a:pt x="403" y="377"/>
                      </a:lnTo>
                      <a:lnTo>
                        <a:pt x="438" y="389"/>
                      </a:lnTo>
                      <a:lnTo>
                        <a:pt x="471" y="399"/>
                      </a:lnTo>
                      <a:lnTo>
                        <a:pt x="535" y="416"/>
                      </a:lnTo>
                      <a:lnTo>
                        <a:pt x="575" y="423"/>
                      </a:lnTo>
                      <a:lnTo>
                        <a:pt x="607" y="428"/>
                      </a:lnTo>
                      <a:lnTo>
                        <a:pt x="677" y="435"/>
                      </a:lnTo>
                      <a:lnTo>
                        <a:pt x="744" y="437"/>
                      </a:lnTo>
                      <a:lnTo>
                        <a:pt x="804" y="437"/>
                      </a:lnTo>
                      <a:lnTo>
                        <a:pt x="829" y="437"/>
                      </a:lnTo>
                      <a:lnTo>
                        <a:pt x="799" y="4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71400" y="6259680"/>
                  <a:ext cx="27360" cy="20880"/>
                </a:xfrm>
                <a:custGeom>
                  <a:avLst/>
                  <a:gdLst/>
                  <a:ahLst/>
                  <a:rect l="0" t="0" r="r" b="b"/>
                  <a:pathLst>
                    <a:path w="76" h="58">
                      <a:moveTo>
                        <a:pt x="31" y="58"/>
                      </a:moveTo>
                      <a:lnTo>
                        <a:pt x="6" y="58"/>
                      </a:lnTo>
                      <a:lnTo>
                        <a:pt x="0" y="26"/>
                      </a:lnTo>
                      <a:lnTo>
                        <a:pt x="29" y="0"/>
                      </a:lnTo>
                      <a:lnTo>
                        <a:pt x="58" y="17"/>
                      </a:lnTo>
                      <a:lnTo>
                        <a:pt x="76" y="34"/>
                      </a:lnTo>
                      <a:lnTo>
                        <a:pt x="31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615960" y="6084720"/>
                  <a:ext cx="65520" cy="176400"/>
                </a:xfrm>
                <a:custGeom>
                  <a:avLst/>
                  <a:gdLst/>
                  <a:ahLst/>
                  <a:rect l="0" t="0" r="r" b="b"/>
                  <a:pathLst>
                    <a:path w="182" h="490">
                      <a:moveTo>
                        <a:pt x="142" y="490"/>
                      </a:moveTo>
                      <a:lnTo>
                        <a:pt x="0" y="0"/>
                      </a:lnTo>
                      <a:lnTo>
                        <a:pt x="77" y="116"/>
                      </a:lnTo>
                      <a:lnTo>
                        <a:pt x="84" y="133"/>
                      </a:lnTo>
                      <a:lnTo>
                        <a:pt x="89" y="157"/>
                      </a:lnTo>
                      <a:lnTo>
                        <a:pt x="163" y="440"/>
                      </a:lnTo>
                      <a:lnTo>
                        <a:pt x="178" y="440"/>
                      </a:lnTo>
                      <a:lnTo>
                        <a:pt x="182" y="464"/>
                      </a:lnTo>
                      <a:lnTo>
                        <a:pt x="142" y="4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 flipV="1">
                  <a:off x="914400" y="6108840"/>
                  <a:ext cx="792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60200" y="4572000"/>
                  <a:ext cx="684720" cy="1626120"/>
                </a:xfrm>
                <a:custGeom>
                  <a:avLst/>
                  <a:gdLst/>
                  <a:ahLst/>
                  <a:rect l="0" t="0" r="r" b="b"/>
                  <a:pathLst>
                    <a:path w="1902" h="4517">
                      <a:moveTo>
                        <a:pt x="1902" y="4517"/>
                      </a:moveTo>
                      <a:lnTo>
                        <a:pt x="1263" y="2381"/>
                      </a:lnTo>
                      <a:lnTo>
                        <a:pt x="253" y="465"/>
                      </a:lnTo>
                      <a:lnTo>
                        <a:pt x="0" y="0"/>
                      </a:lnTo>
                      <a:lnTo>
                        <a:pt x="1902" y="45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50920" y="4768920"/>
                  <a:ext cx="662400" cy="1327680"/>
                </a:xfrm>
                <a:custGeom>
                  <a:avLst/>
                  <a:gdLst/>
                  <a:ahLst/>
                  <a:rect l="0" t="0" r="r" b="b"/>
                  <a:pathLst>
                    <a:path w="1840" h="3688">
                      <a:moveTo>
                        <a:pt x="1840" y="3688"/>
                      </a:moveTo>
                      <a:lnTo>
                        <a:pt x="904" y="1882"/>
                      </a:lnTo>
                      <a:lnTo>
                        <a:pt x="0" y="0"/>
                      </a:lnTo>
                      <a:lnTo>
                        <a:pt x="1840" y="36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290520" y="5429160"/>
                  <a:ext cx="324360" cy="100440"/>
                </a:xfrm>
                <a:custGeom>
                  <a:avLst/>
                  <a:gdLst/>
                  <a:ahLst/>
                  <a:rect l="0" t="0" r="r" b="b"/>
                  <a:pathLst>
                    <a:path w="901" h="279">
                      <a:moveTo>
                        <a:pt x="500" y="181"/>
                      </a:moveTo>
                      <a:lnTo>
                        <a:pt x="901" y="0"/>
                      </a:lnTo>
                      <a:lnTo>
                        <a:pt x="505" y="191"/>
                      </a:lnTo>
                      <a:lnTo>
                        <a:pt x="0" y="279"/>
                      </a:lnTo>
                      <a:lnTo>
                        <a:pt x="500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9320" bIns="49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244440" y="4759200"/>
                  <a:ext cx="221040" cy="729000"/>
                </a:xfrm>
                <a:custGeom>
                  <a:avLst/>
                  <a:gdLst/>
                  <a:ahLst/>
                  <a:rect l="0" t="0" r="r" b="b"/>
                  <a:pathLst>
                    <a:path w="614" h="2025">
                      <a:moveTo>
                        <a:pt x="614" y="2025"/>
                      </a:moveTo>
                      <a:lnTo>
                        <a:pt x="590" y="1985"/>
                      </a:lnTo>
                      <a:lnTo>
                        <a:pt x="507" y="1826"/>
                      </a:lnTo>
                      <a:lnTo>
                        <a:pt x="405" y="1605"/>
                      </a:lnTo>
                      <a:lnTo>
                        <a:pt x="275" y="1238"/>
                      </a:lnTo>
                      <a:lnTo>
                        <a:pt x="177" y="925"/>
                      </a:lnTo>
                      <a:lnTo>
                        <a:pt x="110" y="669"/>
                      </a:lnTo>
                      <a:lnTo>
                        <a:pt x="22" y="208"/>
                      </a:lnTo>
                      <a:lnTo>
                        <a:pt x="2" y="71"/>
                      </a:lnTo>
                      <a:lnTo>
                        <a:pt x="0" y="34"/>
                      </a:lnTo>
                      <a:lnTo>
                        <a:pt x="0" y="0"/>
                      </a:lnTo>
                      <a:lnTo>
                        <a:pt x="26" y="39"/>
                      </a:lnTo>
                      <a:lnTo>
                        <a:pt x="607" y="1997"/>
                      </a:lnTo>
                      <a:lnTo>
                        <a:pt x="614" y="2022"/>
                      </a:lnTo>
                      <a:lnTo>
                        <a:pt x="614" y="20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270000" y="4913280"/>
                  <a:ext cx="617760" cy="1200600"/>
                </a:xfrm>
                <a:custGeom>
                  <a:avLst/>
                  <a:gdLst/>
                  <a:ahLst/>
                  <a:rect l="0" t="0" r="r" b="b"/>
                  <a:pathLst>
                    <a:path w="1716" h="3335">
                      <a:moveTo>
                        <a:pt x="1716" y="3233"/>
                      </a:moveTo>
                      <a:lnTo>
                        <a:pt x="1682" y="3198"/>
                      </a:lnTo>
                      <a:lnTo>
                        <a:pt x="1128" y="2507"/>
                      </a:lnTo>
                      <a:lnTo>
                        <a:pt x="950" y="2253"/>
                      </a:lnTo>
                      <a:lnTo>
                        <a:pt x="656" y="1780"/>
                      </a:lnTo>
                      <a:lnTo>
                        <a:pt x="498" y="1493"/>
                      </a:lnTo>
                      <a:lnTo>
                        <a:pt x="403" y="1267"/>
                      </a:lnTo>
                      <a:lnTo>
                        <a:pt x="246" y="870"/>
                      </a:lnTo>
                      <a:lnTo>
                        <a:pt x="109" y="390"/>
                      </a:lnTo>
                      <a:lnTo>
                        <a:pt x="75" y="266"/>
                      </a:lnTo>
                      <a:lnTo>
                        <a:pt x="0" y="0"/>
                      </a:lnTo>
                      <a:lnTo>
                        <a:pt x="34" y="280"/>
                      </a:lnTo>
                      <a:lnTo>
                        <a:pt x="143" y="800"/>
                      </a:lnTo>
                      <a:lnTo>
                        <a:pt x="314" y="1910"/>
                      </a:lnTo>
                      <a:lnTo>
                        <a:pt x="389" y="2246"/>
                      </a:lnTo>
                      <a:lnTo>
                        <a:pt x="444" y="2437"/>
                      </a:lnTo>
                      <a:lnTo>
                        <a:pt x="498" y="2623"/>
                      </a:lnTo>
                      <a:lnTo>
                        <a:pt x="567" y="2794"/>
                      </a:lnTo>
                      <a:lnTo>
                        <a:pt x="594" y="2863"/>
                      </a:lnTo>
                      <a:lnTo>
                        <a:pt x="628" y="2931"/>
                      </a:lnTo>
                      <a:lnTo>
                        <a:pt x="662" y="2993"/>
                      </a:lnTo>
                      <a:lnTo>
                        <a:pt x="697" y="3048"/>
                      </a:lnTo>
                      <a:lnTo>
                        <a:pt x="731" y="3096"/>
                      </a:lnTo>
                      <a:lnTo>
                        <a:pt x="765" y="3137"/>
                      </a:lnTo>
                      <a:lnTo>
                        <a:pt x="799" y="3171"/>
                      </a:lnTo>
                      <a:lnTo>
                        <a:pt x="847" y="3212"/>
                      </a:lnTo>
                      <a:lnTo>
                        <a:pt x="889" y="3253"/>
                      </a:lnTo>
                      <a:lnTo>
                        <a:pt x="930" y="3280"/>
                      </a:lnTo>
                      <a:lnTo>
                        <a:pt x="957" y="3301"/>
                      </a:lnTo>
                      <a:lnTo>
                        <a:pt x="991" y="3315"/>
                      </a:lnTo>
                      <a:lnTo>
                        <a:pt x="1026" y="3335"/>
                      </a:lnTo>
                      <a:lnTo>
                        <a:pt x="1039" y="3335"/>
                      </a:lnTo>
                      <a:lnTo>
                        <a:pt x="1716" y="32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352440" y="5564160"/>
                  <a:ext cx="135360" cy="646560"/>
                </a:xfrm>
                <a:custGeom>
                  <a:avLst/>
                  <a:gdLst/>
                  <a:ahLst/>
                  <a:rect l="0" t="0" r="r" b="b"/>
                  <a:pathLst>
                    <a:path w="376" h="1796">
                      <a:moveTo>
                        <a:pt x="376" y="1511"/>
                      </a:moveTo>
                      <a:lnTo>
                        <a:pt x="350" y="1471"/>
                      </a:lnTo>
                      <a:lnTo>
                        <a:pt x="264" y="1324"/>
                      </a:lnTo>
                      <a:lnTo>
                        <a:pt x="205" y="1207"/>
                      </a:lnTo>
                      <a:lnTo>
                        <a:pt x="169" y="1130"/>
                      </a:lnTo>
                      <a:lnTo>
                        <a:pt x="136" y="1043"/>
                      </a:lnTo>
                      <a:lnTo>
                        <a:pt x="105" y="951"/>
                      </a:lnTo>
                      <a:lnTo>
                        <a:pt x="80" y="854"/>
                      </a:lnTo>
                      <a:lnTo>
                        <a:pt x="54" y="725"/>
                      </a:lnTo>
                      <a:lnTo>
                        <a:pt x="26" y="564"/>
                      </a:lnTo>
                      <a:lnTo>
                        <a:pt x="16" y="470"/>
                      </a:lnTo>
                      <a:lnTo>
                        <a:pt x="7" y="253"/>
                      </a:lnTo>
                      <a:lnTo>
                        <a:pt x="7" y="0"/>
                      </a:lnTo>
                      <a:lnTo>
                        <a:pt x="4" y="44"/>
                      </a:lnTo>
                      <a:lnTo>
                        <a:pt x="0" y="562"/>
                      </a:lnTo>
                      <a:lnTo>
                        <a:pt x="21" y="981"/>
                      </a:lnTo>
                      <a:lnTo>
                        <a:pt x="40" y="1157"/>
                      </a:lnTo>
                      <a:lnTo>
                        <a:pt x="71" y="1372"/>
                      </a:lnTo>
                      <a:lnTo>
                        <a:pt x="95" y="1488"/>
                      </a:lnTo>
                      <a:lnTo>
                        <a:pt x="143" y="1657"/>
                      </a:lnTo>
                      <a:lnTo>
                        <a:pt x="157" y="1712"/>
                      </a:lnTo>
                      <a:lnTo>
                        <a:pt x="190" y="1796"/>
                      </a:lnTo>
                      <a:lnTo>
                        <a:pt x="188" y="1764"/>
                      </a:lnTo>
                      <a:lnTo>
                        <a:pt x="197" y="1729"/>
                      </a:lnTo>
                      <a:lnTo>
                        <a:pt x="212" y="1707"/>
                      </a:lnTo>
                      <a:lnTo>
                        <a:pt x="376" y="15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20840" y="6183360"/>
                  <a:ext cx="11520" cy="36720"/>
                </a:xfrm>
                <a:custGeom>
                  <a:avLst/>
                  <a:gdLst/>
                  <a:ahLst/>
                  <a:rect l="0" t="0" r="r" b="b"/>
                  <a:pathLst>
                    <a:path w="32" h="102">
                      <a:moveTo>
                        <a:pt x="23" y="0"/>
                      </a:moveTo>
                      <a:lnTo>
                        <a:pt x="5" y="29"/>
                      </a:lnTo>
                      <a:lnTo>
                        <a:pt x="0" y="59"/>
                      </a:lnTo>
                      <a:lnTo>
                        <a:pt x="9" y="88"/>
                      </a:lnTo>
                      <a:lnTo>
                        <a:pt x="31" y="102"/>
                      </a:lnTo>
                      <a:lnTo>
                        <a:pt x="32" y="10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76040" y="5025960"/>
                  <a:ext cx="147960" cy="1171800"/>
                </a:xfrm>
                <a:custGeom>
                  <a:avLst/>
                  <a:gdLst/>
                  <a:ahLst/>
                  <a:rect l="0" t="0" r="r" b="b"/>
                  <a:pathLst>
                    <a:path w="411" h="3255">
                      <a:moveTo>
                        <a:pt x="139" y="0"/>
                      </a:moveTo>
                      <a:lnTo>
                        <a:pt x="125" y="32"/>
                      </a:lnTo>
                      <a:lnTo>
                        <a:pt x="117" y="67"/>
                      </a:lnTo>
                      <a:lnTo>
                        <a:pt x="27" y="738"/>
                      </a:lnTo>
                      <a:lnTo>
                        <a:pt x="4" y="1006"/>
                      </a:lnTo>
                      <a:lnTo>
                        <a:pt x="0" y="1198"/>
                      </a:lnTo>
                      <a:lnTo>
                        <a:pt x="41" y="1989"/>
                      </a:lnTo>
                      <a:lnTo>
                        <a:pt x="71" y="2278"/>
                      </a:lnTo>
                      <a:lnTo>
                        <a:pt x="135" y="2658"/>
                      </a:lnTo>
                      <a:lnTo>
                        <a:pt x="196" y="2922"/>
                      </a:lnTo>
                      <a:lnTo>
                        <a:pt x="222" y="3011"/>
                      </a:lnTo>
                      <a:lnTo>
                        <a:pt x="236" y="3063"/>
                      </a:lnTo>
                      <a:lnTo>
                        <a:pt x="253" y="3108"/>
                      </a:lnTo>
                      <a:lnTo>
                        <a:pt x="273" y="3145"/>
                      </a:lnTo>
                      <a:lnTo>
                        <a:pt x="303" y="3190"/>
                      </a:lnTo>
                      <a:lnTo>
                        <a:pt x="342" y="3228"/>
                      </a:lnTo>
                      <a:lnTo>
                        <a:pt x="376" y="3245"/>
                      </a:lnTo>
                      <a:lnTo>
                        <a:pt x="411" y="3255"/>
                      </a:lnTo>
                      <a:lnTo>
                        <a:pt x="411" y="3215"/>
                      </a:lnTo>
                      <a:lnTo>
                        <a:pt x="217" y="1484"/>
                      </a:lnTo>
                      <a:lnTo>
                        <a:pt x="142" y="29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76040" y="5362560"/>
                  <a:ext cx="192600" cy="783000"/>
                </a:xfrm>
                <a:custGeom>
                  <a:avLst/>
                  <a:gdLst/>
                  <a:ahLst/>
                  <a:rect l="0" t="0" r="r" b="b"/>
                  <a:pathLst>
                    <a:path w="535" h="2175">
                      <a:moveTo>
                        <a:pt x="27" y="74"/>
                      </a:moveTo>
                      <a:lnTo>
                        <a:pt x="34" y="219"/>
                      </a:lnTo>
                      <a:lnTo>
                        <a:pt x="76" y="561"/>
                      </a:lnTo>
                      <a:lnTo>
                        <a:pt x="101" y="695"/>
                      </a:lnTo>
                      <a:lnTo>
                        <a:pt x="156" y="922"/>
                      </a:lnTo>
                      <a:lnTo>
                        <a:pt x="208" y="1097"/>
                      </a:lnTo>
                      <a:lnTo>
                        <a:pt x="314" y="1384"/>
                      </a:lnTo>
                      <a:lnTo>
                        <a:pt x="518" y="1842"/>
                      </a:lnTo>
                      <a:lnTo>
                        <a:pt x="533" y="1879"/>
                      </a:lnTo>
                      <a:lnTo>
                        <a:pt x="535" y="1911"/>
                      </a:lnTo>
                      <a:lnTo>
                        <a:pt x="530" y="1948"/>
                      </a:lnTo>
                      <a:lnTo>
                        <a:pt x="505" y="1983"/>
                      </a:lnTo>
                      <a:lnTo>
                        <a:pt x="471" y="2012"/>
                      </a:lnTo>
                      <a:lnTo>
                        <a:pt x="381" y="2079"/>
                      </a:lnTo>
                      <a:lnTo>
                        <a:pt x="341" y="2111"/>
                      </a:lnTo>
                      <a:lnTo>
                        <a:pt x="302" y="2148"/>
                      </a:lnTo>
                      <a:lnTo>
                        <a:pt x="267" y="2175"/>
                      </a:lnTo>
                      <a:lnTo>
                        <a:pt x="248" y="2133"/>
                      </a:lnTo>
                      <a:lnTo>
                        <a:pt x="191" y="1931"/>
                      </a:lnTo>
                      <a:lnTo>
                        <a:pt x="128" y="1647"/>
                      </a:lnTo>
                      <a:lnTo>
                        <a:pt x="61" y="1226"/>
                      </a:lnTo>
                      <a:lnTo>
                        <a:pt x="9" y="722"/>
                      </a:lnTo>
                      <a:lnTo>
                        <a:pt x="0" y="397"/>
                      </a:lnTo>
                      <a:lnTo>
                        <a:pt x="0" y="266"/>
                      </a:lnTo>
                      <a:lnTo>
                        <a:pt x="22" y="0"/>
                      </a:lnTo>
                      <a:lnTo>
                        <a:pt x="27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297000" y="6192720"/>
                  <a:ext cx="35280" cy="55800"/>
                </a:xfrm>
                <a:custGeom>
                  <a:avLst/>
                  <a:gdLst/>
                  <a:ahLst/>
                  <a:rect l="0" t="0" r="r" b="b"/>
                  <a:pathLst>
                    <a:path w="98" h="155">
                      <a:moveTo>
                        <a:pt x="80" y="155"/>
                      </a:moveTo>
                      <a:lnTo>
                        <a:pt x="98" y="148"/>
                      </a:lnTo>
                      <a:lnTo>
                        <a:pt x="8" y="2"/>
                      </a:lnTo>
                      <a:lnTo>
                        <a:pt x="0" y="0"/>
                      </a:lnTo>
                      <a:lnTo>
                        <a:pt x="80" y="1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25440" y="6261120"/>
                  <a:ext cx="33840" cy="22680"/>
                </a:xfrm>
                <a:custGeom>
                  <a:avLst/>
                  <a:gdLst/>
                  <a:ahLst/>
                  <a:rect l="0" t="0" r="r" b="b"/>
                  <a:pathLst>
                    <a:path w="94" h="63">
                      <a:moveTo>
                        <a:pt x="61" y="0"/>
                      </a:moveTo>
                      <a:lnTo>
                        <a:pt x="94" y="63"/>
                      </a:lnTo>
                      <a:lnTo>
                        <a:pt x="4" y="22"/>
                      </a:lnTo>
                      <a:lnTo>
                        <a:pt x="0" y="1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38040" y="6242040"/>
                  <a:ext cx="111600" cy="38520"/>
                </a:xfrm>
                <a:custGeom>
                  <a:avLst/>
                  <a:gdLst/>
                  <a:ahLst/>
                  <a:rect l="0" t="0" r="r" b="b"/>
                  <a:pathLst>
                    <a:path w="310" h="107">
                      <a:moveTo>
                        <a:pt x="0" y="13"/>
                      </a:moveTo>
                      <a:lnTo>
                        <a:pt x="78" y="0"/>
                      </a:lnTo>
                      <a:lnTo>
                        <a:pt x="310" y="46"/>
                      </a:lnTo>
                      <a:lnTo>
                        <a:pt x="298" y="107"/>
                      </a:lnTo>
                      <a:lnTo>
                        <a:pt x="72" y="24"/>
                      </a:lnTo>
                      <a:lnTo>
                        <a:pt x="0" y="15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365040" y="6242040"/>
                  <a:ext cx="55800" cy="9720"/>
                </a:xfrm>
                <a:custGeom>
                  <a:avLst/>
                  <a:gdLst/>
                  <a:ahLst/>
                  <a:rect l="0" t="0" r="r" b="b"/>
                  <a:pathLst>
                    <a:path w="155" h="27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152" y="18"/>
                      </a:lnTo>
                      <a:lnTo>
                        <a:pt x="155" y="27"/>
                      </a:lnTo>
                      <a:lnTo>
                        <a:pt x="126" y="2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484200" y="62596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650880" y="6105600"/>
                  <a:ext cx="262440" cy="36720"/>
                </a:xfrm>
                <a:custGeom>
                  <a:avLst/>
                  <a:gdLst/>
                  <a:ahLst/>
                  <a:rect l="0" t="0" r="r" b="b"/>
                  <a:pathLst>
                    <a:path w="729" h="102">
                      <a:moveTo>
                        <a:pt x="0" y="80"/>
                      </a:moveTo>
                      <a:lnTo>
                        <a:pt x="705" y="0"/>
                      </a:lnTo>
                      <a:lnTo>
                        <a:pt x="729" y="21"/>
                      </a:lnTo>
                      <a:lnTo>
                        <a:pt x="12" y="10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" name=""/>
                <p:cNvGrpSpPr/>
                <p:nvPr/>
              </p:nvGrpSpPr>
              <p:grpSpPr>
                <a:xfrm>
                  <a:off x="326880" y="6168960"/>
                  <a:ext cx="613080" cy="79560"/>
                  <a:chOff x="326880" y="6168960"/>
                  <a:chExt cx="613080" cy="795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>
                    <a:off x="766800" y="6192720"/>
                    <a:ext cx="17280" cy="5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" name=""/>
                  <p:cNvGrpSpPr/>
                  <p:nvPr/>
                </p:nvGrpSpPr>
                <p:grpSpPr>
                  <a:xfrm>
                    <a:off x="326880" y="6168960"/>
                    <a:ext cx="613080" cy="77760"/>
                    <a:chOff x="326880" y="6168960"/>
                    <a:chExt cx="613080" cy="77760"/>
                  </a:xfrm>
                </p:grpSpPr>
                <p:sp>
                  <p:nvSpPr>
                    <p:cNvPr id="39" name=""/>
                    <p:cNvSpPr/>
                    <p:nvPr/>
                  </p:nvSpPr>
                  <p:spPr>
                    <a:xfrm>
                      <a:off x="588960" y="6203880"/>
                      <a:ext cx="11160" cy="42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>
                      <a:off x="347760" y="6172200"/>
                      <a:ext cx="14040" cy="666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"/>
                    <p:cNvSpPr/>
                    <p:nvPr/>
                  </p:nvSpPr>
                  <p:spPr>
                    <a:xfrm>
                      <a:off x="434880" y="6191280"/>
                      <a:ext cx="481320" cy="1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337" h="36">
                          <a:moveTo>
                            <a:pt x="1337" y="2"/>
                          </a:moveTo>
                          <a:lnTo>
                            <a:pt x="949" y="2"/>
                          </a:lnTo>
                          <a:lnTo>
                            <a:pt x="441" y="36"/>
                          </a:lnTo>
                          <a:lnTo>
                            <a:pt x="0" y="0"/>
                          </a:lnTo>
                          <a:lnTo>
                            <a:pt x="1337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38160" bIns="-38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" name=""/>
                    <p:cNvSpPr/>
                    <p:nvPr/>
                  </p:nvSpPr>
                  <p:spPr>
                    <a:xfrm flipH="1" flipV="1">
                      <a:off x="326880" y="6168960"/>
                      <a:ext cx="81000" cy="14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>
                      <a:off x="922320" y="6186600"/>
                      <a:ext cx="17640" cy="38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Introduction to FHD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70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is is Slide 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Line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M. Maurer</dc:creator>
  <dc:description/>
  <dc:language>en-US</dc:language>
  <cp:lastModifiedBy>Peter M. Maurer</cp:lastModifiedBy>
  <cp:revision>0</cp:revision>
  <dc:subject>Design Automation Lectures</dc:subject>
  <dc:title>Introduction to FHDL</dc:title>
</cp:coreProperties>
</file>