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080" y="19080"/>
            <a:ext cx="1048320" cy="6781680"/>
            <a:chOff x="19080" y="19080"/>
            <a:chExt cx="1048320" cy="6781680"/>
          </a:xfrm>
        </p:grpSpPr>
        <p:sp>
          <p:nvSpPr>
            <p:cNvPr id="1" name=""/>
            <p:cNvSpPr/>
            <p:nvPr/>
          </p:nvSpPr>
          <p:spPr>
            <a:xfrm>
              <a:off x="30240" y="19080"/>
              <a:ext cx="1031760" cy="700200"/>
            </a:xfrm>
            <a:prstGeom prst="rect">
              <a:avLst/>
            </a:prstGeom>
            <a:gradFill rotWithShape="0">
              <a:gsLst>
                <a:gs pos="0">
                  <a:srgbClr val="dd566e"/>
                </a:gs>
                <a:gs pos="100000">
                  <a:srgbClr val="cf0e3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11240" y="1000080"/>
              <a:ext cx="956160" cy="4769280"/>
              <a:chOff x="111240" y="1000080"/>
              <a:chExt cx="956160" cy="4769280"/>
            </a:xfrm>
          </p:grpSpPr>
          <p:sp>
            <p:nvSpPr>
              <p:cNvPr id="3" name=""/>
              <p:cNvSpPr/>
              <p:nvPr/>
            </p:nvSpPr>
            <p:spPr>
              <a:xfrm>
                <a:off x="150840" y="1000080"/>
                <a:ext cx="802080" cy="1791000"/>
              </a:xfrm>
              <a:custGeom>
                <a:avLst/>
                <a:gdLst/>
                <a:ahLst/>
                <a:rect l="0" t="0" r="r" b="b"/>
                <a:pathLst>
                  <a:path w="2228" h="4975">
                    <a:moveTo>
                      <a:pt x="1828" y="4975"/>
                    </a:moveTo>
                    <a:lnTo>
                      <a:pt x="1978" y="4725"/>
                    </a:lnTo>
                    <a:lnTo>
                      <a:pt x="2105" y="4498"/>
                    </a:lnTo>
                    <a:lnTo>
                      <a:pt x="2186" y="4270"/>
                    </a:lnTo>
                    <a:lnTo>
                      <a:pt x="2228" y="3999"/>
                    </a:lnTo>
                    <a:lnTo>
                      <a:pt x="2213" y="3732"/>
                    </a:lnTo>
                    <a:lnTo>
                      <a:pt x="2159" y="3522"/>
                    </a:lnTo>
                    <a:lnTo>
                      <a:pt x="2020" y="3233"/>
                    </a:lnTo>
                    <a:lnTo>
                      <a:pt x="1924" y="3067"/>
                    </a:lnTo>
                    <a:lnTo>
                      <a:pt x="1828" y="2901"/>
                    </a:lnTo>
                    <a:lnTo>
                      <a:pt x="1689" y="2717"/>
                    </a:lnTo>
                    <a:lnTo>
                      <a:pt x="1592" y="2467"/>
                    </a:lnTo>
                    <a:lnTo>
                      <a:pt x="1549" y="2156"/>
                    </a:lnTo>
                    <a:lnTo>
                      <a:pt x="1549" y="1824"/>
                    </a:lnTo>
                    <a:lnTo>
                      <a:pt x="1603" y="1491"/>
                    </a:lnTo>
                    <a:lnTo>
                      <a:pt x="1522" y="1242"/>
                    </a:lnTo>
                    <a:lnTo>
                      <a:pt x="1495" y="1618"/>
                    </a:lnTo>
                    <a:lnTo>
                      <a:pt x="1357" y="2029"/>
                    </a:lnTo>
                    <a:lnTo>
                      <a:pt x="1357" y="2362"/>
                    </a:lnTo>
                    <a:lnTo>
                      <a:pt x="1272" y="2156"/>
                    </a:lnTo>
                    <a:lnTo>
                      <a:pt x="1245" y="1907"/>
                    </a:lnTo>
                    <a:lnTo>
                      <a:pt x="1245" y="1618"/>
                    </a:lnTo>
                    <a:lnTo>
                      <a:pt x="1122" y="1780"/>
                    </a:lnTo>
                    <a:lnTo>
                      <a:pt x="1052" y="2029"/>
                    </a:lnTo>
                    <a:lnTo>
                      <a:pt x="1025" y="2301"/>
                    </a:lnTo>
                    <a:lnTo>
                      <a:pt x="995" y="2490"/>
                    </a:lnTo>
                    <a:lnTo>
                      <a:pt x="941" y="2301"/>
                    </a:lnTo>
                    <a:lnTo>
                      <a:pt x="860" y="2073"/>
                    </a:lnTo>
                    <a:lnTo>
                      <a:pt x="860" y="1780"/>
                    </a:lnTo>
                    <a:lnTo>
                      <a:pt x="887" y="1491"/>
                    </a:lnTo>
                    <a:lnTo>
                      <a:pt x="968" y="1159"/>
                    </a:lnTo>
                    <a:lnTo>
                      <a:pt x="1052" y="953"/>
                    </a:lnTo>
                    <a:lnTo>
                      <a:pt x="1133" y="704"/>
                    </a:lnTo>
                    <a:lnTo>
                      <a:pt x="1160" y="538"/>
                    </a:lnTo>
                    <a:lnTo>
                      <a:pt x="1095" y="332"/>
                    </a:lnTo>
                    <a:lnTo>
                      <a:pt x="941" y="0"/>
                    </a:lnTo>
                    <a:lnTo>
                      <a:pt x="914" y="122"/>
                    </a:lnTo>
                    <a:lnTo>
                      <a:pt x="871" y="393"/>
                    </a:lnTo>
                    <a:lnTo>
                      <a:pt x="759" y="581"/>
                    </a:lnTo>
                    <a:lnTo>
                      <a:pt x="582" y="787"/>
                    </a:lnTo>
                    <a:lnTo>
                      <a:pt x="319" y="1224"/>
                    </a:lnTo>
                    <a:lnTo>
                      <a:pt x="165" y="1574"/>
                    </a:lnTo>
                    <a:lnTo>
                      <a:pt x="53" y="1885"/>
                    </a:lnTo>
                    <a:lnTo>
                      <a:pt x="0" y="2196"/>
                    </a:lnTo>
                    <a:lnTo>
                      <a:pt x="0" y="2529"/>
                    </a:lnTo>
                    <a:lnTo>
                      <a:pt x="53" y="2945"/>
                    </a:lnTo>
                    <a:lnTo>
                      <a:pt x="150" y="3317"/>
                    </a:lnTo>
                    <a:lnTo>
                      <a:pt x="304" y="3605"/>
                    </a:lnTo>
                    <a:lnTo>
                      <a:pt x="288" y="3772"/>
                    </a:lnTo>
                    <a:lnTo>
                      <a:pt x="261" y="4021"/>
                    </a:lnTo>
                    <a:lnTo>
                      <a:pt x="250" y="4270"/>
                    </a:lnTo>
                    <a:lnTo>
                      <a:pt x="288" y="4458"/>
                    </a:lnTo>
                    <a:lnTo>
                      <a:pt x="389" y="4642"/>
                    </a:lnTo>
                    <a:lnTo>
                      <a:pt x="485" y="4808"/>
                    </a:lnTo>
                    <a:lnTo>
                      <a:pt x="625" y="4953"/>
                    </a:lnTo>
                    <a:lnTo>
                      <a:pt x="995" y="4913"/>
                    </a:lnTo>
                    <a:lnTo>
                      <a:pt x="1411" y="4935"/>
                    </a:lnTo>
                    <a:lnTo>
                      <a:pt x="1828" y="497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77920" y="1812960"/>
                <a:ext cx="444960" cy="937080"/>
              </a:xfrm>
              <a:custGeom>
                <a:avLst/>
                <a:gdLst/>
                <a:ahLst/>
                <a:rect l="0" t="0" r="r" b="b"/>
                <a:pathLst>
                  <a:path w="1236" h="2603">
                    <a:moveTo>
                      <a:pt x="142" y="0"/>
                    </a:moveTo>
                    <a:lnTo>
                      <a:pt x="108" y="254"/>
                    </a:lnTo>
                    <a:lnTo>
                      <a:pt x="50" y="451"/>
                    </a:lnTo>
                    <a:lnTo>
                      <a:pt x="3" y="666"/>
                    </a:lnTo>
                    <a:lnTo>
                      <a:pt x="0" y="877"/>
                    </a:lnTo>
                    <a:lnTo>
                      <a:pt x="54" y="1047"/>
                    </a:lnTo>
                    <a:lnTo>
                      <a:pt x="173" y="1231"/>
                    </a:lnTo>
                    <a:lnTo>
                      <a:pt x="258" y="1371"/>
                    </a:lnTo>
                    <a:lnTo>
                      <a:pt x="308" y="1525"/>
                    </a:lnTo>
                    <a:lnTo>
                      <a:pt x="285" y="1713"/>
                    </a:lnTo>
                    <a:lnTo>
                      <a:pt x="262" y="1866"/>
                    </a:lnTo>
                    <a:lnTo>
                      <a:pt x="258" y="2108"/>
                    </a:lnTo>
                    <a:lnTo>
                      <a:pt x="308" y="2310"/>
                    </a:lnTo>
                    <a:lnTo>
                      <a:pt x="398" y="2463"/>
                    </a:lnTo>
                    <a:lnTo>
                      <a:pt x="556" y="2603"/>
                    </a:lnTo>
                    <a:lnTo>
                      <a:pt x="1051" y="2603"/>
                    </a:lnTo>
                    <a:lnTo>
                      <a:pt x="1124" y="2463"/>
                    </a:lnTo>
                    <a:lnTo>
                      <a:pt x="1190" y="2332"/>
                    </a:lnTo>
                    <a:lnTo>
                      <a:pt x="1236" y="2082"/>
                    </a:lnTo>
                    <a:lnTo>
                      <a:pt x="1236" y="1858"/>
                    </a:lnTo>
                    <a:lnTo>
                      <a:pt x="1198" y="1639"/>
                    </a:lnTo>
                    <a:lnTo>
                      <a:pt x="1140" y="1442"/>
                    </a:lnTo>
                    <a:lnTo>
                      <a:pt x="1047" y="1258"/>
                    </a:lnTo>
                    <a:lnTo>
                      <a:pt x="928" y="1113"/>
                    </a:lnTo>
                    <a:lnTo>
                      <a:pt x="749" y="1004"/>
                    </a:lnTo>
                    <a:lnTo>
                      <a:pt x="614" y="890"/>
                    </a:lnTo>
                    <a:lnTo>
                      <a:pt x="506" y="763"/>
                    </a:lnTo>
                    <a:lnTo>
                      <a:pt x="390" y="621"/>
                    </a:lnTo>
                    <a:lnTo>
                      <a:pt x="308" y="389"/>
                    </a:lnTo>
                    <a:lnTo>
                      <a:pt x="212" y="21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1240" y="2763720"/>
                <a:ext cx="956160" cy="3005640"/>
              </a:xfrm>
              <a:custGeom>
                <a:avLst/>
                <a:gdLst/>
                <a:ahLst/>
                <a:rect l="0" t="0" r="r" b="b"/>
                <a:pathLst>
                  <a:path w="2656" h="8349">
                    <a:moveTo>
                      <a:pt x="226" y="451"/>
                    </a:moveTo>
                    <a:lnTo>
                      <a:pt x="188" y="621"/>
                    </a:lnTo>
                    <a:lnTo>
                      <a:pt x="253" y="849"/>
                    </a:lnTo>
                    <a:lnTo>
                      <a:pt x="103" y="946"/>
                    </a:lnTo>
                    <a:lnTo>
                      <a:pt x="103" y="1160"/>
                    </a:lnTo>
                    <a:lnTo>
                      <a:pt x="188" y="1261"/>
                    </a:lnTo>
                    <a:lnTo>
                      <a:pt x="253" y="1427"/>
                    </a:lnTo>
                    <a:lnTo>
                      <a:pt x="226" y="1611"/>
                    </a:lnTo>
                    <a:lnTo>
                      <a:pt x="150" y="1756"/>
                    </a:lnTo>
                    <a:lnTo>
                      <a:pt x="57" y="1896"/>
                    </a:lnTo>
                    <a:lnTo>
                      <a:pt x="19" y="2067"/>
                    </a:lnTo>
                    <a:lnTo>
                      <a:pt x="0" y="2265"/>
                    </a:lnTo>
                    <a:lnTo>
                      <a:pt x="19" y="2493"/>
                    </a:lnTo>
                    <a:lnTo>
                      <a:pt x="111" y="2659"/>
                    </a:lnTo>
                    <a:lnTo>
                      <a:pt x="280" y="2830"/>
                    </a:lnTo>
                    <a:lnTo>
                      <a:pt x="527" y="2944"/>
                    </a:lnTo>
                    <a:lnTo>
                      <a:pt x="693" y="3368"/>
                    </a:lnTo>
                    <a:lnTo>
                      <a:pt x="958" y="6737"/>
                    </a:lnTo>
                    <a:lnTo>
                      <a:pt x="1012" y="7272"/>
                    </a:lnTo>
                    <a:lnTo>
                      <a:pt x="1089" y="7753"/>
                    </a:lnTo>
                    <a:lnTo>
                      <a:pt x="1220" y="8349"/>
                    </a:lnTo>
                    <a:lnTo>
                      <a:pt x="1482" y="8349"/>
                    </a:lnTo>
                    <a:lnTo>
                      <a:pt x="1578" y="7784"/>
                    </a:lnTo>
                    <a:lnTo>
                      <a:pt x="1651" y="7302"/>
                    </a:lnTo>
                    <a:lnTo>
                      <a:pt x="1689" y="6764"/>
                    </a:lnTo>
                    <a:lnTo>
                      <a:pt x="1951" y="3439"/>
                    </a:lnTo>
                    <a:lnTo>
                      <a:pt x="2114" y="3071"/>
                    </a:lnTo>
                    <a:lnTo>
                      <a:pt x="2364" y="2860"/>
                    </a:lnTo>
                    <a:lnTo>
                      <a:pt x="2506" y="2729"/>
                    </a:lnTo>
                    <a:lnTo>
                      <a:pt x="2610" y="2563"/>
                    </a:lnTo>
                    <a:lnTo>
                      <a:pt x="2656" y="2348"/>
                    </a:lnTo>
                    <a:lnTo>
                      <a:pt x="2618" y="1979"/>
                    </a:lnTo>
                    <a:lnTo>
                      <a:pt x="2545" y="1826"/>
                    </a:lnTo>
                    <a:lnTo>
                      <a:pt x="2429" y="1629"/>
                    </a:lnTo>
                    <a:lnTo>
                      <a:pt x="2402" y="1427"/>
                    </a:lnTo>
                    <a:lnTo>
                      <a:pt x="2479" y="1261"/>
                    </a:lnTo>
                    <a:lnTo>
                      <a:pt x="2533" y="1129"/>
                    </a:lnTo>
                    <a:lnTo>
                      <a:pt x="2533" y="932"/>
                    </a:lnTo>
                    <a:lnTo>
                      <a:pt x="2383" y="849"/>
                    </a:lnTo>
                    <a:lnTo>
                      <a:pt x="2460" y="508"/>
                    </a:lnTo>
                    <a:lnTo>
                      <a:pt x="2329" y="341"/>
                    </a:lnTo>
                    <a:lnTo>
                      <a:pt x="2206" y="210"/>
                    </a:lnTo>
                    <a:lnTo>
                      <a:pt x="2064" y="140"/>
                    </a:lnTo>
                    <a:lnTo>
                      <a:pt x="1897" y="83"/>
                    </a:lnTo>
                    <a:lnTo>
                      <a:pt x="1689" y="26"/>
                    </a:lnTo>
                    <a:lnTo>
                      <a:pt x="1389" y="0"/>
                    </a:lnTo>
                    <a:lnTo>
                      <a:pt x="1089" y="0"/>
                    </a:lnTo>
                    <a:lnTo>
                      <a:pt x="828" y="56"/>
                    </a:lnTo>
                    <a:lnTo>
                      <a:pt x="580" y="140"/>
                    </a:lnTo>
                    <a:lnTo>
                      <a:pt x="365" y="254"/>
                    </a:lnTo>
                    <a:lnTo>
                      <a:pt x="226" y="451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9080" y="6094440"/>
              <a:ext cx="1047600" cy="706320"/>
            </a:xfrm>
            <a:prstGeom prst="rect">
              <a:avLst/>
            </a:prstGeom>
            <a:gradFill rotWithShape="0">
              <a:gsLst>
                <a:gs pos="0">
                  <a:srgbClr val="cf0e30"/>
                </a:gs>
                <a:gs pos="100000">
                  <a:srgbClr val="dd566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0e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0e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is Slid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Lin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. Maurer</dc:creator>
  <dc:description/>
  <dc:language>en-US</dc:language>
  <cp:lastModifiedBy>Peter M. Maurer</cp:lastModifiedBy>
  <cp:revision>0</cp:revision>
  <dc:subject>Design Automation Lectures</dc:subject>
  <dc:title>Visual Basic Programming</dc:title>
</cp:coreProperties>
</file>