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22E-3E28-407D-A6D0-66F983F8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D1F-01B4-4B75-B38D-4533F64F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6593-52B0-4514-9A94-37772C96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8EC-97BE-49A8-882E-20075CC8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B84-F675-4541-99F6-6073D02E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73E-A3E6-46BE-BCAC-6C496934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9221-4BBC-46BC-881D-7719D45C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723-A5A7-467A-A235-37BA50CA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C49-C591-4FCD-B794-A5C9E9FA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15A-05AF-468A-BD3B-D14CA99F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6E7E-D8BA-4760-A178-F7402076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B65-758D-4E7C-8853-DA42C35E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D8B7-77FC-4502-9DBB-1A446FC1E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Digital Libraries:</a:t>
            </a:r>
            <a:br>
              <a:rPr sz="66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ward A. F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ginia T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adapted from Ch. 15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rn Information Retrieval”, A-W, 1999, eds. Baeza-Yates, Ribeiro-Neto, w. O. Sorni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e of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nefits of digital libraries will not be appreciated unless they are easy to use effectively.” - IITA Workshop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s: Lesk, D-Lib, ACM DL’9x,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on: Wells, Bush, Licklider - 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S to provide integrative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ieties: audience, users, distributed compu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ams: text, multimedia, communication cha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ces: 1D, 3D, vector, GIS , topo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es: DB, grammars, markup,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enarios: stories, reqts, specs, functions, trans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traffic: streams with structure carrying a sce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col: network traffic w. generalized sce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y ++ (library+archive+museum+…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buted information system + organization + effective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 community + collection +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ital objects, repositories, IPR management, handles, indexes, federated search, hyperbase, ann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chitectural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middle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pendent system / part of fed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ompositions v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 engine, browser, DBMS, MM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, handle server,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resources + mediators, bus or agent collection + client with workspace/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s: e.g., for federated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cument Models, Representations, and Acce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 = stream + structure + use-scenario; hybrid (paper/electronic), digital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lingual: content, summary, 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: structure, quality (oS),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ctured: MARC, SGML, by user: MV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buted collection: Kleisli, CIMI, Z39.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derated search: collecting, picking site(s), parallel search / fall-back, fusing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: IPR, payment, security, scen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otype, Projects, and Interf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R, MARIAN, ENVISION;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 collections: SGML, spatial, vid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: text, x-vocab, image, vid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faces: DELIVER, DLITE, PAD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ational: ERCIM, eLib, NZ, AU, SG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bility: user-centered, evolving, Allerton, Xerox/visualization, social context/conc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nd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cols/fed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39.50, CI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enst, NCST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I: inline, detailed (structure in strea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C: two-level, fine-gr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blin Core: high-level, 15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DF: describing resources/collections, anno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ture Challen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 of auth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C vs. T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, quality, amount of effort, Q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ldwide D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ling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ing specialty areas in large repositories vs. large numbers of focused coll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ing: personal to global, sustain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3:53:17Z</dcterms:created>
  <dc:creator>Edward A. Fox</dc:creator>
  <dc:description/>
  <dc:language>en-US</dc:language>
  <cp:lastModifiedBy>Edward A. Fox</cp:lastModifiedBy>
  <dcterms:modified xsi:type="dcterms:W3CDTF">2001-08-31T03:32:39Z</dcterms:modified>
  <cp:revision>10</cp:revision>
  <dc:subject/>
  <dc:title>Digital Libraries: An Overview</dc:title>
</cp:coreProperties>
</file>