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65f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8477640" cy="6172560"/>
            <a:chOff x="0" y="0"/>
            <a:chExt cx="8477640" cy="617256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6131160" cy="6172560"/>
            </a:xfrm>
            <a:custGeom>
              <a:avLst/>
              <a:gdLst/>
              <a:ahLst/>
              <a:rect l="0" t="0" r="r" b="b"/>
              <a:pathLst>
                <a:path w="17031" h="17146">
                  <a:moveTo>
                    <a:pt x="17031" y="15073"/>
                  </a:moveTo>
                  <a:lnTo>
                    <a:pt x="2015" y="0"/>
                  </a:lnTo>
                  <a:lnTo>
                    <a:pt x="0" y="0"/>
                  </a:lnTo>
                  <a:lnTo>
                    <a:pt x="0" y="2121"/>
                  </a:lnTo>
                  <a:lnTo>
                    <a:pt x="14967" y="17146"/>
                  </a:lnTo>
                  <a:lnTo>
                    <a:pt x="17031" y="15073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65120" y="0"/>
              <a:ext cx="5386680" cy="5115240"/>
            </a:xfrm>
            <a:custGeom>
              <a:avLst/>
              <a:gdLst/>
              <a:ahLst/>
              <a:rect l="0" t="0" r="r" b="b"/>
              <a:pathLst>
                <a:path w="14963" h="14209">
                  <a:moveTo>
                    <a:pt x="1631" y="0"/>
                  </a:moveTo>
                  <a:lnTo>
                    <a:pt x="14963" y="13388"/>
                  </a:lnTo>
                  <a:lnTo>
                    <a:pt x="14147" y="14209"/>
                  </a:lnTo>
                  <a:lnTo>
                    <a:pt x="0" y="0"/>
                  </a:lnTo>
                  <a:lnTo>
                    <a:pt x="1631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471840" y="0"/>
              <a:ext cx="4537440" cy="4056480"/>
            </a:xfrm>
            <a:custGeom>
              <a:avLst/>
              <a:gdLst/>
              <a:ahLst/>
              <a:rect l="0" t="0" r="r" b="b"/>
              <a:pathLst>
                <a:path w="12604" h="11268">
                  <a:moveTo>
                    <a:pt x="2778" y="0"/>
                  </a:moveTo>
                  <a:lnTo>
                    <a:pt x="12604" y="9870"/>
                  </a:lnTo>
                  <a:lnTo>
                    <a:pt x="11215" y="11268"/>
                  </a:lnTo>
                  <a:lnTo>
                    <a:pt x="0" y="0"/>
                  </a:lnTo>
                  <a:lnTo>
                    <a:pt x="2778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849920" y="0"/>
              <a:ext cx="3627720" cy="3366000"/>
            </a:xfrm>
            <a:custGeom>
              <a:avLst/>
              <a:gdLst/>
              <a:ahLst/>
              <a:rect l="0" t="0" r="r" b="b"/>
              <a:pathLst>
                <a:path w="10077" h="9350">
                  <a:moveTo>
                    <a:pt x="0" y="0"/>
                  </a:moveTo>
                  <a:lnTo>
                    <a:pt x="9309" y="9350"/>
                  </a:lnTo>
                  <a:lnTo>
                    <a:pt x="10077" y="8578"/>
                  </a:lnTo>
                  <a:lnTo>
                    <a:pt x="15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 txBox="1"/>
          <p:nvPr/>
        </p:nvSpPr>
        <p:spPr>
          <a:xfrm>
            <a:off x="90360" y="6485040"/>
            <a:ext cx="1744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oco, Fox, Barn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7756560" y="6477120"/>
            <a:ext cx="131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M CSE’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160020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line Evaluation in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WW-based Courseware: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IZIT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úcio Cunha Tino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ward A. F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. Dwight Barn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46560" y="5502240"/>
            <a:ext cx="2452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57b49"/>
                </a:solidFill>
                <a:latin typeface="Times New Roman"/>
                <a:ea typeface="Times New Roman"/>
              </a:rPr>
              <a:t>Virginia 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IZIT System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19240" y="1104840"/>
            <a:ext cx="52452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IZIT: Main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f standarized author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GML-based QUIZIT Markup Language (Q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still provides all the power of HTML and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s can be adap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log of results and actions into a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interface in the 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IZIT: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-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tion and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ding an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QUIZIT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uthoring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Module: Q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2286000"/>
            <a:ext cx="49528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-based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f SGML (ISO/IEC 8879) to define Q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s presentational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28600" y="228600"/>
            <a:ext cx="883908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QUIZIT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uthoring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Module: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ML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QUIZIT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uthoring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Module: QML (midd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QUIZIT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uthoring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Module: QML (en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07800" y="3051000"/>
            <a:ext cx="8760240" cy="2825280"/>
            <a:chOff x="307800" y="3051000"/>
            <a:chExt cx="8760240" cy="2825280"/>
          </a:xfrm>
        </p:grpSpPr>
        <p:grpSp>
          <p:nvGrpSpPr>
            <p:cNvPr id="77" name=""/>
            <p:cNvGrpSpPr/>
            <p:nvPr/>
          </p:nvGrpSpPr>
          <p:grpSpPr>
            <a:xfrm>
              <a:off x="307800" y="3051000"/>
              <a:ext cx="8760240" cy="2825280"/>
              <a:chOff x="307800" y="3051000"/>
              <a:chExt cx="8760240" cy="2825280"/>
            </a:xfrm>
          </p:grpSpPr>
          <p:sp>
            <p:nvSpPr>
              <p:cNvPr id="78" name=""/>
              <p:cNvSpPr/>
              <p:nvPr/>
            </p:nvSpPr>
            <p:spPr>
              <a:xfrm>
                <a:off x="6492960" y="4608360"/>
                <a:ext cx="2575080" cy="995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286080" y="4433760"/>
                <a:ext cx="2268360" cy="133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 txBox="1"/>
              <p:nvPr/>
            </p:nvSpPr>
            <p:spPr>
              <a:xfrm>
                <a:off x="3649680" y="4800600"/>
                <a:ext cx="1763640" cy="100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81d58"/>
                    </a:solidFill>
                    <a:latin typeface="Book Antiqua"/>
                    <a:ea typeface="Book Antiqua"/>
                  </a:rPr>
                  <a:t>QM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81d58"/>
                    </a:solidFill>
                    <a:latin typeface="Book Antiqua"/>
                    <a:ea typeface="Book Antiqua"/>
                  </a:rPr>
                  <a:t>Translator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800520" y="3551400"/>
                <a:ext cx="1256040" cy="827280"/>
              </a:xfrm>
              <a:custGeom>
                <a:avLst/>
                <a:gdLst/>
                <a:ahLst/>
                <a:rect l="0" t="0" r="r" b="b"/>
                <a:pathLst>
                  <a:path fill="none" w="3489" h="2298">
                    <a:moveTo>
                      <a:pt x="3489" y="765"/>
                    </a:moveTo>
                    <a:lnTo>
                      <a:pt x="3489" y="1531"/>
                    </a:lnTo>
                    <a:lnTo>
                      <a:pt x="1046" y="1531"/>
                    </a:lnTo>
                    <a:lnTo>
                      <a:pt x="1046" y="2298"/>
                    </a:lnTo>
                    <a:lnTo>
                      <a:pt x="0" y="1148"/>
                    </a:lnTo>
                    <a:lnTo>
                      <a:pt x="1046" y="0"/>
                    </a:lnTo>
                    <a:lnTo>
                      <a:pt x="1046" y="765"/>
                    </a:lnTo>
                    <a:lnTo>
                      <a:pt x="3489" y="76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2614680" y="3051000"/>
                <a:ext cx="35956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  <a:ea typeface="Book Antiqua"/>
                  </a:rPr>
                  <a:t>QML File (e.g., “t1.quiz”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 txBox="1"/>
              <p:nvPr/>
            </p:nvSpPr>
            <p:spPr>
              <a:xfrm>
                <a:off x="6535800" y="4753080"/>
                <a:ext cx="1730520" cy="832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  <a:ea typeface="Book Antiqua"/>
                  </a:rPr>
                  <a:t>HTM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  <a:ea typeface="Book Antiqua"/>
                  </a:rPr>
                  <a:t>(“t1.html”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370240" y="4805280"/>
                <a:ext cx="898920" cy="614880"/>
              </a:xfrm>
              <a:custGeom>
                <a:avLst/>
                <a:gdLst/>
                <a:ahLst/>
                <a:rect l="0" t="0" r="r" b="b"/>
                <a:pathLst>
                  <a:path w="2497" h="1708">
                    <a:moveTo>
                      <a:pt x="2497" y="569"/>
                    </a:moveTo>
                    <a:lnTo>
                      <a:pt x="2497" y="1137"/>
                    </a:lnTo>
                    <a:lnTo>
                      <a:pt x="749" y="1137"/>
                    </a:lnTo>
                    <a:lnTo>
                      <a:pt x="749" y="1708"/>
                    </a:lnTo>
                    <a:lnTo>
                      <a:pt x="0" y="854"/>
                    </a:lnTo>
                    <a:lnTo>
                      <a:pt x="749" y="0"/>
                    </a:lnTo>
                    <a:lnTo>
                      <a:pt x="749" y="569"/>
                    </a:lnTo>
                    <a:lnTo>
                      <a:pt x="2497" y="56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573880" y="4780080"/>
                <a:ext cx="894240" cy="614880"/>
              </a:xfrm>
              <a:custGeom>
                <a:avLst/>
                <a:gdLst/>
                <a:ahLst/>
                <a:rect l="0" t="0" r="r" b="b"/>
                <a:pathLst>
                  <a:path w="2484" h="1708">
                    <a:moveTo>
                      <a:pt x="0" y="569"/>
                    </a:moveTo>
                    <a:lnTo>
                      <a:pt x="0" y="1137"/>
                    </a:lnTo>
                    <a:lnTo>
                      <a:pt x="1738" y="1137"/>
                    </a:lnTo>
                    <a:lnTo>
                      <a:pt x="1738" y="1708"/>
                    </a:lnTo>
                    <a:lnTo>
                      <a:pt x="2484" y="854"/>
                    </a:lnTo>
                    <a:lnTo>
                      <a:pt x="1738" y="0"/>
                    </a:lnTo>
                    <a:lnTo>
                      <a:pt x="1738" y="569"/>
                    </a:lnTo>
                    <a:lnTo>
                      <a:pt x="0" y="56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74760" y="4546440"/>
                <a:ext cx="1994040" cy="1184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307800" y="4627440"/>
                <a:ext cx="2048040" cy="124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  <a:ea typeface="Book Antiqua"/>
                  </a:rPr>
                  <a:t>ASCII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  <a:ea typeface="Book Antiqua"/>
                  </a:rPr>
                  <a:t>Answ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  <a:ea typeface="Book Antiqua"/>
                  </a:rPr>
                  <a:t>File (“t1.ans”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 txBox="1"/>
            <p:nvPr/>
          </p:nvSpPr>
          <p:spPr>
            <a:xfrm>
              <a:off x="392040" y="4022640"/>
              <a:ext cx="18446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cgi-bin answ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6845400" y="4098960"/>
              <a:ext cx="1692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cgi-binquizz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QUIZIT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uthoring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Module: QML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828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instructor prepares the QML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QUIZIT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Monitor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Module: Record-kee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75248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 student accesses to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track of individual and class performance on quiz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hange system state and db at any time if user is authorized to do so (instructor, GTA). Also includes student reg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07960" y="3429000"/>
            <a:ext cx="8172720" cy="2324160"/>
            <a:chOff x="507960" y="3429000"/>
            <a:chExt cx="8172720" cy="2324160"/>
          </a:xfrm>
        </p:grpSpPr>
        <p:sp>
          <p:nvSpPr>
            <p:cNvPr id="95" name=""/>
            <p:cNvSpPr/>
            <p:nvPr/>
          </p:nvSpPr>
          <p:spPr>
            <a:xfrm>
              <a:off x="6629400" y="4191120"/>
              <a:ext cx="838440" cy="457560"/>
            </a:xfrm>
            <a:custGeom>
              <a:avLst/>
              <a:gdLst/>
              <a:ahLst/>
              <a:rect l="0" t="0" r="r" b="b"/>
              <a:pathLst>
                <a:path fill="none" w="2329" h="1271">
                  <a:moveTo>
                    <a:pt x="0" y="422"/>
                  </a:moveTo>
                  <a:lnTo>
                    <a:pt x="0" y="846"/>
                  </a:lnTo>
                  <a:lnTo>
                    <a:pt x="1630" y="846"/>
                  </a:lnTo>
                  <a:lnTo>
                    <a:pt x="1630" y="1271"/>
                  </a:lnTo>
                  <a:lnTo>
                    <a:pt x="2329" y="635"/>
                  </a:lnTo>
                  <a:lnTo>
                    <a:pt x="1630" y="0"/>
                  </a:lnTo>
                  <a:lnTo>
                    <a:pt x="1630" y="422"/>
                  </a:lnTo>
                  <a:lnTo>
                    <a:pt x="0" y="42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29400" y="4800600"/>
              <a:ext cx="838440" cy="457560"/>
            </a:xfrm>
            <a:custGeom>
              <a:avLst/>
              <a:gdLst/>
              <a:ahLst/>
              <a:rect l="0" t="0" r="r" b="b"/>
              <a:pathLst>
                <a:path fill="none" w="2329" h="1271">
                  <a:moveTo>
                    <a:pt x="2329" y="422"/>
                  </a:moveTo>
                  <a:lnTo>
                    <a:pt x="2329" y="846"/>
                  </a:lnTo>
                  <a:lnTo>
                    <a:pt x="698" y="846"/>
                  </a:lnTo>
                  <a:lnTo>
                    <a:pt x="698" y="1271"/>
                  </a:lnTo>
                  <a:lnTo>
                    <a:pt x="0" y="635"/>
                  </a:lnTo>
                  <a:lnTo>
                    <a:pt x="698" y="0"/>
                  </a:lnTo>
                  <a:lnTo>
                    <a:pt x="698" y="422"/>
                  </a:lnTo>
                  <a:lnTo>
                    <a:pt x="2329" y="42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5200" y="4038480"/>
              <a:ext cx="1295640" cy="1219680"/>
            </a:xfrm>
            <a:custGeom>
              <a:avLst/>
              <a:gdLst/>
              <a:ahLst/>
              <a:rect l="0" t="0" r="r" b="b"/>
              <a:pathLst>
                <a:path w="3599" h="3388">
                  <a:moveTo>
                    <a:pt x="0" y="3388"/>
                  </a:moveTo>
                  <a:lnTo>
                    <a:pt x="2879" y="3388"/>
                  </a:lnTo>
                  <a:lnTo>
                    <a:pt x="3599" y="2711"/>
                  </a:lnTo>
                  <a:lnTo>
                    <a:pt x="3599" y="0"/>
                  </a:lnTo>
                  <a:lnTo>
                    <a:pt x="2879" y="677"/>
                  </a:lnTo>
                  <a:lnTo>
                    <a:pt x="2879" y="3388"/>
                  </a:lnTo>
                  <a:lnTo>
                    <a:pt x="2879" y="677"/>
                  </a:lnTo>
                  <a:lnTo>
                    <a:pt x="0" y="677"/>
                  </a:lnTo>
                  <a:lnTo>
                    <a:pt x="719" y="0"/>
                  </a:lnTo>
                  <a:lnTo>
                    <a:pt x="3599" y="0"/>
                  </a:lnTo>
                  <a:lnTo>
                    <a:pt x="719" y="0"/>
                  </a:lnTo>
                  <a:lnTo>
                    <a:pt x="0" y="677"/>
                  </a:lnTo>
                  <a:lnTo>
                    <a:pt x="0" y="3388"/>
                  </a:lnTo>
                  <a:close/>
                </a:path>
              </a:pathLst>
            </a:cu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95280" y="4038480"/>
              <a:ext cx="914400" cy="121932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239840" y="4319640"/>
              <a:ext cx="102564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WW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Brow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09680" y="4191120"/>
              <a:ext cx="991080" cy="381240"/>
            </a:xfrm>
            <a:custGeom>
              <a:avLst/>
              <a:gdLst/>
              <a:ahLst/>
              <a:rect l="0" t="0" r="r" b="b"/>
              <a:pathLst>
                <a:path fill="none" w="2753" h="1059">
                  <a:moveTo>
                    <a:pt x="0" y="352"/>
                  </a:moveTo>
                  <a:lnTo>
                    <a:pt x="0" y="705"/>
                  </a:lnTo>
                  <a:lnTo>
                    <a:pt x="1927" y="705"/>
                  </a:lnTo>
                  <a:lnTo>
                    <a:pt x="1927" y="1059"/>
                  </a:lnTo>
                  <a:lnTo>
                    <a:pt x="2753" y="530"/>
                  </a:lnTo>
                  <a:lnTo>
                    <a:pt x="1927" y="0"/>
                  </a:lnTo>
                  <a:lnTo>
                    <a:pt x="1927" y="352"/>
                  </a:lnTo>
                  <a:lnTo>
                    <a:pt x="0" y="35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09680" y="4724280"/>
              <a:ext cx="991080" cy="381240"/>
            </a:xfrm>
            <a:custGeom>
              <a:avLst/>
              <a:gdLst/>
              <a:ahLst/>
              <a:rect l="0" t="0" r="r" b="b"/>
              <a:pathLst>
                <a:path fill="none" w="2753" h="1059">
                  <a:moveTo>
                    <a:pt x="2753" y="352"/>
                  </a:moveTo>
                  <a:lnTo>
                    <a:pt x="2753" y="705"/>
                  </a:lnTo>
                  <a:lnTo>
                    <a:pt x="826" y="705"/>
                  </a:lnTo>
                  <a:lnTo>
                    <a:pt x="826" y="1059"/>
                  </a:lnTo>
                  <a:lnTo>
                    <a:pt x="0" y="530"/>
                  </a:lnTo>
                  <a:lnTo>
                    <a:pt x="826" y="0"/>
                  </a:lnTo>
                  <a:lnTo>
                    <a:pt x="826" y="352"/>
                  </a:lnTo>
                  <a:lnTo>
                    <a:pt x="2753" y="35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00400" y="4114800"/>
              <a:ext cx="1676520" cy="1143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3257640" y="4449600"/>
              <a:ext cx="15638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httpd ser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4191120"/>
              <a:ext cx="1143000" cy="1066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5460840" y="4373640"/>
              <a:ext cx="1271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CG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scripts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2319480" y="3809880"/>
              <a:ext cx="84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7319880" y="4479840"/>
              <a:ext cx="1058760" cy="83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MSQ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346480" y="518004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HT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76920" y="4343400"/>
              <a:ext cx="609840" cy="381240"/>
            </a:xfrm>
            <a:custGeom>
              <a:avLst/>
              <a:gdLst/>
              <a:ahLst/>
              <a:rect l="0" t="0" r="r" b="b"/>
              <a:pathLst>
                <a:path fill="none" w="1694" h="1059">
                  <a:moveTo>
                    <a:pt x="0" y="352"/>
                  </a:moveTo>
                  <a:lnTo>
                    <a:pt x="0" y="705"/>
                  </a:lnTo>
                  <a:lnTo>
                    <a:pt x="1186" y="705"/>
                  </a:lnTo>
                  <a:lnTo>
                    <a:pt x="1186" y="1059"/>
                  </a:lnTo>
                  <a:lnTo>
                    <a:pt x="1694" y="530"/>
                  </a:lnTo>
                  <a:lnTo>
                    <a:pt x="1186" y="0"/>
                  </a:lnTo>
                  <a:lnTo>
                    <a:pt x="1186" y="352"/>
                  </a:lnTo>
                  <a:lnTo>
                    <a:pt x="0" y="35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724280"/>
              <a:ext cx="609840" cy="381240"/>
            </a:xfrm>
            <a:custGeom>
              <a:avLst/>
              <a:gdLst/>
              <a:ahLst/>
              <a:rect l="0" t="0" r="r" b="b"/>
              <a:pathLst>
                <a:path fill="none" w="1694" h="1059">
                  <a:moveTo>
                    <a:pt x="1694" y="352"/>
                  </a:moveTo>
                  <a:lnTo>
                    <a:pt x="1694" y="705"/>
                  </a:lnTo>
                  <a:lnTo>
                    <a:pt x="507" y="705"/>
                  </a:lnTo>
                  <a:lnTo>
                    <a:pt x="507" y="1059"/>
                  </a:lnTo>
                  <a:lnTo>
                    <a:pt x="0" y="530"/>
                  </a:lnTo>
                  <a:lnTo>
                    <a:pt x="507" y="0"/>
                  </a:lnTo>
                  <a:lnTo>
                    <a:pt x="507" y="352"/>
                  </a:lnTo>
                  <a:lnTo>
                    <a:pt x="1694" y="35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4627440" y="3755880"/>
              <a:ext cx="116352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env. var + STDIN (POS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4680000" y="5326200"/>
              <a:ext cx="10033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STD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(query resul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6093000" y="3429000"/>
              <a:ext cx="17557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queries (using APIs in 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5950080" y="5386320"/>
              <a:ext cx="2730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results (grades, logs, etc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507960" y="4146480"/>
              <a:ext cx="635040" cy="11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 txBox="1"/>
          <p:nvPr/>
        </p:nvSpPr>
        <p:spPr>
          <a:xfrm>
            <a:off x="169920" y="5234040"/>
            <a:ext cx="118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SQL Database Eng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82880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s and retrieves students’ records and accesses to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s and pass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res and students’ answers on every quiz (for every unit in the cour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logs (begin, end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quiz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 quiz to be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ckground and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88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 project, Courseware, Interactive Learning with a Digital Library in CS - http://ei.cs.v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hop June 15-21 (apply to fox@vt.ed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and Distanc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 including based on server’s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enrollment, grading 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ized System of Instruction (P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QUIZIT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Run-time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Module: Registration and 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online password registration and distribu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y Tommy John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are encrypted in the server side (is client side encryption feasibl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es every user once and then uses session cookie throughout the quiz (use of hidden fiel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QUIZIT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Run-time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Module: The Grader Eng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82880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selecting a course, authenticating, selecting a unit and taking the quiz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240" y="3405240"/>
            <a:ext cx="1542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Student using a WWW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642080" y="3252960"/>
            <a:ext cx="1319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e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xt 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1200" y="3184560"/>
            <a:ext cx="8445600" cy="3154680"/>
            <a:chOff x="241200" y="3184560"/>
            <a:chExt cx="8445600" cy="31546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241200" y="4387680"/>
              <a:ext cx="1123920" cy="8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981080" y="3962520"/>
              <a:ext cx="990720" cy="1143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1973160" y="4327560"/>
              <a:ext cx="998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http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09880" y="4038480"/>
              <a:ext cx="1523880" cy="990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3819600" y="4221000"/>
              <a:ext cx="15048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CGI Gra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24480" y="3276720"/>
              <a:ext cx="1295640" cy="1219680"/>
            </a:xfrm>
            <a:custGeom>
              <a:avLst/>
              <a:gdLst/>
              <a:ahLst/>
              <a:rect l="0" t="0" r="r" b="b"/>
              <a:pathLst>
                <a:path w="3599" h="3388">
                  <a:moveTo>
                    <a:pt x="0" y="3388"/>
                  </a:moveTo>
                  <a:lnTo>
                    <a:pt x="2879" y="3388"/>
                  </a:lnTo>
                  <a:lnTo>
                    <a:pt x="3599" y="2711"/>
                  </a:lnTo>
                  <a:lnTo>
                    <a:pt x="3599" y="0"/>
                  </a:lnTo>
                  <a:lnTo>
                    <a:pt x="2879" y="677"/>
                  </a:lnTo>
                  <a:lnTo>
                    <a:pt x="2879" y="3388"/>
                  </a:lnTo>
                  <a:lnTo>
                    <a:pt x="2879" y="677"/>
                  </a:lnTo>
                  <a:lnTo>
                    <a:pt x="0" y="677"/>
                  </a:lnTo>
                  <a:lnTo>
                    <a:pt x="719" y="0"/>
                  </a:lnTo>
                  <a:lnTo>
                    <a:pt x="3599" y="0"/>
                  </a:lnTo>
                  <a:lnTo>
                    <a:pt x="719" y="0"/>
                  </a:lnTo>
                  <a:lnTo>
                    <a:pt x="0" y="677"/>
                  </a:lnTo>
                  <a:lnTo>
                    <a:pt x="0" y="3388"/>
                  </a:lnTo>
                  <a:close/>
                </a:path>
              </a:pathLst>
            </a:cu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876920"/>
              <a:ext cx="1066680" cy="1143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6135840" y="5105520"/>
              <a:ext cx="140796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Answer f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6232680" y="3641760"/>
              <a:ext cx="1235160" cy="83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MSQL D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19160" y="4136400"/>
              <a:ext cx="697680" cy="481680"/>
            </a:xfrm>
            <a:custGeom>
              <a:avLst/>
              <a:gdLst/>
              <a:ahLst/>
              <a:rect l="0" t="0" r="r" b="b"/>
              <a:pathLst>
                <a:path w="1938" h="1338">
                  <a:moveTo>
                    <a:pt x="0" y="1028"/>
                  </a:moveTo>
                  <a:lnTo>
                    <a:pt x="171" y="1338"/>
                  </a:lnTo>
                  <a:lnTo>
                    <a:pt x="1468" y="619"/>
                  </a:lnTo>
                  <a:lnTo>
                    <a:pt x="1640" y="930"/>
                  </a:lnTo>
                  <a:lnTo>
                    <a:pt x="1938" y="156"/>
                  </a:lnTo>
                  <a:lnTo>
                    <a:pt x="1125" y="0"/>
                  </a:lnTo>
                  <a:lnTo>
                    <a:pt x="1296" y="309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52560" y="4758120"/>
              <a:ext cx="798120" cy="623160"/>
            </a:xfrm>
            <a:custGeom>
              <a:avLst/>
              <a:gdLst/>
              <a:ahLst/>
              <a:rect l="0" t="0" r="r" b="b"/>
              <a:pathLst>
                <a:path w="2217" h="1731">
                  <a:moveTo>
                    <a:pt x="1970" y="1731"/>
                  </a:moveTo>
                  <a:lnTo>
                    <a:pt x="2217" y="1223"/>
                  </a:lnTo>
                  <a:lnTo>
                    <a:pt x="752" y="509"/>
                  </a:lnTo>
                  <a:lnTo>
                    <a:pt x="999" y="0"/>
                  </a:lnTo>
                  <a:lnTo>
                    <a:pt x="0" y="455"/>
                  </a:lnTo>
                  <a:lnTo>
                    <a:pt x="256" y="1523"/>
                  </a:lnTo>
                  <a:lnTo>
                    <a:pt x="503" y="1016"/>
                  </a:lnTo>
                  <a:lnTo>
                    <a:pt x="1970" y="1731"/>
                  </a:lnTo>
                  <a:close/>
                </a:path>
              </a:pathLst>
            </a:cu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97480" y="3679920"/>
              <a:ext cx="697680" cy="481680"/>
            </a:xfrm>
            <a:custGeom>
              <a:avLst/>
              <a:gdLst/>
              <a:ahLst/>
              <a:rect l="0" t="0" r="r" b="b"/>
              <a:pathLst>
                <a:path w="1938" h="1338">
                  <a:moveTo>
                    <a:pt x="1938" y="309"/>
                  </a:moveTo>
                  <a:lnTo>
                    <a:pt x="1766" y="0"/>
                  </a:lnTo>
                  <a:lnTo>
                    <a:pt x="469" y="719"/>
                  </a:lnTo>
                  <a:lnTo>
                    <a:pt x="297" y="407"/>
                  </a:lnTo>
                  <a:lnTo>
                    <a:pt x="0" y="1181"/>
                  </a:lnTo>
                  <a:lnTo>
                    <a:pt x="812" y="1338"/>
                  </a:lnTo>
                  <a:lnTo>
                    <a:pt x="641" y="1028"/>
                  </a:lnTo>
                  <a:lnTo>
                    <a:pt x="1938" y="309"/>
                  </a:lnTo>
                  <a:close/>
                </a:path>
              </a:pathLst>
            </a:cu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4890960" y="3184560"/>
              <a:ext cx="143352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Reads and update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5079960" y="5394240"/>
              <a:ext cx="116856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Reads answ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71800" y="4114800"/>
              <a:ext cx="838440" cy="381240"/>
            </a:xfrm>
            <a:custGeom>
              <a:avLst/>
              <a:gdLst/>
              <a:ahLst/>
              <a:rect l="0" t="0" r="r" b="b"/>
              <a:pathLst>
                <a:path w="2329" h="1059">
                  <a:moveTo>
                    <a:pt x="0" y="352"/>
                  </a:moveTo>
                  <a:lnTo>
                    <a:pt x="0" y="705"/>
                  </a:lnTo>
                  <a:lnTo>
                    <a:pt x="1630" y="705"/>
                  </a:lnTo>
                  <a:lnTo>
                    <a:pt x="1630" y="1059"/>
                  </a:lnTo>
                  <a:lnTo>
                    <a:pt x="2329" y="530"/>
                  </a:lnTo>
                  <a:lnTo>
                    <a:pt x="1630" y="0"/>
                  </a:lnTo>
                  <a:lnTo>
                    <a:pt x="1630" y="352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371600" y="4267080"/>
              <a:ext cx="609840" cy="609840"/>
              <a:chOff x="1371600" y="4267080"/>
              <a:chExt cx="609840" cy="609840"/>
            </a:xfrm>
          </p:grpSpPr>
          <p:sp>
            <p:nvSpPr>
              <p:cNvPr id="142" name=""/>
              <p:cNvSpPr/>
              <p:nvPr/>
            </p:nvSpPr>
            <p:spPr>
              <a:xfrm>
                <a:off x="1554120" y="4267080"/>
                <a:ext cx="427320" cy="609840"/>
              </a:xfrm>
              <a:custGeom>
                <a:avLst/>
                <a:gdLst/>
                <a:ahLst/>
                <a:rect l="0" t="0" r="r" b="b"/>
                <a:pathLst>
                  <a:path w="1187" h="1694">
                    <a:moveTo>
                      <a:pt x="0" y="563"/>
                    </a:moveTo>
                    <a:lnTo>
                      <a:pt x="0" y="1128"/>
                    </a:lnTo>
                    <a:lnTo>
                      <a:pt x="831" y="1128"/>
                    </a:lnTo>
                    <a:lnTo>
                      <a:pt x="831" y="1694"/>
                    </a:lnTo>
                    <a:lnTo>
                      <a:pt x="1187" y="846"/>
                    </a:lnTo>
                    <a:lnTo>
                      <a:pt x="831" y="0"/>
                    </a:lnTo>
                    <a:lnTo>
                      <a:pt x="831" y="563"/>
                    </a:lnTo>
                    <a:lnTo>
                      <a:pt x="0" y="5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71600" y="4267080"/>
                <a:ext cx="427320" cy="609840"/>
              </a:xfrm>
              <a:custGeom>
                <a:avLst/>
                <a:gdLst/>
                <a:ahLst/>
                <a:rect l="0" t="0" r="r" b="b"/>
                <a:pathLst>
                  <a:path w="1187" h="1694">
                    <a:moveTo>
                      <a:pt x="1187" y="563"/>
                    </a:moveTo>
                    <a:lnTo>
                      <a:pt x="1187" y="1128"/>
                    </a:lnTo>
                    <a:lnTo>
                      <a:pt x="355" y="1128"/>
                    </a:lnTo>
                    <a:lnTo>
                      <a:pt x="355" y="1694"/>
                    </a:lnTo>
                    <a:lnTo>
                      <a:pt x="0" y="846"/>
                    </a:lnTo>
                    <a:lnTo>
                      <a:pt x="355" y="0"/>
                    </a:lnTo>
                    <a:lnTo>
                      <a:pt x="355" y="563"/>
                    </a:lnTo>
                    <a:lnTo>
                      <a:pt x="1187" y="5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 txBox="1"/>
            <p:nvPr/>
          </p:nvSpPr>
          <p:spPr>
            <a:xfrm>
              <a:off x="7202520" y="5105520"/>
              <a:ext cx="14842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• </a:t>
              </a: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correct answ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2967120" y="3656160"/>
              <a:ext cx="9237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answ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4572000"/>
              <a:ext cx="838440" cy="381240"/>
            </a:xfrm>
            <a:custGeom>
              <a:avLst/>
              <a:gdLst/>
              <a:ahLst/>
              <a:rect l="0" t="0" r="r" b="b"/>
              <a:pathLst>
                <a:path w="2329" h="1059">
                  <a:moveTo>
                    <a:pt x="2329" y="352"/>
                  </a:moveTo>
                  <a:lnTo>
                    <a:pt x="2329" y="705"/>
                  </a:lnTo>
                  <a:lnTo>
                    <a:pt x="698" y="705"/>
                  </a:lnTo>
                  <a:lnTo>
                    <a:pt x="698" y="1059"/>
                  </a:lnTo>
                  <a:lnTo>
                    <a:pt x="0" y="530"/>
                  </a:lnTo>
                  <a:lnTo>
                    <a:pt x="698" y="0"/>
                  </a:lnTo>
                  <a:lnTo>
                    <a:pt x="698" y="352"/>
                  </a:lnTo>
                  <a:lnTo>
                    <a:pt x="2329" y="352"/>
                  </a:lnTo>
                  <a:close/>
                </a:path>
              </a:pathLst>
            </a:cu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2936880" y="5127480"/>
              <a:ext cx="981000" cy="121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(end tim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scores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mistakes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next qui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QUIZIT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Run-time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Module:</a:t>
            </a:r>
            <a:br>
              <a:rPr sz="3600"/>
            </a:b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iewing Records and Old-Quizz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any given point in time students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 old quizzes (student may not retake quizzes for cred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 back to the system and re-start from where they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 their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ssion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res (cumulative, per qui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ext quiz they will have to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IZIT in ac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75248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duate-level course: CS5604 (11 stud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ized System of Instruction (P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rse divided into 11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unit has one quiz with two levels. Each level has two remedial quiz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971800" y="4495680"/>
            <a:ext cx="2438280" cy="2133720"/>
            <a:chOff x="2971800" y="4495680"/>
            <a:chExt cx="2438280" cy="2133720"/>
          </a:xfrm>
        </p:grpSpPr>
        <p:sp>
          <p:nvSpPr>
            <p:cNvPr id="153" name=""/>
            <p:cNvSpPr/>
            <p:nvPr/>
          </p:nvSpPr>
          <p:spPr>
            <a:xfrm>
              <a:off x="2971800" y="4495680"/>
              <a:ext cx="609480" cy="6094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2971800" y="5257800"/>
              <a:ext cx="609480" cy="6094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2971800" y="6019920"/>
              <a:ext cx="609480" cy="6094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a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00600" y="6019920"/>
              <a:ext cx="609480" cy="6094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00600" y="5257800"/>
              <a:ext cx="609480" cy="6094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00600" y="4495680"/>
              <a:ext cx="609480" cy="6094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3057480" y="460224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4879800" y="4602240"/>
              <a:ext cx="4525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4879800" y="5440320"/>
              <a:ext cx="4525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879800" y="6126120"/>
              <a:ext cx="4525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b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733920" y="4648320"/>
            <a:ext cx="914760" cy="305280"/>
          </a:xfrm>
          <a:custGeom>
            <a:avLst/>
            <a:gdLst/>
            <a:ahLst/>
            <a:rect l="0" t="0" r="r" b="b"/>
            <a:pathLst>
              <a:path w="2541" h="848">
                <a:moveTo>
                  <a:pt x="0" y="282"/>
                </a:moveTo>
                <a:lnTo>
                  <a:pt x="0" y="564"/>
                </a:lnTo>
                <a:lnTo>
                  <a:pt x="1778" y="564"/>
                </a:lnTo>
                <a:lnTo>
                  <a:pt x="1778" y="848"/>
                </a:lnTo>
                <a:lnTo>
                  <a:pt x="2541" y="424"/>
                </a:lnTo>
                <a:lnTo>
                  <a:pt x="1778" y="0"/>
                </a:lnTo>
                <a:lnTo>
                  <a:pt x="1778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27720" y="4876920"/>
            <a:ext cx="1024920" cy="642960"/>
          </a:xfrm>
          <a:custGeom>
            <a:avLst/>
            <a:gdLst/>
            <a:ahLst/>
            <a:rect l="0" t="0" r="r" b="b"/>
            <a:pathLst>
              <a:path w="2847" h="1786">
                <a:moveTo>
                  <a:pt x="0" y="1549"/>
                </a:moveTo>
                <a:lnTo>
                  <a:pt x="142" y="1786"/>
                </a:lnTo>
                <a:lnTo>
                  <a:pt x="2085" y="618"/>
                </a:lnTo>
                <a:lnTo>
                  <a:pt x="2228" y="855"/>
                </a:lnTo>
                <a:lnTo>
                  <a:pt x="2847" y="0"/>
                </a:lnTo>
                <a:lnTo>
                  <a:pt x="1800" y="144"/>
                </a:lnTo>
                <a:lnTo>
                  <a:pt x="1943" y="381"/>
                </a:lnTo>
                <a:lnTo>
                  <a:pt x="0" y="154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98640" y="4978080"/>
            <a:ext cx="927000" cy="1446480"/>
          </a:xfrm>
          <a:custGeom>
            <a:avLst/>
            <a:gdLst/>
            <a:ahLst/>
            <a:rect l="0" t="0" r="r" b="b"/>
            <a:pathLst>
              <a:path w="2575" h="4018">
                <a:moveTo>
                  <a:pt x="0" y="3889"/>
                </a:moveTo>
                <a:lnTo>
                  <a:pt x="206" y="4018"/>
                </a:lnTo>
                <a:lnTo>
                  <a:pt x="1937" y="1250"/>
                </a:lnTo>
                <a:lnTo>
                  <a:pt x="2145" y="1379"/>
                </a:lnTo>
                <a:lnTo>
                  <a:pt x="2575" y="0"/>
                </a:lnTo>
                <a:lnTo>
                  <a:pt x="1523" y="991"/>
                </a:lnTo>
                <a:lnTo>
                  <a:pt x="1729" y="1121"/>
                </a:lnTo>
                <a:lnTo>
                  <a:pt x="0" y="388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4419720"/>
            <a:ext cx="381240" cy="2362680"/>
          </a:xfrm>
          <a:custGeom>
            <a:avLst/>
            <a:gdLst/>
            <a:ahLst/>
            <a:rect l="0" t="0" r="r" b="b"/>
            <a:pathLst>
              <a:path w="1059" h="6563">
                <a:moveTo>
                  <a:pt x="1059" y="2186"/>
                </a:moveTo>
                <a:lnTo>
                  <a:pt x="1059" y="4371"/>
                </a:lnTo>
                <a:lnTo>
                  <a:pt x="317" y="4371"/>
                </a:lnTo>
                <a:lnTo>
                  <a:pt x="317" y="6563"/>
                </a:lnTo>
                <a:lnTo>
                  <a:pt x="0" y="3281"/>
                </a:lnTo>
                <a:lnTo>
                  <a:pt x="317" y="0"/>
                </a:lnTo>
                <a:lnTo>
                  <a:pt x="317" y="2186"/>
                </a:lnTo>
                <a:lnTo>
                  <a:pt x="1059" y="218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4419720"/>
            <a:ext cx="381240" cy="2362680"/>
          </a:xfrm>
          <a:custGeom>
            <a:avLst/>
            <a:gdLst/>
            <a:ahLst/>
            <a:rect l="0" t="0" r="r" b="b"/>
            <a:pathLst>
              <a:path w="1059" h="6563">
                <a:moveTo>
                  <a:pt x="1059" y="2186"/>
                </a:moveTo>
                <a:lnTo>
                  <a:pt x="1059" y="4371"/>
                </a:lnTo>
                <a:lnTo>
                  <a:pt x="317" y="4371"/>
                </a:lnTo>
                <a:lnTo>
                  <a:pt x="317" y="6563"/>
                </a:lnTo>
                <a:lnTo>
                  <a:pt x="0" y="3281"/>
                </a:lnTo>
                <a:lnTo>
                  <a:pt x="317" y="0"/>
                </a:lnTo>
                <a:lnTo>
                  <a:pt x="317" y="2186"/>
                </a:lnTo>
                <a:lnTo>
                  <a:pt x="1059" y="218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25480" y="5081760"/>
            <a:ext cx="1550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core &lt; cut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06960" y="5081760"/>
            <a:ext cx="1550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core &lt; cut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498840" y="4114800"/>
            <a:ext cx="1454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score &gt; = cut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S5604: Progress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S5604: Progress: Conclusions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 do procrast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tend to procrastinate more in middle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the pace in the beg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ch up in the end because of d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 quiz “rush” in the end of the s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S5604: Student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S5604: Performance: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students only go through 2 of 6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er” quizzes: IF, MM, K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procrastination lead to worse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“deadline fever” lead to worse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IZIT in action!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graduate Level Course: CS1604 (about 150 stud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quiz has just o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concerns are much gr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distribution needs to be auto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can we assure that one student is not taking a quiz for ano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S1604: Progress and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 procrastinate even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s ma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was based on scores rather than task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quiz structure may lead to poor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IZIT: Goals,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WWW-based, automated test system supplementing other types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not viewed as a substitute for othe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open-book or monitored quiz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s in identifying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es on task completion, not on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PSI and/or large enrollment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administrative and grading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aluation and Conclusion:   HCI A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ing quizzes with QUIZIT takes a little more time than traditional quiz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savings in grading time, though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nd authentication are critical in large enrollment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record keeping and WWW monitor interfaces are very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in the role of the G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aluation and Conclusion: Technical A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67652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ructors need training in Q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I/mSQL is a very nice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 but new Java features may complement this model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keeping can be further exten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rther security mechanisms need to be developed (client side encryption, camera monitoring, etc.) for more general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aluation and Conclusion: Pedagogical A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676520"/>
            <a:ext cx="7772400" cy="413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ZIT was not designed to completely substitute for other types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s w/ multiple-choice exams can’t be neg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careful when using scores in adaptable quizz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should be on task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work well w/ self-evaluation and distanc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aluation and Conclusion: Pedagogical A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QUIZIT/PSI promote procrastin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an we do to avoid procrastination in PS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ption: Bonus for tasks completed in a certain time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can we explore more in quiz adapt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3520" y="1676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ments in studen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error report after eac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User Authoring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keep QML represent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 ques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more pattern matching options for fill-i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ning program, Packaging,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IZIT: Goals,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w/ WWW-based courseware and digit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usabl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grading w/ high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t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e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use and to a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st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: letter, paper, 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rn-around, grading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ic submission, manually gr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 conference, e-mai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tion in turn-around, same grad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ic submission, automatically gr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BTs, WBTs, Hybr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tion in turn-around and grad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isting Automated Test Systems: Denom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B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ic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B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k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XR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brids: PC authoring, option of Internet deployment (ex: Toolbook 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isting Test Systems: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ing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 representation, portability, re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vs. stand-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-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ptability based on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 (e.g., predefined) vs dynamic (e.g., infer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isting Test Systems: CBTs, Hybr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rietary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, but hard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system represents documents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57b49"/>
                </a:solidFill>
                <a:latin typeface="Times New Roman"/>
                <a:ea typeface="Times New Roman"/>
              </a:rPr>
              <a:t>hard to integrate w/ digital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romises por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-alone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brids provide Internet deployment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provide group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 do not have the concept of a “clas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isting Test Systems: WB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only fair-to-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ations in adding adap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al syntax in document representation (poor logical modeling, ad hoc use of HTML-extens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 record-keeping and monitor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do not treat group monitoring, lack concept of “cla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io Cunha Tinoco</dc:creator>
  <dc:description/>
  <dc:language>en-US</dc:language>
  <cp:lastModifiedBy>Lucio Cunha Tinoco</cp:lastModifiedBy>
  <cp:revision>0</cp:revision>
  <dc:subject>Online Evaluation in WWW-based Courseware</dc:subject>
  <dc:title>Online Evaluation in  WWW-based Courseware:  The QUIZIT Project</dc:title>
</cp:coreProperties>
</file>