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c0c0"/>
                </a:gs>
                <a:gs pos="100000">
                  <a:srgbClr val="006060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90360" y="6485040"/>
            <a:ext cx="12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irginia Te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B229F69A-C0DE-40B7-8EB8-FABBFEA962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09480" y="1371600"/>
            <a:ext cx="7848720" cy="38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NSF CISE EI (Educational Innovation) PIs Meeting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November 5-7, 1996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Salt Lake City, Uta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8600" y="320040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teractive Learning with a Digital Library in Computer Scienc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62360" y="4998960"/>
            <a:ext cx="3483000" cy="17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  <a:ea typeface="Arial"/>
              </a:rPr>
              <a:t>Edward A. F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  <a:ea typeface="Arial"/>
              </a:rPr>
              <a:t>fox@v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  <a:ea typeface="Arial"/>
              </a:rPr>
              <a:t>http://fox.cs.v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TECHNICAL  REPORTS: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NCSTR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46280" y="1584360"/>
            <a:ext cx="826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701800" y="3235320"/>
            <a:ext cx="1217520" cy="873000"/>
          </a:xfrm>
          <a:prstGeom prst="rect">
            <a:avLst/>
          </a:prstGeom>
          <a:noFill/>
          <a:ln w="25560">
            <a:solidFill>
              <a:srgbClr val="006b61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92120" y="3235320"/>
            <a:ext cx="1251000" cy="873000"/>
          </a:xfrm>
          <a:prstGeom prst="rect">
            <a:avLst/>
          </a:prstGeom>
          <a:noFill/>
          <a:ln w="25560">
            <a:solidFill>
              <a:srgbClr val="80008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c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701800" y="4606920"/>
            <a:ext cx="793800" cy="507960"/>
          </a:xfrm>
          <a:prstGeom prst="rect">
            <a:avLst/>
          </a:prstGeom>
          <a:noFill/>
          <a:ln w="25560">
            <a:solidFill>
              <a:srgbClr val="ff00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69040" y="3235320"/>
            <a:ext cx="1200240" cy="12384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1800" y="5597640"/>
            <a:ext cx="793800" cy="507960"/>
          </a:xfrm>
          <a:prstGeom prst="rect">
            <a:avLst/>
          </a:prstGeom>
          <a:noFill/>
          <a:ln w="25560">
            <a:solidFill>
              <a:srgbClr val="ff00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92920" y="3235320"/>
            <a:ext cx="1200240" cy="12384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1905120"/>
            <a:ext cx="152280" cy="1295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1905120"/>
            <a:ext cx="1371600" cy="3733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1905120"/>
            <a:ext cx="1295280" cy="2743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1905120"/>
            <a:ext cx="1218960" cy="1371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47920" y="1828800"/>
            <a:ext cx="3962160" cy="144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1752480"/>
            <a:ext cx="5486400" cy="1524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INTERACTIVE 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WAN (Algorithm visualiz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UIZIT (automated test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b Page Tree generator (according to link hierarchy, count # page access, see what machines are responsi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b Server Access Graphing (layout of course pages based on count of # link of travers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INTERACTIVE  TOOLS: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QUIZ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GML generates HTML &amp; answer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SQL supports record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utomated password request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ssword allows review of taken qu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ssword allows selection of next 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 types of questions are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eedback provided if questions mi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INTERACTIVE  TOOLS: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Web  Page 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gin with access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apted ? (which follows links from a page to traverse the sub-tr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esentation has indenting fo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cess count is for period of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chines” yields page, alphabetically sorted, accounting for ac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INTERACTIVE  TOOLS: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Web Server Access Grap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gin with server access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ERL script generates graph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nci (UNIX) front end handles layout and presentation, with zoo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amples are from CS5604, 10/29/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# accesses increase as edges shift from light blue -&gt; green -&gt; yellow -&gt; red (color gradient based on Keller &amp; Kell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PAPERLESS  COUR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S1604: Introduction to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S3604: Professionalism in Comp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S4624: Multimedia, Hypertext and Information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S5604: Information Storage and Retri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PAPERLESS  COURSES: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Introduction to the Int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w either lecture or self-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hances “information literac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ffered each term, summer, and at other institutions thru NSF SUCC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lf-stu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rsonalized System of Instruction (Kell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ultimedia tutorials for interactive lear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IZIT for interactive gr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228600"/>
            <a:ext cx="777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PAPERLESS  COURSES: Professionalism in Comp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676520"/>
            <a:ext cx="7772400" cy="42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neral guidance for communi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aphics, Speaking,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pic directo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ibliography; Censorship; Copyrights, Patents, Trademarks, Intellectual Property; Community Values; Crime; Disabilities; Ethics; Freedom of Speech; Green Machines; Hacking; Impact; Liabilities; Privacy; Relationships; Responsibilities; Therac 25; Viruses; World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228600"/>
            <a:ext cx="777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PAPERLESS  COURSES: Professionalism in Comp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676520"/>
            <a:ext cx="77724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ssignments; Debates; Evaluations (past); Examinations (pa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ont End (syllabus, index, calendar, teacher and assistants, announce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roductory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licies (university, college, departmental, and course policies that affect the participants -- including the late assignment policy and the honor c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228600"/>
            <a:ext cx="777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PAPERLESS  COURSES: Professionalism in Comp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ideo series by BBC and WGB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"The Machine That Changed The World", by Jon Palfre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tiquette: A.Rinaldi, Florida Atlantic 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acking: R. Barnhart, Heritage U.,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thics and the Computer: Living in the Electronic World- K. Bowyer, U. South F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228600"/>
            <a:ext cx="777240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6b61"/>
                </a:solidFill>
                <a:latin typeface="Book Antiqua"/>
                <a:ea typeface="Book Antiqua"/>
              </a:rPr>
              <a:t>‘</a:t>
            </a:r>
            <a:r>
              <a:rPr b="0" lang="en-US" sz="4000" spc="-1" strike="noStrike">
                <a:solidFill>
                  <a:srgbClr val="006b61"/>
                </a:solidFill>
                <a:latin typeface="Book Antiqua"/>
                <a:ea typeface="Book Antiqua"/>
              </a:rPr>
              <a:t>96 Frontiers in Education Conf</a:t>
            </a:r>
            <a:br>
              <a:rPr sz="4000"/>
            </a:br>
            <a:r>
              <a:rPr b="0" lang="en-US" sz="4000" spc="-1" strike="noStrike">
                <a:solidFill>
                  <a:srgbClr val="006b61"/>
                </a:solidFill>
                <a:latin typeface="Book Antiqua"/>
                <a:ea typeface="Book Antiqua"/>
              </a:rPr>
              <a:t>Nov. 6-9, 1996 - Salt Lake 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862360" y="4923000"/>
            <a:ext cx="3483000" cy="17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  <a:ea typeface="Arial"/>
              </a:rPr>
              <a:t>Edward A. F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  <a:ea typeface="Arial"/>
              </a:rPr>
              <a:t>fox@v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  <a:ea typeface="Arial"/>
              </a:rPr>
              <a:t>http://fox.cs.v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6560" y="1787400"/>
            <a:ext cx="8418600" cy="28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Interactive Learning with 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Digital Library 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Computer Science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PAPERLESS  COURSES: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MH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ultimedia, Hypertext and Information Access - now a regular senior el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rriculum Development Efforts: ACM SIGIR and SIGMM (Multimed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eller’s Personalized System of Instr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oup projects, field trips, digital video editing, work in “Interactive Accessibility”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PAPERLESS  COURSES: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Info. Storage &amp; Retrie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ll 1993 w. gopher, Fall 1994 on WW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eller’s Personalized System of Instruction (mastery, tutoring, proceed at own pace, quick feedback, written uni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95 included “distance learning”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ctures motivational, op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b 1/2 time, field trips, group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culty interviews using ID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LTRIX app, 2 VTRs: computer/cam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rnette, Fox, Hartson, Lee, Sha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pics: course, approach to pedagogy, purpose, goals, objectives, syllabus, what works well, less well, pros, cons, problems, successes, rationale, claims, scenarios/anecd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e- and post-tests, Final sc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luations: course, te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laims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cus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S1206 (10 groups), CS1704 (6 labs);   Full Classes: CS3604, CS56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EVALUATION: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WWW  Traffic 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view 4 figures in FIE’96 conf.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gression shows R</a:t>
            </a:r>
            <a:r>
              <a:rPr b="0" lang="en-US" sz="2800" spc="-1" strike="noStrike" baseline="36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.56 if predicting # accesses by # students, “paperles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p classes pie charts: accesses, 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are 1995 with 1996 regar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cesses,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ique clients, unique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EVALUATION: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Weekly Accesses 1/95-6/9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4674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EVALUATION: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Weekly Accesses Spring 199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3310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85800" y="228600"/>
            <a:ext cx="777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EVALUATION: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Accesses Last Wk of S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4674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228600"/>
            <a:ext cx="777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EVALUATION: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 Accesses Last Wk Spring 199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4674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EVALUATION: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Bytes Last Wk Spring 199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52560" y="1600200"/>
            <a:ext cx="73533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roduction: Digit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VISION: Interface, ACM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echnical Reports: WATERS, NCST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ractive Tools: SWAN, QUIZIT,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perless Courses: CS1604, 3604,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luation: WWW Traffic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clusions: Follow-on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EVALUATION: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Top 11 Classes by # Ac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5943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EVALUATION: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Top 11 Classes by # By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7772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228600"/>
            <a:ext cx="777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EVALUATION: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1995 vs. 1996 Weekly Ac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400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EVALUATION: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 1995 vs. 1996 Weekly By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0720" y="1676520"/>
            <a:ext cx="770256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EVALUATION: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 1995 vs. 1996 Unique Cli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71755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EVALUATION: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 1995 vs. 1996 Unique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72388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85800" y="228600"/>
            <a:ext cx="7772400" cy="20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EVALUATION: </a:t>
            </a:r>
            <a:r>
              <a:rPr b="0" lang="en-US" sz="3600" spc="-1" strike="noStrike">
                <a:solidFill>
                  <a:srgbClr val="006b61"/>
                </a:solidFill>
                <a:latin typeface="Book Antiqua"/>
                <a:ea typeface="Book Antiqua"/>
              </a:rPr>
              <a:t>Cycle to produce answers to learning design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52480" y="1657440"/>
            <a:ext cx="576432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CONCLUSIONS: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752480"/>
            <a:ext cx="7924680" cy="43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gital Library: ENVISION, NCST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courses: Intro. to Internet, HCI, MHIA plus enhanced Profession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rriculum work on MHIA (HT, IR, M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s: SWAN, QUIZIT, Web Page Tree, Web Server Access Graphing, deb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anges: infrastructure, pedagogy, la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000 pages of online course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valuation integrated int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CONCLUSIONS: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Follow-o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orld-Wide Web Traffic Characterization with Application to In-network Caching and Prefetching (NS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grating Statistics and Models across the Social Sciences Curricula (FIP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proving Graduate Ed. with a National Digital Library of Theses and Disser- tations (FIPSE)   http://etd.vt.edu/etd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600" y="17524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SF (CDA-9312611), ACM, Virginia Tech (CS Dept. , College of A&amp;S, Computing Cnt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CULTY, STAF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brams, Barnette, France, Hartson, Heath, Hix, Lee, Ribbens, Rosson, Shaffer, Stand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UDEN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bdulla, Averboch, Hash, Heagy, Laughton, Nielsen, Nowell, Patel, Ribler, Tinoco, Wake, Williams, Y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INTRODUCTION: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and digital library content&amp;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elop&amp;apply algorithm vis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 new courses: freshman information literacy, HCI, multi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gnificantly change courses like Computer Professionalism to be more interactive and use digit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INTRODUCTION: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Digit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eviously “electronic librari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ave collection principle, support for searching and browsing of full text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ected to aid education (e.g., reduce cost of multimedia development) and to help ensure “information literac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pplicable to CS: ACM / IEEE-CS, technical reports, theses/disser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EN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User-Centered Database from the Computer Science Literature (1991-9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llected bib. data, converted to SG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verted typesetter data to SG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canned thousands of page 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RIAN search engine (used with Virginia Tech library catalog) used as part of prototype object-based 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ENVISION: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signed by L. Nowell, assisted especially by R. France, D. Hix, and W. W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ther windows: large query, small query, query list, and initial login (plus brows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w works with MARIAN data t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amples show: “cream rising” when relevance is on Y axis, visualization of patterns like growth of a field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TECHNICAL  RE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S TR project supported by ARPA (Berkeley, CMU, Cornell, MIT, Stanfo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ATERS project for other departments led by ODU, SUNY Buffalo, UVA, VPI&amp;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rger summer 1995 to NCSTRL (Networked CS Tech Report Libra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st large departments now have jo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entral” server: UVA, “backup”: VPI&amp;S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nformation Systems</dc:creator>
  <dc:description/>
  <dc:language>en-US</dc:language>
  <cp:lastModifiedBy>Information Systems</cp:lastModifiedBy>
  <cp:revision>0</cp:revision>
  <dc:subject/>
  <dc:title>NSF CISE EI (Educational Innovation) PIs Meeting November 5-7, 1996 Salt Lake City, Utah </dc:title>
</cp:coreProperties>
</file>