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c0c0"/>
                </a:gs>
                <a:gs pos="100000">
                  <a:srgbClr val="00606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7632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961"/>
              </a:spcBef>
            </a:pPr>
            <a:r>
              <a:rPr b="1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igital Librar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76212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b61"/>
                </a:solidFill>
                <a:latin typeface="Arial"/>
                <a:ea typeface="Arial"/>
              </a:rPr>
              <a:t>Their Educational Applications &amp;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1120" y="4314960"/>
            <a:ext cx="793764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Edward A. 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Dept. of Computer Science / Computing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Virginia Tech, Blacksburg, 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fox@vt.edu   http://fox.cs.vt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1600" y="1874880"/>
            <a:ext cx="8267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c000"/>
                </a:solidFill>
                <a:latin typeface="Arial"/>
                <a:ea typeface="Arial"/>
              </a:rPr>
              <a:t>RIC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c000"/>
                </a:solidFill>
                <a:latin typeface="Arial"/>
                <a:ea typeface="Arial"/>
              </a:rPr>
              <a:t>Fondren Library / Informatio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c000"/>
                </a:solidFill>
                <a:latin typeface="Arial"/>
                <a:ea typeface="Arial"/>
              </a:rPr>
              <a:t>Lecture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c000"/>
                </a:solidFill>
                <a:latin typeface="Arial"/>
                <a:ea typeface="Arial"/>
              </a:rPr>
              <a:t>March 17,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 DEPT.  FOCUSED ON  H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828800"/>
            <a:ext cx="7772400" cy="42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SF RI “Interactive Accessib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on Access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action Technolog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ability Methods Research Lab (including collaboration / decision support / dist. e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ing toward a professional ma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cus on hiring, teaching, an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ded, open GRTs (grad traineeshi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nter for HCI (multidisciplin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TRODUCTION: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igital Libraries ---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ld Lit.: 24hr / 7day / from desk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active Courseware, Studen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intermediation -&gt;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ducation, Knowledge Sharing,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biquitous, Higher Quality, Lowe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iversities Reclaim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alable, Sustainable, Usable,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NSF  EI  http://ei.cs.vt.e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SF “A User-Centered Database from the Computer Science Litera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SF “Interactive Learning with a Digital Library in Computer Sci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5 online courses, 140K accesses/w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s: SWAN (visualization), QUI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luation: traditional + network logging and analysis, tools for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heory: S</a:t>
            </a:r>
            <a:r>
              <a:rPr b="0" lang="en-US" sz="4400" spc="-1" strike="noStrike" baseline="30000">
                <a:solidFill>
                  <a:srgbClr val="006b61"/>
                </a:solidFill>
                <a:latin typeface="Book Antiqua"/>
                <a:ea typeface="Book Antiqua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676520"/>
            <a:ext cx="7772400" cy="42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enarios (functions; HCI; ag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xt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media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ctor spaces, feature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ept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D, 3D, 4D -&gt; Finite coordinat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ECHNICAL  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06360" y="1987560"/>
            <a:ext cx="67183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io Cunha Tinoco</dc:creator>
  <dc:description/>
  <dc:language>en-US</dc:language>
  <cp:lastModifiedBy>Information Systems</cp:lastModifiedBy>
  <cp:revision>0</cp:revision>
  <dc:subject>Online Evaluation in WWW-based Courseware</dc:subject>
  <dc:title>DEFENSE</dc:title>
</cp:coreProperties>
</file>