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5"/>
                  </a:moveTo>
                  <a:lnTo>
                    <a:pt x="2014" y="0"/>
                  </a:lnTo>
                  <a:lnTo>
                    <a:pt x="0" y="0"/>
                  </a:lnTo>
                  <a:lnTo>
                    <a:pt x="0" y="2119"/>
                  </a:lnTo>
                  <a:lnTo>
                    <a:pt x="14968" y="17146"/>
                  </a:lnTo>
                  <a:lnTo>
                    <a:pt x="17031" y="15075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0" y="0"/>
                  </a:moveTo>
                  <a:lnTo>
                    <a:pt x="14963" y="13390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9" y="0"/>
                  </a:moveTo>
                  <a:lnTo>
                    <a:pt x="12604" y="9872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9"/>
                  </a:lnTo>
                  <a:lnTo>
                    <a:pt x="15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6002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ng Multimedia Course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in a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er Scie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352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cksburg, VA 24061-0106 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95520" y="5168880"/>
            <a:ext cx="41576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ACM SIGCSE’97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Feb. 27 - Mar. 1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San J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HIA 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: SIGIR’96, MM’96, SIGIR’97-DL’97 (July 26); IEEE CS: ICMCS’97 (June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: Curriculum Guidelines for MHIA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rograms, ex. Euro EI 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able WWW Knowledge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urses, ex. Hypertext, IR, 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ons to Existing Courses (Comparative Languages, DBMS, HCI, Networking, 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HIA 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Pages http://ei.cs.vt.edu/~fox/MHI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of pages from eac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 SIGMM Zine pointing to courseware catalog at Cornell (Brian Sm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have working versions of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ies Cours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program and project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ot effort at Virginia Tech from E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provides framework,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active working group involved in teaching multimedia (MHIA) courses, interna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accomodate various programs, local situations: CS, Ed. Tech., Entertain., LIS, 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 should be ACM/IEEE CS/...  sponsored guidelines for curriculum and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project, courseware - Interactive Learning with a Digital Library in CS - http://ei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Workshop June 15-21 (apply to fox@vt.e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Courses CS1604 (Intro to Internet), CS4624 (Multimedia, Hypertext &amp; Information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Workshops --- SIGIR’95, SIGIR’96, MM’96;   ICMCS’97,  SIGIR’97-DL’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Pages http://ei.cs.vt.edu/~fox/MHI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 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828800"/>
            <a:ext cx="84582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F CISE Education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ier work on Information Retrieval, Digital Libraries: A User Centered Database from the Computer Science Literature (1991-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Learning with a Digital Library in CS (1993-97) - http://ei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PIs: Barnette, Hartson, Lee, Sh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studied algorithm visualization (SWAN), WWW-testing (QUIZIT), writing/debate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  Cours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45 courses, over 10K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y server, up to 140K accesses/week (DEC Alpha, to be supplemented by large IBM F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courses account for &gt; 80% of access/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, calendars, online quizes, old tests, news, tutorials, exercises/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or more of traffic is from outs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collections, e.g., history of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 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Interactive Learning with a Digital Library in CS: results at Virginia Tech, N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ing courseware, WWW access,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CEUs for 40 hours instruction, including Java, WWW admin, log analysis and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y by 4/1 to fox@vt.edu for June 15-21 mt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analog/digital video editing, multimedia courseware (at freshman, senior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 16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the Internet, 1 credit, fresh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hypermedia, multimedia (including compression, digital audio, digital video, VR, graphics, HTML, Web publis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: tools supporting tasks, basic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System of Instruction (Keller Plan) and QUIZIT and tutorials for self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 Dwight Barnette, + J. Watson, E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4624  --- 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, Hypertext &amp; Informatio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: Andleigh&amp;Thakrar (prev. Kogel Buf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redits, senior level, popular 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lecture, 2 sections each w. 75 mi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, QUIZIT, 100 points for 6 units (quiz+ex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points for final, 90 points for term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clients for projects, usable deliverables, design + tools + interface +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4624  --- 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Virtual Computer History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ur of Campus Multimedia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 Dept. Infomercial (for grad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 of campus, library, ACITC; QT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s: HCI Center, Dormitor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: NDLTD (to PDF, linking, scan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Databases using Oracle, Dublin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Guidelines: Application,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4624  ---  Co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676520"/>
            <a:ext cx="8610480" cy="44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s, Exercises, Labs, Objectives, Study Questions, Issues, Readings, Demos, 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: Storyspace, Acro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nstruction: Author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e &amp; Representation: Photoshop, Premiere, Soundedit 16; scanners,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s &amp; Compression: QuickTime, Hype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&amp;Interaction: HyperCard,-G, MH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&amp; Communication: M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o Cunha Tinoco</dc:creator>
  <dc:description/>
  <dc:language>en-US</dc:language>
  <cp:lastModifiedBy>Information Systems</cp:lastModifiedBy>
  <cp:revision>0</cp:revision>
  <dc:subject>Online Evaluation in WWW-based Courseware</dc:subject>
  <dc:title>Defining Multimedia Courses within a Computer Science Education</dc:title>
</cp:coreProperties>
</file>