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407B9F-1449-4707-ABA5-352BA983D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7160"/>
            <a:ext cx="9131400" cy="2478240"/>
            <a:chOff x="0" y="4367160"/>
            <a:chExt cx="9131400" cy="247824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7160"/>
              <a:ext cx="1887480" cy="2262600"/>
              <a:chOff x="7077240" y="4367160"/>
              <a:chExt cx="1887480" cy="226260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0160" cy="2019600"/>
              </a:xfrm>
              <a:custGeom>
                <a:avLst/>
                <a:gdLst/>
                <a:ahLst/>
                <a:rect l="0" t="0" r="r" b="b"/>
                <a:pathLst>
                  <a:path w="4556" h="5610">
                    <a:moveTo>
                      <a:pt x="2567" y="0"/>
                    </a:moveTo>
                    <a:lnTo>
                      <a:pt x="2849" y="101"/>
                    </a:lnTo>
                    <a:lnTo>
                      <a:pt x="3118" y="246"/>
                    </a:lnTo>
                    <a:lnTo>
                      <a:pt x="3374" y="405"/>
                    </a:lnTo>
                    <a:lnTo>
                      <a:pt x="3608" y="590"/>
                    </a:lnTo>
                    <a:lnTo>
                      <a:pt x="3819" y="811"/>
                    </a:lnTo>
                    <a:lnTo>
                      <a:pt x="4005" y="1045"/>
                    </a:lnTo>
                    <a:lnTo>
                      <a:pt x="4163" y="1296"/>
                    </a:lnTo>
                    <a:lnTo>
                      <a:pt x="4309" y="1556"/>
                    </a:lnTo>
                    <a:lnTo>
                      <a:pt x="4410" y="1838"/>
                    </a:lnTo>
                    <a:lnTo>
                      <a:pt x="4490" y="2129"/>
                    </a:lnTo>
                    <a:lnTo>
                      <a:pt x="4543" y="2425"/>
                    </a:lnTo>
                    <a:lnTo>
                      <a:pt x="4556" y="2729"/>
                    </a:lnTo>
                    <a:lnTo>
                      <a:pt x="4543" y="3034"/>
                    </a:lnTo>
                    <a:lnTo>
                      <a:pt x="4490" y="3334"/>
                    </a:lnTo>
                    <a:lnTo>
                      <a:pt x="4410" y="3621"/>
                    </a:lnTo>
                    <a:lnTo>
                      <a:pt x="4309" y="3899"/>
                    </a:lnTo>
                    <a:lnTo>
                      <a:pt x="4163" y="4163"/>
                    </a:lnTo>
                    <a:lnTo>
                      <a:pt x="4005" y="4423"/>
                    </a:lnTo>
                    <a:lnTo>
                      <a:pt x="3819" y="4653"/>
                    </a:lnTo>
                    <a:lnTo>
                      <a:pt x="3608" y="4873"/>
                    </a:lnTo>
                    <a:lnTo>
                      <a:pt x="3374" y="5063"/>
                    </a:lnTo>
                    <a:lnTo>
                      <a:pt x="3118" y="5217"/>
                    </a:lnTo>
                    <a:lnTo>
                      <a:pt x="2849" y="5358"/>
                    </a:lnTo>
                    <a:lnTo>
                      <a:pt x="2567" y="5464"/>
                    </a:lnTo>
                    <a:lnTo>
                      <a:pt x="2280" y="5544"/>
                    </a:lnTo>
                    <a:lnTo>
                      <a:pt x="1984" y="5596"/>
                    </a:lnTo>
                    <a:lnTo>
                      <a:pt x="1684" y="5610"/>
                    </a:lnTo>
                    <a:lnTo>
                      <a:pt x="1380" y="5596"/>
                    </a:lnTo>
                    <a:lnTo>
                      <a:pt x="1084" y="5544"/>
                    </a:lnTo>
                    <a:lnTo>
                      <a:pt x="793" y="5464"/>
                    </a:lnTo>
                    <a:lnTo>
                      <a:pt x="520" y="5358"/>
                    </a:lnTo>
                    <a:lnTo>
                      <a:pt x="251" y="5217"/>
                    </a:lnTo>
                    <a:lnTo>
                      <a:pt x="0" y="5063"/>
                    </a:lnTo>
                    <a:lnTo>
                      <a:pt x="158" y="4829"/>
                    </a:lnTo>
                    <a:lnTo>
                      <a:pt x="392" y="4979"/>
                    </a:lnTo>
                    <a:lnTo>
                      <a:pt x="635" y="5098"/>
                    </a:lnTo>
                    <a:lnTo>
                      <a:pt x="886" y="5200"/>
                    </a:lnTo>
                    <a:lnTo>
                      <a:pt x="1150" y="5270"/>
                    </a:lnTo>
                    <a:lnTo>
                      <a:pt x="1411" y="5310"/>
                    </a:lnTo>
                    <a:lnTo>
                      <a:pt x="1684" y="5327"/>
                    </a:lnTo>
                    <a:lnTo>
                      <a:pt x="1953" y="5310"/>
                    </a:lnTo>
                    <a:lnTo>
                      <a:pt x="2222" y="5270"/>
                    </a:lnTo>
                    <a:lnTo>
                      <a:pt x="2483" y="5200"/>
                    </a:lnTo>
                    <a:lnTo>
                      <a:pt x="2739" y="5098"/>
                    </a:lnTo>
                    <a:lnTo>
                      <a:pt x="2977" y="4979"/>
                    </a:lnTo>
                    <a:lnTo>
                      <a:pt x="3206" y="4829"/>
                    </a:lnTo>
                    <a:lnTo>
                      <a:pt x="3418" y="4662"/>
                    </a:lnTo>
                    <a:lnTo>
                      <a:pt x="3608" y="4468"/>
                    </a:lnTo>
                    <a:lnTo>
                      <a:pt x="3780" y="4256"/>
                    </a:lnTo>
                    <a:lnTo>
                      <a:pt x="3925" y="4027"/>
                    </a:lnTo>
                    <a:lnTo>
                      <a:pt x="4053" y="3784"/>
                    </a:lnTo>
                    <a:lnTo>
                      <a:pt x="4150" y="3537"/>
                    </a:lnTo>
                    <a:lnTo>
                      <a:pt x="4216" y="3273"/>
                    </a:lnTo>
                    <a:lnTo>
                      <a:pt x="4256" y="2999"/>
                    </a:lnTo>
                    <a:lnTo>
                      <a:pt x="4274" y="2729"/>
                    </a:lnTo>
                    <a:lnTo>
                      <a:pt x="4256" y="2456"/>
                    </a:lnTo>
                    <a:lnTo>
                      <a:pt x="4216" y="2187"/>
                    </a:lnTo>
                    <a:lnTo>
                      <a:pt x="4150" y="1927"/>
                    </a:lnTo>
                    <a:lnTo>
                      <a:pt x="4053" y="1680"/>
                    </a:lnTo>
                    <a:lnTo>
                      <a:pt x="3925" y="1433"/>
                    </a:lnTo>
                    <a:lnTo>
                      <a:pt x="3780" y="1203"/>
                    </a:lnTo>
                    <a:lnTo>
                      <a:pt x="3608" y="992"/>
                    </a:lnTo>
                    <a:lnTo>
                      <a:pt x="3418" y="802"/>
                    </a:lnTo>
                    <a:lnTo>
                      <a:pt x="3206" y="635"/>
                    </a:lnTo>
                    <a:lnTo>
                      <a:pt x="2977" y="485"/>
                    </a:lnTo>
                    <a:lnTo>
                      <a:pt x="2739" y="357"/>
                    </a:lnTo>
                    <a:lnTo>
                      <a:pt x="2483" y="268"/>
                    </a:lnTo>
                    <a:lnTo>
                      <a:pt x="2492" y="246"/>
                    </a:lnTo>
                    <a:lnTo>
                      <a:pt x="256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640"/>
                <a:ext cx="5688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5080" bIns="55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7160"/>
                <a:ext cx="5724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5080" bIns="55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7600" cy="173520"/>
              </a:xfrm>
              <a:custGeom>
                <a:avLst/>
                <a:gdLst/>
                <a:ahLst/>
                <a:rect l="0" t="0" r="r" b="b"/>
                <a:pathLst>
                  <a:path w="2660" h="482">
                    <a:moveTo>
                      <a:pt x="8" y="309"/>
                    </a:moveTo>
                    <a:lnTo>
                      <a:pt x="61" y="252"/>
                    </a:lnTo>
                    <a:lnTo>
                      <a:pt x="136" y="203"/>
                    </a:lnTo>
                    <a:lnTo>
                      <a:pt x="277" y="133"/>
                    </a:lnTo>
                    <a:lnTo>
                      <a:pt x="440" y="92"/>
                    </a:lnTo>
                    <a:lnTo>
                      <a:pt x="590" y="57"/>
                    </a:lnTo>
                    <a:lnTo>
                      <a:pt x="798" y="26"/>
                    </a:lnTo>
                    <a:lnTo>
                      <a:pt x="992" y="8"/>
                    </a:lnTo>
                    <a:lnTo>
                      <a:pt x="1221" y="0"/>
                    </a:lnTo>
                    <a:lnTo>
                      <a:pt x="1500" y="0"/>
                    </a:lnTo>
                    <a:lnTo>
                      <a:pt x="1795" y="17"/>
                    </a:lnTo>
                    <a:lnTo>
                      <a:pt x="1998" y="44"/>
                    </a:lnTo>
                    <a:lnTo>
                      <a:pt x="2214" y="83"/>
                    </a:lnTo>
                    <a:lnTo>
                      <a:pt x="2421" y="146"/>
                    </a:lnTo>
                    <a:lnTo>
                      <a:pt x="2527" y="208"/>
                    </a:lnTo>
                    <a:lnTo>
                      <a:pt x="2593" y="256"/>
                    </a:lnTo>
                    <a:lnTo>
                      <a:pt x="2660" y="340"/>
                    </a:lnTo>
                    <a:lnTo>
                      <a:pt x="2549" y="385"/>
                    </a:lnTo>
                    <a:lnTo>
                      <a:pt x="2364" y="420"/>
                    </a:lnTo>
                    <a:lnTo>
                      <a:pt x="2139" y="447"/>
                    </a:lnTo>
                    <a:lnTo>
                      <a:pt x="1923" y="469"/>
                    </a:lnTo>
                    <a:lnTo>
                      <a:pt x="1663" y="478"/>
                    </a:lnTo>
                    <a:lnTo>
                      <a:pt x="1381" y="482"/>
                    </a:lnTo>
                    <a:lnTo>
                      <a:pt x="1111" y="482"/>
                    </a:lnTo>
                    <a:lnTo>
                      <a:pt x="829" y="478"/>
                    </a:lnTo>
                    <a:lnTo>
                      <a:pt x="515" y="451"/>
                    </a:lnTo>
                    <a:lnTo>
                      <a:pt x="268" y="425"/>
                    </a:lnTo>
                    <a:lnTo>
                      <a:pt x="61" y="381"/>
                    </a:lnTo>
                    <a:lnTo>
                      <a:pt x="0" y="344"/>
                    </a:lnTo>
                    <a:lnTo>
                      <a:pt x="8" y="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52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4720" cy="1264320"/>
                <a:chOff x="7077240" y="4748040"/>
                <a:chExt cx="1584720" cy="126432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0"/>
                      </a:moveTo>
                      <a:lnTo>
                        <a:pt x="0" y="70"/>
                      </a:lnTo>
                      <a:lnTo>
                        <a:pt x="0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7600" cy="54360"/>
                </a:xfrm>
                <a:custGeom>
                  <a:avLst/>
                  <a:gdLst/>
                  <a:ahLst/>
                  <a:rect l="0" t="0" r="r" b="b"/>
                  <a:pathLst>
                    <a:path w="160" h="151">
                      <a:moveTo>
                        <a:pt x="160" y="0"/>
                      </a:moveTo>
                      <a:lnTo>
                        <a:pt x="98" y="0"/>
                      </a:lnTo>
                      <a:lnTo>
                        <a:pt x="62" y="40"/>
                      </a:lnTo>
                      <a:lnTo>
                        <a:pt x="39" y="40"/>
                      </a:lnTo>
                      <a:lnTo>
                        <a:pt x="22" y="58"/>
                      </a:lnTo>
                      <a:lnTo>
                        <a:pt x="0" y="58"/>
                      </a:lnTo>
                      <a:lnTo>
                        <a:pt x="0" y="111"/>
                      </a:lnTo>
                      <a:lnTo>
                        <a:pt x="35" y="151"/>
                      </a:lnTo>
                      <a:lnTo>
                        <a:pt x="129" y="151"/>
                      </a:lnTo>
                      <a:lnTo>
                        <a:pt x="160" y="111"/>
                      </a:lnTo>
                      <a:lnTo>
                        <a:pt x="16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3000" cy="668520"/>
                </a:xfrm>
                <a:custGeom>
                  <a:avLst/>
                  <a:gdLst/>
                  <a:ahLst/>
                  <a:rect l="0" t="0" r="r" b="b"/>
                  <a:pathLst>
                    <a:path w="1425" h="1857">
                      <a:moveTo>
                        <a:pt x="335" y="0"/>
                      </a:moveTo>
                      <a:lnTo>
                        <a:pt x="313" y="48"/>
                      </a:lnTo>
                      <a:lnTo>
                        <a:pt x="198" y="145"/>
                      </a:lnTo>
                      <a:lnTo>
                        <a:pt x="176" y="233"/>
                      </a:lnTo>
                      <a:lnTo>
                        <a:pt x="92" y="299"/>
                      </a:lnTo>
                      <a:lnTo>
                        <a:pt x="35" y="423"/>
                      </a:lnTo>
                      <a:lnTo>
                        <a:pt x="35" y="502"/>
                      </a:lnTo>
                      <a:lnTo>
                        <a:pt x="0" y="635"/>
                      </a:lnTo>
                      <a:lnTo>
                        <a:pt x="48" y="692"/>
                      </a:lnTo>
                      <a:lnTo>
                        <a:pt x="176" y="859"/>
                      </a:lnTo>
                      <a:lnTo>
                        <a:pt x="211" y="837"/>
                      </a:lnTo>
                      <a:lnTo>
                        <a:pt x="436" y="837"/>
                      </a:lnTo>
                      <a:lnTo>
                        <a:pt x="542" y="877"/>
                      </a:lnTo>
                      <a:lnTo>
                        <a:pt x="533" y="1010"/>
                      </a:lnTo>
                      <a:lnTo>
                        <a:pt x="608" y="1182"/>
                      </a:lnTo>
                      <a:lnTo>
                        <a:pt x="604" y="1231"/>
                      </a:lnTo>
                      <a:lnTo>
                        <a:pt x="635" y="1284"/>
                      </a:lnTo>
                      <a:lnTo>
                        <a:pt x="586" y="1407"/>
                      </a:lnTo>
                      <a:lnTo>
                        <a:pt x="643" y="1562"/>
                      </a:lnTo>
                      <a:lnTo>
                        <a:pt x="674" y="1685"/>
                      </a:lnTo>
                      <a:lnTo>
                        <a:pt x="715" y="1760"/>
                      </a:lnTo>
                      <a:lnTo>
                        <a:pt x="755" y="1857"/>
                      </a:lnTo>
                      <a:lnTo>
                        <a:pt x="830" y="1844"/>
                      </a:lnTo>
                      <a:lnTo>
                        <a:pt x="953" y="1773"/>
                      </a:lnTo>
                      <a:lnTo>
                        <a:pt x="1010" y="1685"/>
                      </a:lnTo>
                      <a:lnTo>
                        <a:pt x="1006" y="1628"/>
                      </a:lnTo>
                      <a:lnTo>
                        <a:pt x="1081" y="1584"/>
                      </a:lnTo>
                      <a:lnTo>
                        <a:pt x="1068" y="1500"/>
                      </a:lnTo>
                      <a:lnTo>
                        <a:pt x="1178" y="1368"/>
                      </a:lnTo>
                      <a:lnTo>
                        <a:pt x="1196" y="1257"/>
                      </a:lnTo>
                      <a:lnTo>
                        <a:pt x="1165" y="1222"/>
                      </a:lnTo>
                      <a:lnTo>
                        <a:pt x="1178" y="1178"/>
                      </a:lnTo>
                      <a:lnTo>
                        <a:pt x="1151" y="1138"/>
                      </a:lnTo>
                      <a:lnTo>
                        <a:pt x="1235" y="1032"/>
                      </a:lnTo>
                      <a:lnTo>
                        <a:pt x="1235" y="979"/>
                      </a:lnTo>
                      <a:lnTo>
                        <a:pt x="1350" y="890"/>
                      </a:lnTo>
                      <a:lnTo>
                        <a:pt x="1425" y="652"/>
                      </a:lnTo>
                      <a:lnTo>
                        <a:pt x="1319" y="714"/>
                      </a:lnTo>
                      <a:lnTo>
                        <a:pt x="1226" y="687"/>
                      </a:lnTo>
                      <a:lnTo>
                        <a:pt x="1240" y="630"/>
                      </a:lnTo>
                      <a:lnTo>
                        <a:pt x="1147" y="568"/>
                      </a:lnTo>
                      <a:lnTo>
                        <a:pt x="1103" y="414"/>
                      </a:lnTo>
                      <a:lnTo>
                        <a:pt x="1015" y="291"/>
                      </a:lnTo>
                      <a:lnTo>
                        <a:pt x="1015" y="207"/>
                      </a:lnTo>
                      <a:lnTo>
                        <a:pt x="966" y="202"/>
                      </a:lnTo>
                      <a:lnTo>
                        <a:pt x="935" y="216"/>
                      </a:lnTo>
                      <a:lnTo>
                        <a:pt x="803" y="167"/>
                      </a:lnTo>
                      <a:lnTo>
                        <a:pt x="768" y="202"/>
                      </a:lnTo>
                      <a:lnTo>
                        <a:pt x="737" y="246"/>
                      </a:lnTo>
                      <a:lnTo>
                        <a:pt x="665" y="167"/>
                      </a:lnTo>
                      <a:lnTo>
                        <a:pt x="595" y="145"/>
                      </a:lnTo>
                      <a:lnTo>
                        <a:pt x="590" y="44"/>
                      </a:lnTo>
                      <a:lnTo>
                        <a:pt x="489" y="61"/>
                      </a:lnTo>
                      <a:lnTo>
                        <a:pt x="423" y="39"/>
                      </a:lnTo>
                      <a:lnTo>
                        <a:pt x="335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5920" cy="32040"/>
                </a:xfrm>
                <a:custGeom>
                  <a:avLst/>
                  <a:gdLst/>
                  <a:ahLst/>
                  <a:rect l="0" t="0" r="r" b="b"/>
                  <a:pathLst>
                    <a:path w="72" h="89">
                      <a:moveTo>
                        <a:pt x="31" y="0"/>
                      </a:moveTo>
                      <a:lnTo>
                        <a:pt x="40" y="22"/>
                      </a:lnTo>
                      <a:lnTo>
                        <a:pt x="31" y="45"/>
                      </a:lnTo>
                      <a:lnTo>
                        <a:pt x="31" y="62"/>
                      </a:lnTo>
                      <a:lnTo>
                        <a:pt x="72" y="75"/>
                      </a:lnTo>
                      <a:lnTo>
                        <a:pt x="72" y="89"/>
                      </a:lnTo>
                      <a:lnTo>
                        <a:pt x="40" y="75"/>
                      </a:lnTo>
                      <a:lnTo>
                        <a:pt x="13" y="89"/>
                      </a:lnTo>
                      <a:lnTo>
                        <a:pt x="0" y="75"/>
                      </a:lnTo>
                      <a:lnTo>
                        <a:pt x="13" y="62"/>
                      </a:lnTo>
                      <a:lnTo>
                        <a:pt x="0" y="45"/>
                      </a:lnTo>
                      <a:lnTo>
                        <a:pt x="13" y="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6680" cy="109800"/>
                </a:xfrm>
                <a:custGeom>
                  <a:avLst/>
                  <a:gdLst/>
                  <a:ahLst/>
                  <a:rect l="0" t="0" r="r" b="b"/>
                  <a:pathLst>
                    <a:path w="213" h="305">
                      <a:moveTo>
                        <a:pt x="0" y="149"/>
                      </a:moveTo>
                      <a:lnTo>
                        <a:pt x="75" y="149"/>
                      </a:lnTo>
                      <a:lnTo>
                        <a:pt x="165" y="0"/>
                      </a:lnTo>
                      <a:lnTo>
                        <a:pt x="213" y="88"/>
                      </a:lnTo>
                      <a:lnTo>
                        <a:pt x="173" y="305"/>
                      </a:lnTo>
                      <a:lnTo>
                        <a:pt x="13" y="252"/>
                      </a:lnTo>
                      <a:lnTo>
                        <a:pt x="0" y="14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2120" cy="105120"/>
                </a:xfrm>
                <a:custGeom>
                  <a:avLst/>
                  <a:gdLst/>
                  <a:ahLst/>
                  <a:rect l="0" t="0" r="r" b="b"/>
                  <a:pathLst>
                    <a:path w="367" h="292">
                      <a:moveTo>
                        <a:pt x="22" y="66"/>
                      </a:moveTo>
                      <a:lnTo>
                        <a:pt x="0" y="0"/>
                      </a:lnTo>
                      <a:lnTo>
                        <a:pt x="119" y="26"/>
                      </a:lnTo>
                      <a:lnTo>
                        <a:pt x="296" y="97"/>
                      </a:lnTo>
                      <a:lnTo>
                        <a:pt x="296" y="150"/>
                      </a:lnTo>
                      <a:lnTo>
                        <a:pt x="367" y="292"/>
                      </a:lnTo>
                      <a:lnTo>
                        <a:pt x="230" y="159"/>
                      </a:lnTo>
                      <a:lnTo>
                        <a:pt x="136" y="168"/>
                      </a:lnTo>
                      <a:lnTo>
                        <a:pt x="22" y="6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89280" cy="114840"/>
                </a:xfrm>
                <a:custGeom>
                  <a:avLst/>
                  <a:gdLst/>
                  <a:ahLst/>
                  <a:rect l="0" t="0" r="r" b="b"/>
                  <a:pathLst>
                    <a:path w="248" h="319">
                      <a:moveTo>
                        <a:pt x="150" y="0"/>
                      </a:moveTo>
                      <a:lnTo>
                        <a:pt x="248" y="93"/>
                      </a:lnTo>
                      <a:lnTo>
                        <a:pt x="48" y="319"/>
                      </a:lnTo>
                      <a:lnTo>
                        <a:pt x="0" y="266"/>
                      </a:lnTo>
                      <a:lnTo>
                        <a:pt x="142" y="124"/>
                      </a:lnTo>
                      <a:lnTo>
                        <a:pt x="15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4640" cy="74880"/>
                </a:xfrm>
                <a:custGeom>
                  <a:avLst/>
                  <a:gdLst/>
                  <a:ahLst/>
                  <a:rect l="0" t="0" r="r" b="b"/>
                  <a:pathLst>
                    <a:path w="124" h="208">
                      <a:moveTo>
                        <a:pt x="124" y="159"/>
                      </a:moveTo>
                      <a:lnTo>
                        <a:pt x="89" y="137"/>
                      </a:lnTo>
                      <a:lnTo>
                        <a:pt x="89" y="44"/>
                      </a:lnTo>
                      <a:lnTo>
                        <a:pt x="106" y="22"/>
                      </a:lnTo>
                      <a:lnTo>
                        <a:pt x="75" y="22"/>
                      </a:lnTo>
                      <a:lnTo>
                        <a:pt x="93" y="0"/>
                      </a:lnTo>
                      <a:lnTo>
                        <a:pt x="71" y="0"/>
                      </a:lnTo>
                      <a:lnTo>
                        <a:pt x="44" y="26"/>
                      </a:lnTo>
                      <a:lnTo>
                        <a:pt x="44" y="83"/>
                      </a:lnTo>
                      <a:lnTo>
                        <a:pt x="57" y="97"/>
                      </a:lnTo>
                      <a:lnTo>
                        <a:pt x="57" y="124"/>
                      </a:lnTo>
                      <a:lnTo>
                        <a:pt x="48" y="124"/>
                      </a:lnTo>
                      <a:lnTo>
                        <a:pt x="26" y="146"/>
                      </a:lnTo>
                      <a:lnTo>
                        <a:pt x="26" y="168"/>
                      </a:lnTo>
                      <a:lnTo>
                        <a:pt x="0" y="208"/>
                      </a:lnTo>
                      <a:lnTo>
                        <a:pt x="93" y="208"/>
                      </a:lnTo>
                      <a:lnTo>
                        <a:pt x="124" y="15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9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45" y="0"/>
                      </a:lnTo>
                      <a:lnTo>
                        <a:pt x="0" y="45"/>
                      </a:lnTo>
                      <a:lnTo>
                        <a:pt x="0" y="72"/>
                      </a:lnTo>
                      <a:lnTo>
                        <a:pt x="40" y="72"/>
                      </a:lnTo>
                      <a:lnTo>
                        <a:pt x="59" y="49"/>
                      </a:lnTo>
                      <a:lnTo>
                        <a:pt x="59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0880" cy="244800"/>
                </a:xfrm>
                <a:custGeom>
                  <a:avLst/>
                  <a:gdLst/>
                  <a:ahLst/>
                  <a:rect l="0" t="0" r="r" b="b"/>
                  <a:pathLst>
                    <a:path w="808" h="680">
                      <a:moveTo>
                        <a:pt x="530" y="0"/>
                      </a:moveTo>
                      <a:lnTo>
                        <a:pt x="530" y="44"/>
                      </a:lnTo>
                      <a:lnTo>
                        <a:pt x="547" y="61"/>
                      </a:lnTo>
                      <a:lnTo>
                        <a:pt x="637" y="61"/>
                      </a:lnTo>
                      <a:lnTo>
                        <a:pt x="637" y="88"/>
                      </a:lnTo>
                      <a:lnTo>
                        <a:pt x="569" y="88"/>
                      </a:lnTo>
                      <a:lnTo>
                        <a:pt x="569" y="163"/>
                      </a:lnTo>
                      <a:lnTo>
                        <a:pt x="543" y="127"/>
                      </a:lnTo>
                      <a:lnTo>
                        <a:pt x="543" y="176"/>
                      </a:lnTo>
                      <a:lnTo>
                        <a:pt x="503" y="220"/>
                      </a:lnTo>
                      <a:lnTo>
                        <a:pt x="481" y="194"/>
                      </a:lnTo>
                      <a:lnTo>
                        <a:pt x="441" y="224"/>
                      </a:lnTo>
                      <a:lnTo>
                        <a:pt x="437" y="216"/>
                      </a:lnTo>
                      <a:lnTo>
                        <a:pt x="389" y="216"/>
                      </a:lnTo>
                      <a:lnTo>
                        <a:pt x="415" y="185"/>
                      </a:lnTo>
                      <a:lnTo>
                        <a:pt x="415" y="171"/>
                      </a:lnTo>
                      <a:lnTo>
                        <a:pt x="389" y="149"/>
                      </a:lnTo>
                      <a:lnTo>
                        <a:pt x="389" y="114"/>
                      </a:lnTo>
                      <a:lnTo>
                        <a:pt x="358" y="149"/>
                      </a:lnTo>
                      <a:lnTo>
                        <a:pt x="358" y="216"/>
                      </a:lnTo>
                      <a:lnTo>
                        <a:pt x="322" y="216"/>
                      </a:lnTo>
                      <a:lnTo>
                        <a:pt x="274" y="264"/>
                      </a:lnTo>
                      <a:lnTo>
                        <a:pt x="256" y="264"/>
                      </a:lnTo>
                      <a:lnTo>
                        <a:pt x="230" y="295"/>
                      </a:lnTo>
                      <a:lnTo>
                        <a:pt x="132" y="295"/>
                      </a:lnTo>
                      <a:lnTo>
                        <a:pt x="167" y="339"/>
                      </a:lnTo>
                      <a:lnTo>
                        <a:pt x="167" y="411"/>
                      </a:lnTo>
                      <a:lnTo>
                        <a:pt x="132" y="450"/>
                      </a:lnTo>
                      <a:lnTo>
                        <a:pt x="97" y="411"/>
                      </a:lnTo>
                      <a:lnTo>
                        <a:pt x="22" y="411"/>
                      </a:lnTo>
                      <a:lnTo>
                        <a:pt x="22" y="459"/>
                      </a:lnTo>
                      <a:lnTo>
                        <a:pt x="0" y="490"/>
                      </a:lnTo>
                      <a:lnTo>
                        <a:pt x="0" y="556"/>
                      </a:lnTo>
                      <a:lnTo>
                        <a:pt x="44" y="609"/>
                      </a:lnTo>
                      <a:lnTo>
                        <a:pt x="114" y="609"/>
                      </a:lnTo>
                      <a:lnTo>
                        <a:pt x="221" y="481"/>
                      </a:lnTo>
                      <a:lnTo>
                        <a:pt x="318" y="481"/>
                      </a:lnTo>
                      <a:lnTo>
                        <a:pt x="331" y="455"/>
                      </a:lnTo>
                      <a:lnTo>
                        <a:pt x="353" y="481"/>
                      </a:lnTo>
                      <a:lnTo>
                        <a:pt x="349" y="508"/>
                      </a:lnTo>
                      <a:lnTo>
                        <a:pt x="437" y="596"/>
                      </a:lnTo>
                      <a:lnTo>
                        <a:pt x="437" y="631"/>
                      </a:lnTo>
                      <a:lnTo>
                        <a:pt x="459" y="618"/>
                      </a:lnTo>
                      <a:lnTo>
                        <a:pt x="446" y="596"/>
                      </a:lnTo>
                      <a:lnTo>
                        <a:pt x="459" y="583"/>
                      </a:lnTo>
                      <a:lnTo>
                        <a:pt x="472" y="596"/>
                      </a:lnTo>
                      <a:lnTo>
                        <a:pt x="481" y="591"/>
                      </a:lnTo>
                      <a:lnTo>
                        <a:pt x="389" y="477"/>
                      </a:lnTo>
                      <a:lnTo>
                        <a:pt x="389" y="437"/>
                      </a:lnTo>
                      <a:lnTo>
                        <a:pt x="415" y="437"/>
                      </a:lnTo>
                      <a:lnTo>
                        <a:pt x="415" y="459"/>
                      </a:lnTo>
                      <a:lnTo>
                        <a:pt x="503" y="561"/>
                      </a:lnTo>
                      <a:lnTo>
                        <a:pt x="503" y="591"/>
                      </a:lnTo>
                      <a:lnTo>
                        <a:pt x="543" y="636"/>
                      </a:lnTo>
                      <a:lnTo>
                        <a:pt x="534" y="644"/>
                      </a:lnTo>
                      <a:lnTo>
                        <a:pt x="561" y="680"/>
                      </a:lnTo>
                      <a:lnTo>
                        <a:pt x="605" y="631"/>
                      </a:lnTo>
                      <a:lnTo>
                        <a:pt x="578" y="600"/>
                      </a:lnTo>
                      <a:lnTo>
                        <a:pt x="605" y="574"/>
                      </a:lnTo>
                      <a:lnTo>
                        <a:pt x="637" y="574"/>
                      </a:lnTo>
                      <a:lnTo>
                        <a:pt x="654" y="556"/>
                      </a:lnTo>
                      <a:lnTo>
                        <a:pt x="676" y="556"/>
                      </a:lnTo>
                      <a:lnTo>
                        <a:pt x="650" y="516"/>
                      </a:lnTo>
                      <a:lnTo>
                        <a:pt x="663" y="499"/>
                      </a:lnTo>
                      <a:lnTo>
                        <a:pt x="663" y="433"/>
                      </a:lnTo>
                      <a:lnTo>
                        <a:pt x="694" y="397"/>
                      </a:lnTo>
                      <a:lnTo>
                        <a:pt x="707" y="411"/>
                      </a:lnTo>
                      <a:lnTo>
                        <a:pt x="734" y="411"/>
                      </a:lnTo>
                      <a:lnTo>
                        <a:pt x="720" y="428"/>
                      </a:lnTo>
                      <a:lnTo>
                        <a:pt x="747" y="455"/>
                      </a:lnTo>
                      <a:lnTo>
                        <a:pt x="760" y="433"/>
                      </a:lnTo>
                      <a:lnTo>
                        <a:pt x="782" y="433"/>
                      </a:lnTo>
                      <a:lnTo>
                        <a:pt x="782" y="419"/>
                      </a:lnTo>
                      <a:lnTo>
                        <a:pt x="773" y="419"/>
                      </a:lnTo>
                      <a:lnTo>
                        <a:pt x="756" y="411"/>
                      </a:lnTo>
                      <a:lnTo>
                        <a:pt x="795" y="358"/>
                      </a:lnTo>
                      <a:lnTo>
                        <a:pt x="795" y="433"/>
                      </a:lnTo>
                      <a:lnTo>
                        <a:pt x="808" y="433"/>
                      </a:lnTo>
                      <a:lnTo>
                        <a:pt x="808" y="0"/>
                      </a:lnTo>
                      <a:lnTo>
                        <a:pt x="53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0200" cy="876600"/>
                </a:xfrm>
                <a:custGeom>
                  <a:avLst/>
                  <a:gdLst/>
                  <a:ahLst/>
                  <a:rect l="0" t="0" r="r" b="b"/>
                  <a:pathLst>
                    <a:path w="3445" h="2435">
                      <a:moveTo>
                        <a:pt x="0" y="714"/>
                      </a:moveTo>
                      <a:lnTo>
                        <a:pt x="97" y="639"/>
                      </a:lnTo>
                      <a:lnTo>
                        <a:pt x="194" y="493"/>
                      </a:lnTo>
                      <a:lnTo>
                        <a:pt x="313" y="423"/>
                      </a:lnTo>
                      <a:lnTo>
                        <a:pt x="432" y="507"/>
                      </a:lnTo>
                      <a:lnTo>
                        <a:pt x="445" y="573"/>
                      </a:lnTo>
                      <a:lnTo>
                        <a:pt x="418" y="573"/>
                      </a:lnTo>
                      <a:lnTo>
                        <a:pt x="370" y="564"/>
                      </a:lnTo>
                      <a:lnTo>
                        <a:pt x="432" y="639"/>
                      </a:lnTo>
                      <a:lnTo>
                        <a:pt x="683" y="542"/>
                      </a:lnTo>
                      <a:lnTo>
                        <a:pt x="648" y="471"/>
                      </a:lnTo>
                      <a:lnTo>
                        <a:pt x="758" y="348"/>
                      </a:lnTo>
                      <a:lnTo>
                        <a:pt x="829" y="348"/>
                      </a:lnTo>
                      <a:lnTo>
                        <a:pt x="758" y="392"/>
                      </a:lnTo>
                      <a:lnTo>
                        <a:pt x="705" y="480"/>
                      </a:lnTo>
                      <a:lnTo>
                        <a:pt x="705" y="542"/>
                      </a:lnTo>
                      <a:lnTo>
                        <a:pt x="806" y="608"/>
                      </a:lnTo>
                      <a:lnTo>
                        <a:pt x="953" y="418"/>
                      </a:lnTo>
                      <a:lnTo>
                        <a:pt x="1456" y="198"/>
                      </a:lnTo>
                      <a:lnTo>
                        <a:pt x="1456" y="70"/>
                      </a:lnTo>
                      <a:lnTo>
                        <a:pt x="1685" y="22"/>
                      </a:lnTo>
                      <a:lnTo>
                        <a:pt x="1817" y="88"/>
                      </a:lnTo>
                      <a:lnTo>
                        <a:pt x="2122" y="0"/>
                      </a:lnTo>
                      <a:lnTo>
                        <a:pt x="2219" y="44"/>
                      </a:lnTo>
                      <a:lnTo>
                        <a:pt x="2421" y="268"/>
                      </a:lnTo>
                      <a:lnTo>
                        <a:pt x="2656" y="224"/>
                      </a:lnTo>
                      <a:lnTo>
                        <a:pt x="2802" y="304"/>
                      </a:lnTo>
                      <a:lnTo>
                        <a:pt x="3168" y="286"/>
                      </a:lnTo>
                      <a:lnTo>
                        <a:pt x="3445" y="370"/>
                      </a:lnTo>
                      <a:lnTo>
                        <a:pt x="3419" y="493"/>
                      </a:lnTo>
                      <a:lnTo>
                        <a:pt x="3185" y="573"/>
                      </a:lnTo>
                      <a:lnTo>
                        <a:pt x="3225" y="652"/>
                      </a:lnTo>
                      <a:lnTo>
                        <a:pt x="3124" y="696"/>
                      </a:lnTo>
                      <a:lnTo>
                        <a:pt x="3119" y="855"/>
                      </a:lnTo>
                      <a:lnTo>
                        <a:pt x="3027" y="961"/>
                      </a:lnTo>
                      <a:lnTo>
                        <a:pt x="2991" y="864"/>
                      </a:lnTo>
                      <a:lnTo>
                        <a:pt x="3040" y="771"/>
                      </a:lnTo>
                      <a:lnTo>
                        <a:pt x="3031" y="582"/>
                      </a:lnTo>
                      <a:lnTo>
                        <a:pt x="2938" y="679"/>
                      </a:lnTo>
                      <a:lnTo>
                        <a:pt x="2868" y="732"/>
                      </a:lnTo>
                      <a:lnTo>
                        <a:pt x="2797" y="648"/>
                      </a:lnTo>
                      <a:lnTo>
                        <a:pt x="2749" y="864"/>
                      </a:lnTo>
                      <a:lnTo>
                        <a:pt x="2802" y="864"/>
                      </a:lnTo>
                      <a:lnTo>
                        <a:pt x="2788" y="1005"/>
                      </a:lnTo>
                      <a:lnTo>
                        <a:pt x="2727" y="1159"/>
                      </a:lnTo>
                      <a:lnTo>
                        <a:pt x="2647" y="1218"/>
                      </a:lnTo>
                      <a:lnTo>
                        <a:pt x="2713" y="1319"/>
                      </a:lnTo>
                      <a:lnTo>
                        <a:pt x="2669" y="1390"/>
                      </a:lnTo>
                      <a:lnTo>
                        <a:pt x="2656" y="1328"/>
                      </a:lnTo>
                      <a:lnTo>
                        <a:pt x="2656" y="1306"/>
                      </a:lnTo>
                      <a:lnTo>
                        <a:pt x="2603" y="1271"/>
                      </a:lnTo>
                      <a:lnTo>
                        <a:pt x="2523" y="1319"/>
                      </a:lnTo>
                      <a:lnTo>
                        <a:pt x="2594" y="1487"/>
                      </a:lnTo>
                      <a:lnTo>
                        <a:pt x="2621" y="1570"/>
                      </a:lnTo>
                      <a:lnTo>
                        <a:pt x="2532" y="1800"/>
                      </a:lnTo>
                      <a:lnTo>
                        <a:pt x="2377" y="1866"/>
                      </a:lnTo>
                      <a:lnTo>
                        <a:pt x="2245" y="1853"/>
                      </a:lnTo>
                      <a:lnTo>
                        <a:pt x="2311" y="1950"/>
                      </a:lnTo>
                      <a:lnTo>
                        <a:pt x="2316" y="2082"/>
                      </a:lnTo>
                      <a:lnTo>
                        <a:pt x="2223" y="2236"/>
                      </a:lnTo>
                      <a:lnTo>
                        <a:pt x="2117" y="2152"/>
                      </a:lnTo>
                      <a:lnTo>
                        <a:pt x="2104" y="2241"/>
                      </a:lnTo>
                      <a:lnTo>
                        <a:pt x="2183" y="2320"/>
                      </a:lnTo>
                      <a:lnTo>
                        <a:pt x="2249" y="2435"/>
                      </a:lnTo>
                      <a:lnTo>
                        <a:pt x="2139" y="2364"/>
                      </a:lnTo>
                      <a:lnTo>
                        <a:pt x="2007" y="1980"/>
                      </a:lnTo>
                      <a:lnTo>
                        <a:pt x="1844" y="1879"/>
                      </a:lnTo>
                      <a:lnTo>
                        <a:pt x="1725" y="1888"/>
                      </a:lnTo>
                      <a:lnTo>
                        <a:pt x="1570" y="2104"/>
                      </a:lnTo>
                      <a:lnTo>
                        <a:pt x="1592" y="2183"/>
                      </a:lnTo>
                      <a:lnTo>
                        <a:pt x="1539" y="2338"/>
                      </a:lnTo>
                      <a:lnTo>
                        <a:pt x="1491" y="2338"/>
                      </a:lnTo>
                      <a:lnTo>
                        <a:pt x="1315" y="2016"/>
                      </a:lnTo>
                      <a:lnTo>
                        <a:pt x="1315" y="1875"/>
                      </a:lnTo>
                      <a:lnTo>
                        <a:pt x="1279" y="1928"/>
                      </a:lnTo>
                      <a:lnTo>
                        <a:pt x="1178" y="1923"/>
                      </a:lnTo>
                      <a:lnTo>
                        <a:pt x="1218" y="1835"/>
                      </a:lnTo>
                      <a:lnTo>
                        <a:pt x="1063" y="1725"/>
                      </a:lnTo>
                      <a:lnTo>
                        <a:pt x="869" y="1725"/>
                      </a:lnTo>
                      <a:lnTo>
                        <a:pt x="705" y="1614"/>
                      </a:lnTo>
                      <a:lnTo>
                        <a:pt x="692" y="1725"/>
                      </a:lnTo>
                      <a:lnTo>
                        <a:pt x="829" y="1826"/>
                      </a:lnTo>
                      <a:lnTo>
                        <a:pt x="878" y="1826"/>
                      </a:lnTo>
                      <a:lnTo>
                        <a:pt x="736" y="1963"/>
                      </a:lnTo>
                      <a:lnTo>
                        <a:pt x="599" y="1994"/>
                      </a:lnTo>
                      <a:lnTo>
                        <a:pt x="599" y="1914"/>
                      </a:lnTo>
                      <a:lnTo>
                        <a:pt x="401" y="1641"/>
                      </a:lnTo>
                      <a:lnTo>
                        <a:pt x="374" y="1566"/>
                      </a:lnTo>
                      <a:lnTo>
                        <a:pt x="480" y="1478"/>
                      </a:lnTo>
                      <a:lnTo>
                        <a:pt x="467" y="1368"/>
                      </a:lnTo>
                      <a:lnTo>
                        <a:pt x="467" y="1244"/>
                      </a:lnTo>
                      <a:lnTo>
                        <a:pt x="524" y="1218"/>
                      </a:lnTo>
                      <a:lnTo>
                        <a:pt x="467" y="1159"/>
                      </a:lnTo>
                      <a:lnTo>
                        <a:pt x="467" y="714"/>
                      </a:lnTo>
                      <a:lnTo>
                        <a:pt x="189" y="714"/>
                      </a:lnTo>
                      <a:lnTo>
                        <a:pt x="268" y="608"/>
                      </a:lnTo>
                      <a:lnTo>
                        <a:pt x="264" y="573"/>
                      </a:lnTo>
                      <a:lnTo>
                        <a:pt x="171" y="661"/>
                      </a:lnTo>
                      <a:lnTo>
                        <a:pt x="141" y="714"/>
                      </a:lnTo>
                      <a:lnTo>
                        <a:pt x="0" y="71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6560" cy="178200"/>
                </a:xfrm>
                <a:custGeom>
                  <a:avLst/>
                  <a:gdLst/>
                  <a:ahLst/>
                  <a:rect l="0" t="0" r="r" b="b"/>
                  <a:pathLst>
                    <a:path w="296" h="495">
                      <a:moveTo>
                        <a:pt x="199" y="0"/>
                      </a:moveTo>
                      <a:lnTo>
                        <a:pt x="199" y="61"/>
                      </a:lnTo>
                      <a:lnTo>
                        <a:pt x="172" y="101"/>
                      </a:lnTo>
                      <a:lnTo>
                        <a:pt x="181" y="168"/>
                      </a:lnTo>
                      <a:lnTo>
                        <a:pt x="145" y="256"/>
                      </a:lnTo>
                      <a:lnTo>
                        <a:pt x="97" y="340"/>
                      </a:lnTo>
                      <a:lnTo>
                        <a:pt x="22" y="394"/>
                      </a:lnTo>
                      <a:lnTo>
                        <a:pt x="0" y="487"/>
                      </a:lnTo>
                      <a:lnTo>
                        <a:pt x="30" y="495"/>
                      </a:lnTo>
                      <a:lnTo>
                        <a:pt x="30" y="407"/>
                      </a:lnTo>
                      <a:lnTo>
                        <a:pt x="136" y="403"/>
                      </a:lnTo>
                      <a:lnTo>
                        <a:pt x="217" y="344"/>
                      </a:lnTo>
                      <a:lnTo>
                        <a:pt x="217" y="225"/>
                      </a:lnTo>
                      <a:lnTo>
                        <a:pt x="243" y="181"/>
                      </a:lnTo>
                      <a:lnTo>
                        <a:pt x="203" y="105"/>
                      </a:lnTo>
                      <a:lnTo>
                        <a:pt x="261" y="83"/>
                      </a:lnTo>
                      <a:lnTo>
                        <a:pt x="296" y="22"/>
                      </a:lnTo>
                      <a:lnTo>
                        <a:pt x="217" y="30"/>
                      </a:lnTo>
                      <a:lnTo>
                        <a:pt x="19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5920" cy="39960"/>
                </a:xfrm>
                <a:custGeom>
                  <a:avLst/>
                  <a:gdLst/>
                  <a:ahLst/>
                  <a:rect l="0" t="0" r="r" b="b"/>
                  <a:pathLst>
                    <a:path w="72" h="111">
                      <a:moveTo>
                        <a:pt x="36" y="0"/>
                      </a:moveTo>
                      <a:lnTo>
                        <a:pt x="0" y="48"/>
                      </a:lnTo>
                      <a:lnTo>
                        <a:pt x="23" y="111"/>
                      </a:lnTo>
                      <a:lnTo>
                        <a:pt x="72" y="6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49480" cy="106560"/>
                </a:xfrm>
                <a:custGeom>
                  <a:avLst/>
                  <a:gdLst/>
                  <a:ahLst/>
                  <a:rect l="0" t="0" r="r" b="b"/>
                  <a:pathLst>
                    <a:path w="693" h="296">
                      <a:moveTo>
                        <a:pt x="0" y="0"/>
                      </a:moveTo>
                      <a:lnTo>
                        <a:pt x="101" y="22"/>
                      </a:lnTo>
                      <a:lnTo>
                        <a:pt x="255" y="127"/>
                      </a:lnTo>
                      <a:lnTo>
                        <a:pt x="233" y="190"/>
                      </a:lnTo>
                      <a:lnTo>
                        <a:pt x="362" y="243"/>
                      </a:lnTo>
                      <a:lnTo>
                        <a:pt x="693" y="243"/>
                      </a:lnTo>
                      <a:lnTo>
                        <a:pt x="330" y="296"/>
                      </a:lnTo>
                      <a:lnTo>
                        <a:pt x="233" y="190"/>
                      </a:lnTo>
                      <a:lnTo>
                        <a:pt x="141" y="1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7120" cy="251280"/>
                </a:xfrm>
                <a:custGeom>
                  <a:avLst/>
                  <a:gdLst/>
                  <a:ahLst/>
                  <a:rect l="0" t="0" r="r" b="b"/>
                  <a:pathLst>
                    <a:path w="742" h="698">
                      <a:moveTo>
                        <a:pt x="619" y="681"/>
                      </a:moveTo>
                      <a:lnTo>
                        <a:pt x="597" y="685"/>
                      </a:lnTo>
                      <a:lnTo>
                        <a:pt x="584" y="698"/>
                      </a:lnTo>
                      <a:lnTo>
                        <a:pt x="562" y="672"/>
                      </a:lnTo>
                      <a:lnTo>
                        <a:pt x="494" y="641"/>
                      </a:lnTo>
                      <a:lnTo>
                        <a:pt x="486" y="592"/>
                      </a:lnTo>
                      <a:lnTo>
                        <a:pt x="464" y="575"/>
                      </a:lnTo>
                      <a:lnTo>
                        <a:pt x="406" y="575"/>
                      </a:lnTo>
                      <a:lnTo>
                        <a:pt x="406" y="539"/>
                      </a:lnTo>
                      <a:lnTo>
                        <a:pt x="389" y="526"/>
                      </a:lnTo>
                      <a:lnTo>
                        <a:pt x="384" y="494"/>
                      </a:lnTo>
                      <a:lnTo>
                        <a:pt x="344" y="490"/>
                      </a:lnTo>
                      <a:lnTo>
                        <a:pt x="309" y="481"/>
                      </a:lnTo>
                      <a:lnTo>
                        <a:pt x="274" y="490"/>
                      </a:lnTo>
                      <a:lnTo>
                        <a:pt x="274" y="494"/>
                      </a:lnTo>
                      <a:lnTo>
                        <a:pt x="195" y="521"/>
                      </a:lnTo>
                      <a:lnTo>
                        <a:pt x="195" y="535"/>
                      </a:lnTo>
                      <a:lnTo>
                        <a:pt x="123" y="535"/>
                      </a:lnTo>
                      <a:lnTo>
                        <a:pt x="88" y="557"/>
                      </a:lnTo>
                      <a:lnTo>
                        <a:pt x="44" y="535"/>
                      </a:lnTo>
                      <a:lnTo>
                        <a:pt x="44" y="526"/>
                      </a:lnTo>
                      <a:lnTo>
                        <a:pt x="44" y="481"/>
                      </a:lnTo>
                      <a:lnTo>
                        <a:pt x="30" y="437"/>
                      </a:lnTo>
                      <a:lnTo>
                        <a:pt x="13" y="402"/>
                      </a:lnTo>
                      <a:lnTo>
                        <a:pt x="22" y="371"/>
                      </a:lnTo>
                      <a:lnTo>
                        <a:pt x="8" y="358"/>
                      </a:lnTo>
                      <a:lnTo>
                        <a:pt x="0" y="292"/>
                      </a:lnTo>
                      <a:lnTo>
                        <a:pt x="8" y="247"/>
                      </a:lnTo>
                      <a:lnTo>
                        <a:pt x="48" y="212"/>
                      </a:lnTo>
                      <a:lnTo>
                        <a:pt x="136" y="190"/>
                      </a:lnTo>
                      <a:lnTo>
                        <a:pt x="158" y="158"/>
                      </a:lnTo>
                      <a:lnTo>
                        <a:pt x="149" y="127"/>
                      </a:lnTo>
                      <a:lnTo>
                        <a:pt x="171" y="119"/>
                      </a:lnTo>
                      <a:lnTo>
                        <a:pt x="176" y="132"/>
                      </a:lnTo>
                      <a:lnTo>
                        <a:pt x="186" y="110"/>
                      </a:lnTo>
                      <a:lnTo>
                        <a:pt x="243" y="66"/>
                      </a:lnTo>
                      <a:lnTo>
                        <a:pt x="274" y="88"/>
                      </a:lnTo>
                      <a:lnTo>
                        <a:pt x="309" y="74"/>
                      </a:lnTo>
                      <a:lnTo>
                        <a:pt x="318" y="39"/>
                      </a:lnTo>
                      <a:lnTo>
                        <a:pt x="353" y="30"/>
                      </a:lnTo>
                      <a:lnTo>
                        <a:pt x="344" y="4"/>
                      </a:lnTo>
                      <a:lnTo>
                        <a:pt x="393" y="22"/>
                      </a:lnTo>
                      <a:lnTo>
                        <a:pt x="433" y="13"/>
                      </a:lnTo>
                      <a:lnTo>
                        <a:pt x="455" y="105"/>
                      </a:lnTo>
                      <a:lnTo>
                        <a:pt x="486" y="132"/>
                      </a:lnTo>
                      <a:lnTo>
                        <a:pt x="512" y="132"/>
                      </a:lnTo>
                      <a:lnTo>
                        <a:pt x="525" y="74"/>
                      </a:lnTo>
                      <a:lnTo>
                        <a:pt x="516" y="48"/>
                      </a:lnTo>
                      <a:lnTo>
                        <a:pt x="525" y="4"/>
                      </a:lnTo>
                      <a:lnTo>
                        <a:pt x="538" y="0"/>
                      </a:lnTo>
                      <a:lnTo>
                        <a:pt x="562" y="52"/>
                      </a:lnTo>
                      <a:lnTo>
                        <a:pt x="584" y="66"/>
                      </a:lnTo>
                      <a:lnTo>
                        <a:pt x="597" y="119"/>
                      </a:lnTo>
                      <a:lnTo>
                        <a:pt x="619" y="190"/>
                      </a:lnTo>
                      <a:lnTo>
                        <a:pt x="650" y="208"/>
                      </a:lnTo>
                      <a:lnTo>
                        <a:pt x="689" y="261"/>
                      </a:lnTo>
                      <a:lnTo>
                        <a:pt x="694" y="287"/>
                      </a:lnTo>
                      <a:lnTo>
                        <a:pt x="729" y="318"/>
                      </a:lnTo>
                      <a:lnTo>
                        <a:pt x="742" y="375"/>
                      </a:lnTo>
                      <a:lnTo>
                        <a:pt x="742" y="419"/>
                      </a:lnTo>
                      <a:lnTo>
                        <a:pt x="729" y="490"/>
                      </a:lnTo>
                      <a:lnTo>
                        <a:pt x="694" y="535"/>
                      </a:lnTo>
                      <a:lnTo>
                        <a:pt x="685" y="592"/>
                      </a:lnTo>
                      <a:lnTo>
                        <a:pt x="685" y="641"/>
                      </a:lnTo>
                      <a:lnTo>
                        <a:pt x="650" y="650"/>
                      </a:lnTo>
                      <a:lnTo>
                        <a:pt x="619" y="68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36" y="72"/>
                      </a:moveTo>
                      <a:lnTo>
                        <a:pt x="8" y="58"/>
                      </a:lnTo>
                      <a:lnTo>
                        <a:pt x="8" y="45"/>
                      </a:lnTo>
                      <a:lnTo>
                        <a:pt x="8" y="36"/>
                      </a:lnTo>
                      <a:lnTo>
                        <a:pt x="4" y="2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36" y="8"/>
                      </a:lnTo>
                      <a:lnTo>
                        <a:pt x="49" y="8"/>
                      </a:lnTo>
                      <a:lnTo>
                        <a:pt x="53" y="8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63" y="45"/>
                      </a:lnTo>
                      <a:lnTo>
                        <a:pt x="53" y="58"/>
                      </a:lnTo>
                      <a:lnTo>
                        <a:pt x="53" y="72"/>
                      </a:lnTo>
                      <a:lnTo>
                        <a:pt x="49" y="72"/>
                      </a:lnTo>
                      <a:lnTo>
                        <a:pt x="49" y="85"/>
                      </a:lnTo>
                      <a:lnTo>
                        <a:pt x="36" y="7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8800" cy="119520"/>
                </a:xfrm>
                <a:custGeom>
                  <a:avLst/>
                  <a:gdLst/>
                  <a:ahLst/>
                  <a:rect l="0" t="0" r="r" b="b"/>
                  <a:pathLst>
                    <a:path w="80" h="332">
                      <a:moveTo>
                        <a:pt x="8" y="115"/>
                      </a:moveTo>
                      <a:lnTo>
                        <a:pt x="39" y="89"/>
                      </a:lnTo>
                      <a:lnTo>
                        <a:pt x="62" y="0"/>
                      </a:lnTo>
                      <a:lnTo>
                        <a:pt x="80" y="133"/>
                      </a:lnTo>
                      <a:lnTo>
                        <a:pt x="53" y="297"/>
                      </a:lnTo>
                      <a:lnTo>
                        <a:pt x="0" y="332"/>
                      </a:lnTo>
                      <a:lnTo>
                        <a:pt x="0" y="253"/>
                      </a:lnTo>
                      <a:lnTo>
                        <a:pt x="13" y="199"/>
                      </a:lnTo>
                      <a:lnTo>
                        <a:pt x="8" y="11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‘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96 Frontiers in Education Conf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ov. 6-9, 1996 - Salt Lake C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705040" y="4770360"/>
            <a:ext cx="3797280" cy="17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Edward A. F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fox@vt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http://fox.cs.vt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6560" y="1711440"/>
            <a:ext cx="8418600" cy="2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Interactive Learning with 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igital Library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Computer Science”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TERACTIVE  TO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AN (Algorithm visualiz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ZIT (automated tes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Page Tree generator (according to link hierarchy, count # page access, see what machines are responsi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rver Access Graphing (layout of course pages based on count of # link of traversa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TERACTIVE  TOOL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QUIZ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6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GML generates HTML &amp; answer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QL supports records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password request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allows review of taken quiz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allows selection of next qui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types of questions are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back provided if questions mi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TERACTIVE  TOOL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eb  Page  Tr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88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gin with access 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pted web site routine which follows links from a page to traverse the sub-t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 has indenting for hierarc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unt is for period of 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hines” yields page, alphabetically sorted, accounting for ac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TERACTIVE  TOOL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eb Server Access Grap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88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gin with server access 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L script generates graph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inci (UNIX) front end handles layout and presentation, with zoo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 are from CS5604, 10/29/9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 accesses increase as edges shift from light blue -&gt; green -&gt; yellow -&gt; red (color gradient based on Keller &amp; Kell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PERLESS  COUR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559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1604: Introduction to th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559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3604: Professionalism in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559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4624: Multimedia, Hypertext and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559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5604: Information Storage and Retrie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PERLESS  COURSE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troduction to the Int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88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w either lecture or self-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s “information literac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ed each term, summer, and at other institutions thru NSF SUCC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-stud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ized System of Instruction (Kell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media tutorials for interactive lear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ZIT for interactive gr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PERLESS  COURSES: Professionalism in Comp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828800"/>
            <a:ext cx="777240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guidance for commun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, Speaking,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ic director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ography; Censorship; Copyrights, Patents, Trademarks, Intellectual Property; Community Values; Crime; Disabilities; Ethics; Freedom of Speech; Green Machines; Hacking; Impact; Liabilities; Privacy; Relationships; Responsibilities; Therac 25; Viruses; World C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PERLESS  COURSES: Professionalism in Comp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752480"/>
            <a:ext cx="7772400" cy="42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gnments; Debates; Evaluations (past); Examinations (pa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nt End (syllabus, index, calendar, teacher and assistants, announcem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ory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icies (university, college, departmental, and course policies that affect the participants -- including the late assignment policy and the honor c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PERLESS  COURSES: Professionalism in Comp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09480" y="2038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 series by BBC and WGB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The Machine That Changed The World", by Jon Palfre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iquette: A.Rinaldi, Florida Atlantic 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king: R. Barnhart, Heritage U.,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hics and the Computer: Living in the Electronic World- K. Bowyer, U. South F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PERLESS  COURSE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H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9480" y="2038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media, Hypertext and Information Access - now a regular senior el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iculum Development Efforts: ACM SIGIR and SIGMM (Multime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ller’s Personalized System of Instr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projects, field trips, digital video editing, work in “Interactive Accessibility” labora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knowledg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: Digital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SION: Interface, ACM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Reports: WATERS, NCST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 Tools: SWAN, QUIZIT,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erless Courses: CS1604, 3604,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: WWW Traffic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lusions: Follow-on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PERLESS  COURSE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fo. Storage &amp; Retriev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2209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l 1993 w. gopher, Fall 1994 on WW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ller’s Personalized System of Instruction (mastery, tutoring, proceed at own pace, quick feedback, written uni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95 included “distance learning” 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s motivational, op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 1/2 time, field trips, group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88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ulty interviews using ID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TRIX app, 2 VTRs: computer/cam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nette, Fox, Hartson, Lee, Shaf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ics: course, approach to pedagogy, purpose, goals, objectives, syllabus, what works well, less well, pros, cons, problems, successes, rationale, claims, scenarios/anecd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2038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- and post-tests, Final s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s: course, 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v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ims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1206 (10 groups), CS1704 (6 labs);   Full Classes: CS3604, CS56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VALUATION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WW  Traffic 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9480" y="2266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 4 figures in conference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ression shows R</a:t>
            </a:r>
            <a:r>
              <a:rPr b="0" lang="en-US" sz="2800" spc="-1" strike="noStrike" baseline="36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.56 if predicting # accesses by # students, “paperle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 classes pie charts: accesses, 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re 1995 with 1996 regar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es, by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clients, unique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NCLUSION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 Library: ENVISION, NCST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ourses: Intro. to Internet, HCI, MHIA plus enhanced Profession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iculum work on MHIA (HT, IR, M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: SWAN, QUIZIT, Web Page Tree, Web Server Access Graphing, deb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479"/>
              </a:spcAft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s: infrastructure, pedagogy, la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0 pages of online course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 integrated into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NCLUSION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ollow-on Pro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-Wide Web Traffic Characterization with Application to In-network Caching and Prefetching (NS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ng Statistics and Models across the Social Sciences Curricula (FIP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ing Graduate Ed. with a National Digital Library of Theses and Dissertations (FIPSE)   http://etd.vt.edu/etd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KNOWLEDG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1752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F (CDA-9312611), ACM, Virginia Tech (CS Dept. , College of A&amp;S, Computing Cnt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ULTY, STAF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ams, Barnette, France, Hartson, Heath, Hix, Lee, Ribbens, Rosson, Shaffer, Standri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dulla, Averboch, Hash, Heagy, Laughton, Nielsen, Nowell, Patel, Ribler, Tinoco, Wake, Williams, Y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TRODUCTION: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 digital library content&amp;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&amp;apply algorithm visu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new courses: freshman information literacy, HCI, multi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ificantly change courses like Computer Professionalism to be more interactive and use digital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TRODUCTION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gital Libra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88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ly “electronic librari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collection principle, support for searching and browsing of full text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cted to aid education (e.g., reduce cost of multimedia development) and to help ensure “information literac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ble to CS: ACM / IEEE-CS, technical reports, theses/disser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ser-Centered Database from the Computer Science Literature (1991-9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cted bib. data, converted to SG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ted typesetter data to SG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nned thousands of page im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IAN search engine (used with Virginia Tech library catalog) used as part of prototype object-based D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VISION: Interf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L. Nowell, assisted especially by R. France, D. Hix, and W. W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indows: large query, small query, query list, and initial login (plus brows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w works with MARIAN data to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 show: “cream rising” when relevance is on Y axis, visualization of patterns like growth of a field over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ECHNICAL  REPO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 TR project supported by ARPA (Berkeley, CMU, Cornell, MIT, Stanfo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ERS project for other departments led by ODU, SUNY Buffalo, UVA, VPI&amp;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ger summer 1995 to NCSTRL (Networked CS Tech Report Libra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large departments now have jo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” server: UVA, “backup”: VPI&amp;S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ECHNICAL  REPORTS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CSTRL    http://www.ncstrl.or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47720" y="1585800"/>
            <a:ext cx="82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700360" y="3232080"/>
            <a:ext cx="1224000" cy="879480"/>
          </a:xfrm>
          <a:prstGeom prst="rect">
            <a:avLst/>
          </a:prstGeom>
          <a:noFill/>
          <a:ln w="25560">
            <a:solidFill>
              <a:srgbClr val="ffff99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nt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0680" y="3232080"/>
            <a:ext cx="1257480" cy="879480"/>
          </a:xfrm>
          <a:prstGeom prst="rect">
            <a:avLst/>
          </a:prstGeom>
          <a:noFill/>
          <a:ln w="25560">
            <a:solidFill>
              <a:srgbClr val="9999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c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700360" y="4603680"/>
            <a:ext cx="800280" cy="514440"/>
          </a:xfrm>
          <a:prstGeom prst="rect">
            <a:avLst/>
          </a:prstGeom>
          <a:noFill/>
          <a:ln w="25560">
            <a:solidFill>
              <a:srgbClr val="009966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65800" y="3232080"/>
            <a:ext cx="1206360" cy="124452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700360" y="5594400"/>
            <a:ext cx="800280" cy="514440"/>
          </a:xfrm>
          <a:prstGeom prst="rect">
            <a:avLst/>
          </a:prstGeom>
          <a:noFill/>
          <a:ln w="25560">
            <a:solidFill>
              <a:srgbClr val="009966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89680" y="3232080"/>
            <a:ext cx="1206360" cy="124452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1905120"/>
            <a:ext cx="1522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1905120"/>
            <a:ext cx="1371600" cy="3733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1905120"/>
            <a:ext cx="1295280" cy="274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1905120"/>
            <a:ext cx="121896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1828800"/>
            <a:ext cx="3962160" cy="144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752480"/>
            <a:ext cx="5486400" cy="1524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formation Systems</dc:creator>
  <dc:description/>
  <dc:language>en-US</dc:language>
  <cp:lastModifiedBy>Information Systems</cp:lastModifiedBy>
  <cp:revision>0</cp:revision>
  <dc:subject/>
  <dc:title>NSF CISE EI (Educational Innovation) PIs Meeting November 5-7, 1996 Salt Lake City, Utah </dc:title>
</cp:coreProperties>
</file>