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sp>
            <p:nvSpPr>
              <p:cNvPr id="4" name=""/>
              <p:cNvSpPr/>
              <p:nvPr/>
            </p:nvSpPr>
            <p:spPr>
              <a:xfrm>
                <a:off x="7324560" y="4429080"/>
                <a:ext cx="1640160" cy="2019600"/>
              </a:xfrm>
              <a:custGeom>
                <a:avLst/>
                <a:gdLst/>
                <a:ahLst/>
                <a:rect l="0" t="0" r="r" b="b"/>
                <a:pathLst>
                  <a:path w="4556" h="5610">
                    <a:moveTo>
                      <a:pt x="2571" y="0"/>
                    </a:moveTo>
                    <a:lnTo>
                      <a:pt x="2853" y="104"/>
                    </a:lnTo>
                    <a:lnTo>
                      <a:pt x="3122" y="247"/>
                    </a:lnTo>
                    <a:lnTo>
                      <a:pt x="3375" y="409"/>
                    </a:lnTo>
                    <a:lnTo>
                      <a:pt x="3609" y="592"/>
                    </a:lnTo>
                    <a:lnTo>
                      <a:pt x="3821" y="811"/>
                    </a:lnTo>
                    <a:lnTo>
                      <a:pt x="4005" y="1046"/>
                    </a:lnTo>
                    <a:lnTo>
                      <a:pt x="4166" y="1300"/>
                    </a:lnTo>
                    <a:lnTo>
                      <a:pt x="4309" y="1560"/>
                    </a:lnTo>
                    <a:lnTo>
                      <a:pt x="4413" y="1842"/>
                    </a:lnTo>
                    <a:lnTo>
                      <a:pt x="4492" y="2133"/>
                    </a:lnTo>
                    <a:lnTo>
                      <a:pt x="4543" y="2428"/>
                    </a:lnTo>
                    <a:lnTo>
                      <a:pt x="4556" y="2733"/>
                    </a:lnTo>
                    <a:lnTo>
                      <a:pt x="4543" y="3038"/>
                    </a:lnTo>
                    <a:lnTo>
                      <a:pt x="4492" y="3336"/>
                    </a:lnTo>
                    <a:lnTo>
                      <a:pt x="4413" y="3625"/>
                    </a:lnTo>
                    <a:lnTo>
                      <a:pt x="4309" y="3901"/>
                    </a:lnTo>
                    <a:lnTo>
                      <a:pt x="4166" y="4167"/>
                    </a:lnTo>
                    <a:lnTo>
                      <a:pt x="4005" y="4424"/>
                    </a:lnTo>
                    <a:lnTo>
                      <a:pt x="3821" y="4655"/>
                    </a:lnTo>
                    <a:lnTo>
                      <a:pt x="3609" y="4874"/>
                    </a:lnTo>
                    <a:lnTo>
                      <a:pt x="3375" y="5064"/>
                    </a:lnTo>
                    <a:lnTo>
                      <a:pt x="3122" y="5220"/>
                    </a:lnTo>
                    <a:lnTo>
                      <a:pt x="2853" y="5362"/>
                    </a:lnTo>
                    <a:lnTo>
                      <a:pt x="2571" y="5467"/>
                    </a:lnTo>
                    <a:lnTo>
                      <a:pt x="2283" y="5546"/>
                    </a:lnTo>
                    <a:lnTo>
                      <a:pt x="1984" y="5597"/>
                    </a:lnTo>
                    <a:lnTo>
                      <a:pt x="1687" y="5610"/>
                    </a:lnTo>
                    <a:lnTo>
                      <a:pt x="1383" y="5597"/>
                    </a:lnTo>
                    <a:lnTo>
                      <a:pt x="1088" y="5546"/>
                    </a:lnTo>
                    <a:lnTo>
                      <a:pt x="797" y="5467"/>
                    </a:lnTo>
                    <a:lnTo>
                      <a:pt x="522" y="5362"/>
                    </a:lnTo>
                    <a:lnTo>
                      <a:pt x="253" y="5220"/>
                    </a:lnTo>
                    <a:lnTo>
                      <a:pt x="0" y="5064"/>
                    </a:lnTo>
                    <a:lnTo>
                      <a:pt x="161" y="4833"/>
                    </a:lnTo>
                    <a:lnTo>
                      <a:pt x="395" y="4982"/>
                    </a:lnTo>
                    <a:lnTo>
                      <a:pt x="636" y="5102"/>
                    </a:lnTo>
                    <a:lnTo>
                      <a:pt x="889" y="5201"/>
                    </a:lnTo>
                    <a:lnTo>
                      <a:pt x="1152" y="5270"/>
                    </a:lnTo>
                    <a:lnTo>
                      <a:pt x="1411" y="5312"/>
                    </a:lnTo>
                    <a:lnTo>
                      <a:pt x="1687" y="5327"/>
                    </a:lnTo>
                    <a:lnTo>
                      <a:pt x="1956" y="5312"/>
                    </a:lnTo>
                    <a:lnTo>
                      <a:pt x="2225" y="5270"/>
                    </a:lnTo>
                    <a:lnTo>
                      <a:pt x="2485" y="5201"/>
                    </a:lnTo>
                    <a:lnTo>
                      <a:pt x="2742" y="5102"/>
                    </a:lnTo>
                    <a:lnTo>
                      <a:pt x="2979" y="4982"/>
                    </a:lnTo>
                    <a:lnTo>
                      <a:pt x="3207" y="4833"/>
                    </a:lnTo>
                    <a:lnTo>
                      <a:pt x="3419" y="4662"/>
                    </a:lnTo>
                    <a:lnTo>
                      <a:pt x="3609" y="4471"/>
                    </a:lnTo>
                    <a:lnTo>
                      <a:pt x="3780" y="4259"/>
                    </a:lnTo>
                    <a:lnTo>
                      <a:pt x="3926" y="4027"/>
                    </a:lnTo>
                    <a:lnTo>
                      <a:pt x="4056" y="3786"/>
                    </a:lnTo>
                    <a:lnTo>
                      <a:pt x="4154" y="3539"/>
                    </a:lnTo>
                    <a:lnTo>
                      <a:pt x="4217" y="3273"/>
                    </a:lnTo>
                    <a:lnTo>
                      <a:pt x="4258" y="3003"/>
                    </a:lnTo>
                    <a:lnTo>
                      <a:pt x="4274" y="2733"/>
                    </a:lnTo>
                    <a:lnTo>
                      <a:pt x="4258" y="2457"/>
                    </a:lnTo>
                    <a:lnTo>
                      <a:pt x="4217" y="2191"/>
                    </a:lnTo>
                    <a:lnTo>
                      <a:pt x="4154" y="1927"/>
                    </a:lnTo>
                    <a:lnTo>
                      <a:pt x="4056" y="1680"/>
                    </a:lnTo>
                    <a:lnTo>
                      <a:pt x="3926" y="1433"/>
                    </a:lnTo>
                    <a:lnTo>
                      <a:pt x="3780" y="1208"/>
                    </a:lnTo>
                    <a:lnTo>
                      <a:pt x="3609" y="995"/>
                    </a:lnTo>
                    <a:lnTo>
                      <a:pt x="3419" y="805"/>
                    </a:lnTo>
                    <a:lnTo>
                      <a:pt x="3207" y="637"/>
                    </a:lnTo>
                    <a:lnTo>
                      <a:pt x="2979" y="488"/>
                    </a:lnTo>
                    <a:lnTo>
                      <a:pt x="2742" y="361"/>
                    </a:lnTo>
                    <a:lnTo>
                      <a:pt x="2485" y="269"/>
                    </a:lnTo>
                    <a:lnTo>
                      <a:pt x="2495" y="247"/>
                    </a:lnTo>
                    <a:lnTo>
                      <a:pt x="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271000" y="456264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8366040" y="436716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45240" y="6456240"/>
                <a:ext cx="957600" cy="173520"/>
              </a:xfrm>
              <a:custGeom>
                <a:avLst/>
                <a:gdLst/>
                <a:ahLst/>
                <a:rect l="0" t="0" r="r" b="b"/>
                <a:pathLst>
                  <a:path w="2660" h="482">
                    <a:moveTo>
                      <a:pt x="9" y="310"/>
                    </a:moveTo>
                    <a:lnTo>
                      <a:pt x="63" y="253"/>
                    </a:lnTo>
                    <a:lnTo>
                      <a:pt x="139" y="206"/>
                    </a:lnTo>
                    <a:lnTo>
                      <a:pt x="281" y="136"/>
                    </a:lnTo>
                    <a:lnTo>
                      <a:pt x="443" y="94"/>
                    </a:lnTo>
                    <a:lnTo>
                      <a:pt x="595" y="60"/>
                    </a:lnTo>
                    <a:lnTo>
                      <a:pt x="800" y="28"/>
                    </a:lnTo>
                    <a:lnTo>
                      <a:pt x="993" y="9"/>
                    </a:lnTo>
                    <a:lnTo>
                      <a:pt x="1221" y="0"/>
                    </a:lnTo>
                    <a:lnTo>
                      <a:pt x="1504" y="3"/>
                    </a:lnTo>
                    <a:lnTo>
                      <a:pt x="1795" y="18"/>
                    </a:lnTo>
                    <a:lnTo>
                      <a:pt x="2001" y="44"/>
                    </a:lnTo>
                    <a:lnTo>
                      <a:pt x="2216" y="85"/>
                    </a:lnTo>
                    <a:lnTo>
                      <a:pt x="2422" y="149"/>
                    </a:lnTo>
                    <a:lnTo>
                      <a:pt x="2530" y="209"/>
                    </a:lnTo>
                    <a:lnTo>
                      <a:pt x="2596" y="260"/>
                    </a:lnTo>
                    <a:lnTo>
                      <a:pt x="2660" y="342"/>
                    </a:lnTo>
                    <a:lnTo>
                      <a:pt x="2552" y="387"/>
                    </a:lnTo>
                    <a:lnTo>
                      <a:pt x="2368" y="422"/>
                    </a:lnTo>
                    <a:lnTo>
                      <a:pt x="2140" y="447"/>
                    </a:lnTo>
                    <a:lnTo>
                      <a:pt x="1925" y="470"/>
                    </a:lnTo>
                    <a:lnTo>
                      <a:pt x="1666" y="479"/>
                    </a:lnTo>
                    <a:lnTo>
                      <a:pt x="1384" y="482"/>
                    </a:lnTo>
                    <a:lnTo>
                      <a:pt x="1114" y="482"/>
                    </a:lnTo>
                    <a:lnTo>
                      <a:pt x="832" y="479"/>
                    </a:lnTo>
                    <a:lnTo>
                      <a:pt x="519" y="454"/>
                    </a:lnTo>
                    <a:lnTo>
                      <a:pt x="269" y="428"/>
                    </a:lnTo>
                    <a:lnTo>
                      <a:pt x="63" y="381"/>
                    </a:lnTo>
                    <a:lnTo>
                      <a:pt x="0" y="345"/>
                    </a:lnTo>
                    <a:lnTo>
                      <a:pt x="9" y="3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9" y="0"/>
                      </a:lnTo>
                      <a:lnTo>
                        <a:pt x="64" y="42"/>
                      </a:lnTo>
                      <a:lnTo>
                        <a:pt x="42" y="42"/>
                      </a:lnTo>
                      <a:lnTo>
                        <a:pt x="22" y="61"/>
                      </a:lnTo>
                      <a:lnTo>
                        <a:pt x="0" y="61"/>
                      </a:lnTo>
                      <a:lnTo>
                        <a:pt x="0" y="112"/>
                      </a:lnTo>
                      <a:lnTo>
                        <a:pt x="38" y="151"/>
                      </a:lnTo>
                      <a:lnTo>
                        <a:pt x="132" y="151"/>
                      </a:lnTo>
                      <a:lnTo>
                        <a:pt x="160" y="112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8" y="0"/>
                      </a:moveTo>
                      <a:lnTo>
                        <a:pt x="313" y="50"/>
                      </a:lnTo>
                      <a:lnTo>
                        <a:pt x="202" y="148"/>
                      </a:lnTo>
                      <a:lnTo>
                        <a:pt x="177" y="237"/>
                      </a:lnTo>
                      <a:lnTo>
                        <a:pt x="94" y="300"/>
                      </a:lnTo>
                      <a:lnTo>
                        <a:pt x="37" y="427"/>
                      </a:lnTo>
                      <a:lnTo>
                        <a:pt x="37" y="503"/>
                      </a:lnTo>
                      <a:lnTo>
                        <a:pt x="0" y="636"/>
                      </a:lnTo>
                      <a:lnTo>
                        <a:pt x="50" y="693"/>
                      </a:lnTo>
                      <a:lnTo>
                        <a:pt x="177" y="861"/>
                      </a:lnTo>
                      <a:lnTo>
                        <a:pt x="215" y="839"/>
                      </a:lnTo>
                      <a:lnTo>
                        <a:pt x="439" y="839"/>
                      </a:lnTo>
                      <a:lnTo>
                        <a:pt x="544" y="880"/>
                      </a:lnTo>
                      <a:lnTo>
                        <a:pt x="534" y="1011"/>
                      </a:lnTo>
                      <a:lnTo>
                        <a:pt x="610" y="1185"/>
                      </a:lnTo>
                      <a:lnTo>
                        <a:pt x="604" y="1233"/>
                      </a:lnTo>
                      <a:lnTo>
                        <a:pt x="636" y="1287"/>
                      </a:lnTo>
                      <a:lnTo>
                        <a:pt x="588" y="1410"/>
                      </a:lnTo>
                      <a:lnTo>
                        <a:pt x="645" y="1566"/>
                      </a:lnTo>
                      <a:lnTo>
                        <a:pt x="677" y="1686"/>
                      </a:lnTo>
                      <a:lnTo>
                        <a:pt x="716" y="1762"/>
                      </a:lnTo>
                      <a:lnTo>
                        <a:pt x="757" y="1857"/>
                      </a:lnTo>
                      <a:lnTo>
                        <a:pt x="833" y="1844"/>
                      </a:lnTo>
                      <a:lnTo>
                        <a:pt x="956" y="1775"/>
                      </a:lnTo>
                      <a:lnTo>
                        <a:pt x="1013" y="1689"/>
                      </a:lnTo>
                      <a:lnTo>
                        <a:pt x="1010" y="1632"/>
                      </a:lnTo>
                      <a:lnTo>
                        <a:pt x="1083" y="1585"/>
                      </a:lnTo>
                      <a:lnTo>
                        <a:pt x="1070" y="1502"/>
                      </a:lnTo>
                      <a:lnTo>
                        <a:pt x="1181" y="1369"/>
                      </a:lnTo>
                      <a:lnTo>
                        <a:pt x="1197" y="1261"/>
                      </a:lnTo>
                      <a:lnTo>
                        <a:pt x="1168" y="1223"/>
                      </a:lnTo>
                      <a:lnTo>
                        <a:pt x="1181" y="1179"/>
                      </a:lnTo>
                      <a:lnTo>
                        <a:pt x="1156" y="1141"/>
                      </a:lnTo>
                      <a:lnTo>
                        <a:pt x="1238" y="1036"/>
                      </a:lnTo>
                      <a:lnTo>
                        <a:pt x="1238" y="983"/>
                      </a:lnTo>
                      <a:lnTo>
                        <a:pt x="1352" y="893"/>
                      </a:lnTo>
                      <a:lnTo>
                        <a:pt x="1425" y="655"/>
                      </a:lnTo>
                      <a:lnTo>
                        <a:pt x="1320" y="715"/>
                      </a:lnTo>
                      <a:lnTo>
                        <a:pt x="1229" y="690"/>
                      </a:lnTo>
                      <a:lnTo>
                        <a:pt x="1241" y="633"/>
                      </a:lnTo>
                      <a:lnTo>
                        <a:pt x="1149" y="570"/>
                      </a:lnTo>
                      <a:lnTo>
                        <a:pt x="1105" y="418"/>
                      </a:lnTo>
                      <a:lnTo>
                        <a:pt x="1017" y="294"/>
                      </a:lnTo>
                      <a:lnTo>
                        <a:pt x="1017" y="209"/>
                      </a:lnTo>
                      <a:lnTo>
                        <a:pt x="969" y="205"/>
                      </a:lnTo>
                      <a:lnTo>
                        <a:pt x="937" y="218"/>
                      </a:lnTo>
                      <a:lnTo>
                        <a:pt x="804" y="171"/>
                      </a:lnTo>
                      <a:lnTo>
                        <a:pt x="770" y="205"/>
                      </a:lnTo>
                      <a:lnTo>
                        <a:pt x="741" y="247"/>
                      </a:lnTo>
                      <a:lnTo>
                        <a:pt x="667" y="167"/>
                      </a:lnTo>
                      <a:lnTo>
                        <a:pt x="598" y="148"/>
                      </a:lnTo>
                      <a:lnTo>
                        <a:pt x="591" y="47"/>
                      </a:lnTo>
                      <a:lnTo>
                        <a:pt x="490" y="63"/>
                      </a:lnTo>
                      <a:lnTo>
                        <a:pt x="427" y="41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6"/>
                      </a:lnTo>
                      <a:lnTo>
                        <a:pt x="31" y="46"/>
                      </a:lnTo>
                      <a:lnTo>
                        <a:pt x="31" y="63"/>
                      </a:lnTo>
                      <a:lnTo>
                        <a:pt x="72" y="76"/>
                      </a:lnTo>
                      <a:lnTo>
                        <a:pt x="72" y="89"/>
                      </a:lnTo>
                      <a:lnTo>
                        <a:pt x="40" y="76"/>
                      </a:lnTo>
                      <a:lnTo>
                        <a:pt x="13" y="89"/>
                      </a:lnTo>
                      <a:lnTo>
                        <a:pt x="0" y="76"/>
                      </a:lnTo>
                      <a:lnTo>
                        <a:pt x="13" y="63"/>
                      </a:lnTo>
                      <a:lnTo>
                        <a:pt x="0" y="46"/>
                      </a:lnTo>
                      <a:lnTo>
                        <a:pt x="13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53"/>
                      </a:moveTo>
                      <a:lnTo>
                        <a:pt x="76" y="153"/>
                      </a:lnTo>
                      <a:lnTo>
                        <a:pt x="166" y="0"/>
                      </a:lnTo>
                      <a:lnTo>
                        <a:pt x="213" y="88"/>
                      </a:lnTo>
                      <a:lnTo>
                        <a:pt x="175" y="305"/>
                      </a:lnTo>
                      <a:lnTo>
                        <a:pt x="15" y="254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8"/>
                      </a:moveTo>
                      <a:lnTo>
                        <a:pt x="0" y="0"/>
                      </a:lnTo>
                      <a:lnTo>
                        <a:pt x="123" y="28"/>
                      </a:lnTo>
                      <a:lnTo>
                        <a:pt x="300" y="100"/>
                      </a:lnTo>
                      <a:lnTo>
                        <a:pt x="300" y="154"/>
                      </a:lnTo>
                      <a:lnTo>
                        <a:pt x="367" y="292"/>
                      </a:lnTo>
                      <a:lnTo>
                        <a:pt x="231" y="160"/>
                      </a:lnTo>
                      <a:lnTo>
                        <a:pt x="138" y="16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2" y="0"/>
                      </a:moveTo>
                      <a:lnTo>
                        <a:pt x="248" y="96"/>
                      </a:lnTo>
                      <a:lnTo>
                        <a:pt x="50" y="319"/>
                      </a:lnTo>
                      <a:lnTo>
                        <a:pt x="0" y="268"/>
                      </a:lnTo>
                      <a:lnTo>
                        <a:pt x="143" y="12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63"/>
                      </a:moveTo>
                      <a:lnTo>
                        <a:pt x="91" y="138"/>
                      </a:lnTo>
                      <a:lnTo>
                        <a:pt x="91" y="44"/>
                      </a:lnTo>
                      <a:lnTo>
                        <a:pt x="108" y="25"/>
                      </a:lnTo>
                      <a:lnTo>
                        <a:pt x="78" y="25"/>
                      </a:lnTo>
                      <a:lnTo>
                        <a:pt x="95" y="0"/>
                      </a:lnTo>
                      <a:lnTo>
                        <a:pt x="72" y="0"/>
                      </a:lnTo>
                      <a:lnTo>
                        <a:pt x="45" y="28"/>
                      </a:lnTo>
                      <a:lnTo>
                        <a:pt x="45" y="86"/>
                      </a:lnTo>
                      <a:lnTo>
                        <a:pt x="58" y="98"/>
                      </a:lnTo>
                      <a:lnTo>
                        <a:pt x="58" y="125"/>
                      </a:lnTo>
                      <a:lnTo>
                        <a:pt x="51" y="125"/>
                      </a:lnTo>
                      <a:lnTo>
                        <a:pt x="29" y="147"/>
                      </a:lnTo>
                      <a:lnTo>
                        <a:pt x="29" y="169"/>
                      </a:lnTo>
                      <a:lnTo>
                        <a:pt x="0" y="208"/>
                      </a:lnTo>
                      <a:lnTo>
                        <a:pt x="95" y="208"/>
                      </a:lnTo>
                      <a:lnTo>
                        <a:pt x="124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1" y="25"/>
                      </a:moveTo>
                      <a:lnTo>
                        <a:pt x="72" y="25"/>
                      </a:lnTo>
                      <a:lnTo>
                        <a:pt x="72" y="0"/>
                      </a:lnTo>
                      <a:lnTo>
                        <a:pt x="46" y="0"/>
                      </a:lnTo>
                      <a:lnTo>
                        <a:pt x="0" y="47"/>
                      </a:lnTo>
                      <a:lnTo>
                        <a:pt x="0" y="72"/>
                      </a:lnTo>
                      <a:lnTo>
                        <a:pt x="43" y="72"/>
                      </a:lnTo>
                      <a:lnTo>
                        <a:pt x="61" y="53"/>
                      </a:lnTo>
                      <a:lnTo>
                        <a:pt x="61" y="2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2" y="0"/>
                      </a:moveTo>
                      <a:lnTo>
                        <a:pt x="532" y="47"/>
                      </a:lnTo>
                      <a:lnTo>
                        <a:pt x="548" y="63"/>
                      </a:lnTo>
                      <a:lnTo>
                        <a:pt x="638" y="63"/>
                      </a:lnTo>
                      <a:lnTo>
                        <a:pt x="638" y="88"/>
                      </a:lnTo>
                      <a:lnTo>
                        <a:pt x="573" y="88"/>
                      </a:lnTo>
                      <a:lnTo>
                        <a:pt x="573" y="164"/>
                      </a:lnTo>
                      <a:lnTo>
                        <a:pt x="545" y="129"/>
                      </a:lnTo>
                      <a:lnTo>
                        <a:pt x="545" y="176"/>
                      </a:lnTo>
                      <a:lnTo>
                        <a:pt x="507" y="221"/>
                      </a:lnTo>
                      <a:lnTo>
                        <a:pt x="482" y="195"/>
                      </a:lnTo>
                      <a:lnTo>
                        <a:pt x="444" y="227"/>
                      </a:lnTo>
                      <a:lnTo>
                        <a:pt x="437" y="217"/>
                      </a:lnTo>
                      <a:lnTo>
                        <a:pt x="390" y="217"/>
                      </a:lnTo>
                      <a:lnTo>
                        <a:pt x="415" y="186"/>
                      </a:lnTo>
                      <a:lnTo>
                        <a:pt x="415" y="173"/>
                      </a:lnTo>
                      <a:lnTo>
                        <a:pt x="393" y="151"/>
                      </a:lnTo>
                      <a:lnTo>
                        <a:pt x="393" y="116"/>
                      </a:lnTo>
                      <a:lnTo>
                        <a:pt x="361" y="151"/>
                      </a:lnTo>
                      <a:lnTo>
                        <a:pt x="361" y="217"/>
                      </a:lnTo>
                      <a:lnTo>
                        <a:pt x="323" y="217"/>
                      </a:lnTo>
                      <a:lnTo>
                        <a:pt x="276" y="265"/>
                      </a:lnTo>
                      <a:lnTo>
                        <a:pt x="257" y="265"/>
                      </a:lnTo>
                      <a:lnTo>
                        <a:pt x="232" y="296"/>
                      </a:lnTo>
                      <a:lnTo>
                        <a:pt x="136" y="296"/>
                      </a:lnTo>
                      <a:lnTo>
                        <a:pt x="167" y="342"/>
                      </a:lnTo>
                      <a:lnTo>
                        <a:pt x="167" y="411"/>
                      </a:lnTo>
                      <a:lnTo>
                        <a:pt x="136" y="452"/>
                      </a:lnTo>
                      <a:lnTo>
                        <a:pt x="98" y="411"/>
                      </a:lnTo>
                      <a:lnTo>
                        <a:pt x="25" y="411"/>
                      </a:lnTo>
                      <a:lnTo>
                        <a:pt x="25" y="462"/>
                      </a:lnTo>
                      <a:lnTo>
                        <a:pt x="0" y="493"/>
                      </a:lnTo>
                      <a:lnTo>
                        <a:pt x="0" y="560"/>
                      </a:lnTo>
                      <a:lnTo>
                        <a:pt x="47" y="613"/>
                      </a:lnTo>
                      <a:lnTo>
                        <a:pt x="117" y="613"/>
                      </a:lnTo>
                      <a:lnTo>
                        <a:pt x="225" y="484"/>
                      </a:lnTo>
                      <a:lnTo>
                        <a:pt x="320" y="484"/>
                      </a:lnTo>
                      <a:lnTo>
                        <a:pt x="333" y="458"/>
                      </a:lnTo>
                      <a:lnTo>
                        <a:pt x="355" y="484"/>
                      </a:lnTo>
                      <a:lnTo>
                        <a:pt x="352" y="509"/>
                      </a:lnTo>
                      <a:lnTo>
                        <a:pt x="440" y="597"/>
                      </a:lnTo>
                      <a:lnTo>
                        <a:pt x="440" y="635"/>
                      </a:lnTo>
                      <a:lnTo>
                        <a:pt x="459" y="620"/>
                      </a:lnTo>
                      <a:lnTo>
                        <a:pt x="450" y="597"/>
                      </a:lnTo>
                      <a:lnTo>
                        <a:pt x="459" y="585"/>
                      </a:lnTo>
                      <a:lnTo>
                        <a:pt x="475" y="597"/>
                      </a:lnTo>
                      <a:lnTo>
                        <a:pt x="482" y="594"/>
                      </a:lnTo>
                      <a:lnTo>
                        <a:pt x="390" y="481"/>
                      </a:lnTo>
                      <a:lnTo>
                        <a:pt x="390" y="440"/>
                      </a:lnTo>
                      <a:lnTo>
                        <a:pt x="415" y="440"/>
                      </a:lnTo>
                      <a:lnTo>
                        <a:pt x="415" y="462"/>
                      </a:lnTo>
                      <a:lnTo>
                        <a:pt x="507" y="563"/>
                      </a:lnTo>
                      <a:lnTo>
                        <a:pt x="507" y="594"/>
                      </a:lnTo>
                      <a:lnTo>
                        <a:pt x="545" y="639"/>
                      </a:lnTo>
                      <a:lnTo>
                        <a:pt x="535" y="648"/>
                      </a:lnTo>
                      <a:lnTo>
                        <a:pt x="564" y="680"/>
                      </a:lnTo>
                      <a:lnTo>
                        <a:pt x="605" y="632"/>
                      </a:lnTo>
                      <a:lnTo>
                        <a:pt x="580" y="604"/>
                      </a:lnTo>
                      <a:lnTo>
                        <a:pt x="605" y="575"/>
                      </a:lnTo>
                      <a:lnTo>
                        <a:pt x="641" y="575"/>
                      </a:lnTo>
                      <a:lnTo>
                        <a:pt x="657" y="560"/>
                      </a:lnTo>
                      <a:lnTo>
                        <a:pt x="679" y="560"/>
                      </a:lnTo>
                      <a:lnTo>
                        <a:pt x="650" y="519"/>
                      </a:lnTo>
                      <a:lnTo>
                        <a:pt x="666" y="500"/>
                      </a:lnTo>
                      <a:lnTo>
                        <a:pt x="666" y="433"/>
                      </a:lnTo>
                      <a:lnTo>
                        <a:pt x="695" y="398"/>
                      </a:lnTo>
                      <a:lnTo>
                        <a:pt x="707" y="411"/>
                      </a:lnTo>
                      <a:lnTo>
                        <a:pt x="736" y="411"/>
                      </a:lnTo>
                      <a:lnTo>
                        <a:pt x="723" y="430"/>
                      </a:lnTo>
                      <a:lnTo>
                        <a:pt x="748" y="458"/>
                      </a:lnTo>
                      <a:lnTo>
                        <a:pt x="764" y="433"/>
                      </a:lnTo>
                      <a:lnTo>
                        <a:pt x="783" y="433"/>
                      </a:lnTo>
                      <a:lnTo>
                        <a:pt x="783" y="424"/>
                      </a:lnTo>
                      <a:lnTo>
                        <a:pt x="774" y="424"/>
                      </a:lnTo>
                      <a:lnTo>
                        <a:pt x="758" y="411"/>
                      </a:lnTo>
                      <a:lnTo>
                        <a:pt x="799" y="361"/>
                      </a:lnTo>
                      <a:lnTo>
                        <a:pt x="799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6"/>
                      </a:moveTo>
                      <a:lnTo>
                        <a:pt x="101" y="640"/>
                      </a:lnTo>
                      <a:lnTo>
                        <a:pt x="196" y="494"/>
                      </a:lnTo>
                      <a:lnTo>
                        <a:pt x="313" y="424"/>
                      </a:lnTo>
                      <a:lnTo>
                        <a:pt x="433" y="507"/>
                      </a:lnTo>
                      <a:lnTo>
                        <a:pt x="449" y="573"/>
                      </a:lnTo>
                      <a:lnTo>
                        <a:pt x="421" y="573"/>
                      </a:lnTo>
                      <a:lnTo>
                        <a:pt x="373" y="567"/>
                      </a:lnTo>
                      <a:lnTo>
                        <a:pt x="433" y="640"/>
                      </a:lnTo>
                      <a:lnTo>
                        <a:pt x="683" y="545"/>
                      </a:lnTo>
                      <a:lnTo>
                        <a:pt x="652" y="472"/>
                      </a:lnTo>
                      <a:lnTo>
                        <a:pt x="759" y="348"/>
                      </a:lnTo>
                      <a:lnTo>
                        <a:pt x="829" y="351"/>
                      </a:lnTo>
                      <a:lnTo>
                        <a:pt x="762" y="393"/>
                      </a:lnTo>
                      <a:lnTo>
                        <a:pt x="705" y="484"/>
                      </a:lnTo>
                      <a:lnTo>
                        <a:pt x="705" y="545"/>
                      </a:lnTo>
                      <a:lnTo>
                        <a:pt x="807" y="611"/>
                      </a:lnTo>
                      <a:lnTo>
                        <a:pt x="953" y="421"/>
                      </a:lnTo>
                      <a:lnTo>
                        <a:pt x="1460" y="199"/>
                      </a:lnTo>
                      <a:lnTo>
                        <a:pt x="1457" y="72"/>
                      </a:lnTo>
                      <a:lnTo>
                        <a:pt x="1688" y="25"/>
                      </a:lnTo>
                      <a:lnTo>
                        <a:pt x="1817" y="91"/>
                      </a:lnTo>
                      <a:lnTo>
                        <a:pt x="2125" y="0"/>
                      </a:lnTo>
                      <a:lnTo>
                        <a:pt x="2219" y="47"/>
                      </a:lnTo>
                      <a:lnTo>
                        <a:pt x="2425" y="269"/>
                      </a:lnTo>
                      <a:lnTo>
                        <a:pt x="2660" y="225"/>
                      </a:lnTo>
                      <a:lnTo>
                        <a:pt x="2806" y="304"/>
                      </a:lnTo>
                      <a:lnTo>
                        <a:pt x="3170" y="288"/>
                      </a:lnTo>
                      <a:lnTo>
                        <a:pt x="3445" y="373"/>
                      </a:lnTo>
                      <a:lnTo>
                        <a:pt x="3420" y="494"/>
                      </a:lnTo>
                      <a:lnTo>
                        <a:pt x="3186" y="573"/>
                      </a:lnTo>
                      <a:lnTo>
                        <a:pt x="3227" y="652"/>
                      </a:lnTo>
                      <a:lnTo>
                        <a:pt x="3126" y="697"/>
                      </a:lnTo>
                      <a:lnTo>
                        <a:pt x="3119" y="855"/>
                      </a:lnTo>
                      <a:lnTo>
                        <a:pt x="3031" y="963"/>
                      </a:lnTo>
                      <a:lnTo>
                        <a:pt x="2993" y="865"/>
                      </a:lnTo>
                      <a:lnTo>
                        <a:pt x="3043" y="773"/>
                      </a:lnTo>
                      <a:lnTo>
                        <a:pt x="3034" y="583"/>
                      </a:lnTo>
                      <a:lnTo>
                        <a:pt x="2942" y="681"/>
                      </a:lnTo>
                      <a:lnTo>
                        <a:pt x="2869" y="735"/>
                      </a:lnTo>
                      <a:lnTo>
                        <a:pt x="2800" y="649"/>
                      </a:lnTo>
                      <a:lnTo>
                        <a:pt x="2749" y="865"/>
                      </a:lnTo>
                      <a:lnTo>
                        <a:pt x="2803" y="865"/>
                      </a:lnTo>
                      <a:lnTo>
                        <a:pt x="2790" y="1007"/>
                      </a:lnTo>
                      <a:lnTo>
                        <a:pt x="2727" y="1160"/>
                      </a:lnTo>
                      <a:lnTo>
                        <a:pt x="2651" y="1221"/>
                      </a:lnTo>
                      <a:lnTo>
                        <a:pt x="2714" y="1322"/>
                      </a:lnTo>
                      <a:lnTo>
                        <a:pt x="2673" y="1392"/>
                      </a:lnTo>
                      <a:lnTo>
                        <a:pt x="2657" y="1332"/>
                      </a:lnTo>
                      <a:lnTo>
                        <a:pt x="2657" y="1309"/>
                      </a:lnTo>
                      <a:lnTo>
                        <a:pt x="2607" y="1275"/>
                      </a:lnTo>
                      <a:lnTo>
                        <a:pt x="2523" y="1319"/>
                      </a:lnTo>
                      <a:lnTo>
                        <a:pt x="2597" y="1487"/>
                      </a:lnTo>
                      <a:lnTo>
                        <a:pt x="2622" y="1573"/>
                      </a:lnTo>
                      <a:lnTo>
                        <a:pt x="2536" y="1804"/>
                      </a:lnTo>
                      <a:lnTo>
                        <a:pt x="2378" y="1867"/>
                      </a:lnTo>
                      <a:lnTo>
                        <a:pt x="2248" y="1855"/>
                      </a:lnTo>
                      <a:lnTo>
                        <a:pt x="2311" y="1950"/>
                      </a:lnTo>
                      <a:lnTo>
                        <a:pt x="2318" y="2083"/>
                      </a:lnTo>
                      <a:lnTo>
                        <a:pt x="2226" y="2238"/>
                      </a:lnTo>
                      <a:lnTo>
                        <a:pt x="2121" y="2153"/>
                      </a:lnTo>
                      <a:lnTo>
                        <a:pt x="2106" y="2244"/>
                      </a:lnTo>
                      <a:lnTo>
                        <a:pt x="2185" y="2321"/>
                      </a:lnTo>
                      <a:lnTo>
                        <a:pt x="2251" y="2435"/>
                      </a:lnTo>
                      <a:lnTo>
                        <a:pt x="2140" y="2368"/>
                      </a:lnTo>
                      <a:lnTo>
                        <a:pt x="2007" y="1985"/>
                      </a:lnTo>
                      <a:lnTo>
                        <a:pt x="1846" y="1880"/>
                      </a:lnTo>
                      <a:lnTo>
                        <a:pt x="1726" y="1890"/>
                      </a:lnTo>
                      <a:lnTo>
                        <a:pt x="1574" y="2108"/>
                      </a:lnTo>
                      <a:lnTo>
                        <a:pt x="1593" y="2184"/>
                      </a:lnTo>
                      <a:lnTo>
                        <a:pt x="1542" y="2340"/>
                      </a:lnTo>
                      <a:lnTo>
                        <a:pt x="1491" y="2340"/>
                      </a:lnTo>
                      <a:lnTo>
                        <a:pt x="1317" y="2016"/>
                      </a:lnTo>
                      <a:lnTo>
                        <a:pt x="1317" y="1877"/>
                      </a:lnTo>
                      <a:lnTo>
                        <a:pt x="1279" y="1928"/>
                      </a:lnTo>
                      <a:lnTo>
                        <a:pt x="1181" y="1924"/>
                      </a:lnTo>
                      <a:lnTo>
                        <a:pt x="1219" y="1839"/>
                      </a:lnTo>
                      <a:lnTo>
                        <a:pt x="1064" y="1728"/>
                      </a:lnTo>
                      <a:lnTo>
                        <a:pt x="871" y="1728"/>
                      </a:lnTo>
                      <a:lnTo>
                        <a:pt x="705" y="1617"/>
                      </a:lnTo>
                      <a:lnTo>
                        <a:pt x="696" y="1728"/>
                      </a:lnTo>
                      <a:lnTo>
                        <a:pt x="832" y="1829"/>
                      </a:lnTo>
                      <a:lnTo>
                        <a:pt x="880" y="1826"/>
                      </a:lnTo>
                      <a:lnTo>
                        <a:pt x="740" y="1966"/>
                      </a:lnTo>
                      <a:lnTo>
                        <a:pt x="601" y="1997"/>
                      </a:lnTo>
                      <a:lnTo>
                        <a:pt x="601" y="1918"/>
                      </a:lnTo>
                      <a:lnTo>
                        <a:pt x="402" y="1642"/>
                      </a:lnTo>
                      <a:lnTo>
                        <a:pt x="376" y="1569"/>
                      </a:lnTo>
                      <a:lnTo>
                        <a:pt x="484" y="1481"/>
                      </a:lnTo>
                      <a:lnTo>
                        <a:pt x="471" y="1370"/>
                      </a:lnTo>
                      <a:lnTo>
                        <a:pt x="471" y="1246"/>
                      </a:lnTo>
                      <a:lnTo>
                        <a:pt x="525" y="1221"/>
                      </a:lnTo>
                      <a:lnTo>
                        <a:pt x="471" y="1160"/>
                      </a:lnTo>
                      <a:lnTo>
                        <a:pt x="471" y="716"/>
                      </a:lnTo>
                      <a:lnTo>
                        <a:pt x="193" y="716"/>
                      </a:lnTo>
                      <a:lnTo>
                        <a:pt x="272" y="611"/>
                      </a:lnTo>
                      <a:lnTo>
                        <a:pt x="265" y="573"/>
                      </a:lnTo>
                      <a:lnTo>
                        <a:pt x="174" y="665"/>
                      </a:lnTo>
                      <a:lnTo>
                        <a:pt x="142" y="716"/>
                      </a:lnTo>
                      <a:lnTo>
                        <a:pt x="0" y="71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201" y="0"/>
                      </a:moveTo>
                      <a:lnTo>
                        <a:pt x="201" y="63"/>
                      </a:lnTo>
                      <a:lnTo>
                        <a:pt x="175" y="104"/>
                      </a:lnTo>
                      <a:lnTo>
                        <a:pt x="182" y="171"/>
                      </a:lnTo>
                      <a:lnTo>
                        <a:pt x="150" y="260"/>
                      </a:lnTo>
                      <a:lnTo>
                        <a:pt x="98" y="342"/>
                      </a:lnTo>
                      <a:lnTo>
                        <a:pt x="22" y="397"/>
                      </a:lnTo>
                      <a:lnTo>
                        <a:pt x="0" y="489"/>
                      </a:lnTo>
                      <a:lnTo>
                        <a:pt x="31" y="495"/>
                      </a:lnTo>
                      <a:lnTo>
                        <a:pt x="31" y="410"/>
                      </a:lnTo>
                      <a:lnTo>
                        <a:pt x="139" y="404"/>
                      </a:lnTo>
                      <a:lnTo>
                        <a:pt x="220" y="346"/>
                      </a:lnTo>
                      <a:lnTo>
                        <a:pt x="220" y="228"/>
                      </a:lnTo>
                      <a:lnTo>
                        <a:pt x="245" y="184"/>
                      </a:lnTo>
                      <a:lnTo>
                        <a:pt x="204" y="107"/>
                      </a:lnTo>
                      <a:lnTo>
                        <a:pt x="261" y="85"/>
                      </a:lnTo>
                      <a:lnTo>
                        <a:pt x="296" y="25"/>
                      </a:lnTo>
                      <a:lnTo>
                        <a:pt x="220" y="3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50"/>
                      </a:lnTo>
                      <a:lnTo>
                        <a:pt x="24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4" y="22"/>
                      </a:lnTo>
                      <a:lnTo>
                        <a:pt x="259" y="130"/>
                      </a:lnTo>
                      <a:lnTo>
                        <a:pt x="237" y="191"/>
                      </a:lnTo>
                      <a:lnTo>
                        <a:pt x="364" y="245"/>
                      </a:lnTo>
                      <a:lnTo>
                        <a:pt x="693" y="245"/>
                      </a:lnTo>
                      <a:lnTo>
                        <a:pt x="335" y="296"/>
                      </a:lnTo>
                      <a:lnTo>
                        <a:pt x="237" y="191"/>
                      </a:lnTo>
                      <a:lnTo>
                        <a:pt x="145" y="1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2"/>
                      </a:moveTo>
                      <a:lnTo>
                        <a:pt x="600" y="686"/>
                      </a:lnTo>
                      <a:lnTo>
                        <a:pt x="585" y="698"/>
                      </a:lnTo>
                      <a:lnTo>
                        <a:pt x="566" y="673"/>
                      </a:lnTo>
                      <a:lnTo>
                        <a:pt x="499" y="641"/>
                      </a:lnTo>
                      <a:lnTo>
                        <a:pt x="486" y="594"/>
                      </a:lnTo>
                      <a:lnTo>
                        <a:pt x="464" y="578"/>
                      </a:lnTo>
                      <a:lnTo>
                        <a:pt x="410" y="578"/>
                      </a:lnTo>
                      <a:lnTo>
                        <a:pt x="410" y="540"/>
                      </a:lnTo>
                      <a:lnTo>
                        <a:pt x="391" y="530"/>
                      </a:lnTo>
                      <a:lnTo>
                        <a:pt x="388" y="498"/>
                      </a:lnTo>
                      <a:lnTo>
                        <a:pt x="347" y="491"/>
                      </a:lnTo>
                      <a:lnTo>
                        <a:pt x="309" y="482"/>
                      </a:lnTo>
                      <a:lnTo>
                        <a:pt x="275" y="491"/>
                      </a:lnTo>
                      <a:lnTo>
                        <a:pt x="275" y="498"/>
                      </a:lnTo>
                      <a:lnTo>
                        <a:pt x="196" y="524"/>
                      </a:lnTo>
                      <a:lnTo>
                        <a:pt x="196" y="537"/>
                      </a:lnTo>
                      <a:lnTo>
                        <a:pt x="126" y="537"/>
                      </a:lnTo>
                      <a:lnTo>
                        <a:pt x="88" y="559"/>
                      </a:lnTo>
                      <a:lnTo>
                        <a:pt x="47" y="537"/>
                      </a:lnTo>
                      <a:lnTo>
                        <a:pt x="44" y="530"/>
                      </a:lnTo>
                      <a:lnTo>
                        <a:pt x="44" y="482"/>
                      </a:lnTo>
                      <a:lnTo>
                        <a:pt x="31" y="441"/>
                      </a:lnTo>
                      <a:lnTo>
                        <a:pt x="15" y="403"/>
                      </a:lnTo>
                      <a:lnTo>
                        <a:pt x="25" y="374"/>
                      </a:lnTo>
                      <a:lnTo>
                        <a:pt x="9" y="362"/>
                      </a:lnTo>
                      <a:lnTo>
                        <a:pt x="0" y="295"/>
                      </a:lnTo>
                      <a:lnTo>
                        <a:pt x="9" y="251"/>
                      </a:lnTo>
                      <a:lnTo>
                        <a:pt x="50" y="216"/>
                      </a:lnTo>
                      <a:lnTo>
                        <a:pt x="138" y="191"/>
                      </a:lnTo>
                      <a:lnTo>
                        <a:pt x="160" y="161"/>
                      </a:lnTo>
                      <a:lnTo>
                        <a:pt x="151" y="129"/>
                      </a:lnTo>
                      <a:lnTo>
                        <a:pt x="173" y="120"/>
                      </a:lnTo>
                      <a:lnTo>
                        <a:pt x="179" y="136"/>
                      </a:lnTo>
                      <a:lnTo>
                        <a:pt x="190" y="110"/>
                      </a:lnTo>
                      <a:lnTo>
                        <a:pt x="243" y="69"/>
                      </a:lnTo>
                      <a:lnTo>
                        <a:pt x="275" y="88"/>
                      </a:lnTo>
                      <a:lnTo>
                        <a:pt x="309" y="79"/>
                      </a:lnTo>
                      <a:lnTo>
                        <a:pt x="322" y="41"/>
                      </a:lnTo>
                      <a:lnTo>
                        <a:pt x="357" y="31"/>
                      </a:lnTo>
                      <a:lnTo>
                        <a:pt x="347" y="6"/>
                      </a:lnTo>
                      <a:lnTo>
                        <a:pt x="395" y="25"/>
                      </a:lnTo>
                      <a:lnTo>
                        <a:pt x="436" y="15"/>
                      </a:lnTo>
                      <a:lnTo>
                        <a:pt x="458" y="107"/>
                      </a:lnTo>
                      <a:lnTo>
                        <a:pt x="486" y="136"/>
                      </a:lnTo>
                      <a:lnTo>
                        <a:pt x="514" y="136"/>
                      </a:lnTo>
                      <a:lnTo>
                        <a:pt x="527" y="79"/>
                      </a:lnTo>
                      <a:lnTo>
                        <a:pt x="521" y="50"/>
                      </a:lnTo>
                      <a:lnTo>
                        <a:pt x="527" y="6"/>
                      </a:lnTo>
                      <a:lnTo>
                        <a:pt x="543" y="0"/>
                      </a:lnTo>
                      <a:lnTo>
                        <a:pt x="566" y="57"/>
                      </a:lnTo>
                      <a:lnTo>
                        <a:pt x="585" y="69"/>
                      </a:lnTo>
                      <a:lnTo>
                        <a:pt x="597" y="120"/>
                      </a:lnTo>
                      <a:lnTo>
                        <a:pt x="619" y="191"/>
                      </a:lnTo>
                      <a:lnTo>
                        <a:pt x="651" y="210"/>
                      </a:lnTo>
                      <a:lnTo>
                        <a:pt x="692" y="263"/>
                      </a:lnTo>
                      <a:lnTo>
                        <a:pt x="698" y="289"/>
                      </a:lnTo>
                      <a:lnTo>
                        <a:pt x="733" y="320"/>
                      </a:lnTo>
                      <a:lnTo>
                        <a:pt x="742" y="377"/>
                      </a:lnTo>
                      <a:lnTo>
                        <a:pt x="742" y="422"/>
                      </a:lnTo>
                      <a:lnTo>
                        <a:pt x="733" y="491"/>
                      </a:lnTo>
                      <a:lnTo>
                        <a:pt x="698" y="537"/>
                      </a:lnTo>
                      <a:lnTo>
                        <a:pt x="686" y="594"/>
                      </a:lnTo>
                      <a:lnTo>
                        <a:pt x="686" y="641"/>
                      </a:lnTo>
                      <a:lnTo>
                        <a:pt x="651" y="651"/>
                      </a:lnTo>
                      <a:lnTo>
                        <a:pt x="619" y="68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8" y="76"/>
                      </a:moveTo>
                      <a:lnTo>
                        <a:pt x="12" y="62"/>
                      </a:lnTo>
                      <a:lnTo>
                        <a:pt x="12" y="49"/>
                      </a:lnTo>
                      <a:lnTo>
                        <a:pt x="12" y="36"/>
                      </a:lnTo>
                      <a:lnTo>
                        <a:pt x="8" y="2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38" y="12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4" y="49"/>
                      </a:lnTo>
                      <a:lnTo>
                        <a:pt x="55" y="62"/>
                      </a:lnTo>
                      <a:lnTo>
                        <a:pt x="55" y="72"/>
                      </a:lnTo>
                      <a:lnTo>
                        <a:pt x="50" y="76"/>
                      </a:lnTo>
                      <a:lnTo>
                        <a:pt x="50" y="85"/>
                      </a:lnTo>
                      <a:lnTo>
                        <a:pt x="38" y="7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9" y="117"/>
                      </a:moveTo>
                      <a:lnTo>
                        <a:pt x="42" y="89"/>
                      </a:lnTo>
                      <a:lnTo>
                        <a:pt x="64" y="0"/>
                      </a:lnTo>
                      <a:lnTo>
                        <a:pt x="80" y="133"/>
                      </a:lnTo>
                      <a:lnTo>
                        <a:pt x="54" y="298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5" y="202"/>
                      </a:lnTo>
                      <a:lnTo>
                        <a:pt x="9" y="11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114480"/>
            <a:ext cx="9142560" cy="6741720"/>
            <a:chOff x="0" y="114480"/>
            <a:chExt cx="9142560" cy="6741720"/>
          </a:xfrm>
        </p:grpSpPr>
        <p:sp>
          <p:nvSpPr>
            <p:cNvPr id="69" name=""/>
            <p:cNvSpPr/>
            <p:nvPr/>
          </p:nvSpPr>
          <p:spPr>
            <a:xfrm>
              <a:off x="0" y="3352680"/>
              <a:ext cx="9142560" cy="3503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633840" y="114480"/>
                <a:ext cx="2284920" cy="3148200"/>
                <a:chOff x="3633840" y="114480"/>
                <a:chExt cx="2284920" cy="3148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633840" y="20160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1" y="0"/>
                      </a:moveTo>
                      <a:lnTo>
                        <a:pt x="3974" y="145"/>
                      </a:lnTo>
                      <a:lnTo>
                        <a:pt x="4348" y="343"/>
                      </a:lnTo>
                      <a:lnTo>
                        <a:pt x="4701" y="568"/>
                      </a:lnTo>
                      <a:lnTo>
                        <a:pt x="5029" y="824"/>
                      </a:lnTo>
                      <a:lnTo>
                        <a:pt x="5324" y="1128"/>
                      </a:lnTo>
                      <a:lnTo>
                        <a:pt x="5580" y="1455"/>
                      </a:lnTo>
                      <a:lnTo>
                        <a:pt x="5805" y="1807"/>
                      </a:lnTo>
                      <a:lnTo>
                        <a:pt x="6003" y="2170"/>
                      </a:lnTo>
                      <a:lnTo>
                        <a:pt x="6149" y="2563"/>
                      </a:lnTo>
                      <a:lnTo>
                        <a:pt x="6259" y="2968"/>
                      </a:lnTo>
                      <a:lnTo>
                        <a:pt x="6329" y="3378"/>
                      </a:lnTo>
                      <a:lnTo>
                        <a:pt x="6347" y="3802"/>
                      </a:lnTo>
                      <a:lnTo>
                        <a:pt x="6329" y="4225"/>
                      </a:lnTo>
                      <a:lnTo>
                        <a:pt x="6259" y="4640"/>
                      </a:lnTo>
                      <a:lnTo>
                        <a:pt x="6149" y="5041"/>
                      </a:lnTo>
                      <a:lnTo>
                        <a:pt x="6003" y="5424"/>
                      </a:lnTo>
                      <a:lnTo>
                        <a:pt x="5805" y="5795"/>
                      </a:lnTo>
                      <a:lnTo>
                        <a:pt x="5580" y="6153"/>
                      </a:lnTo>
                      <a:lnTo>
                        <a:pt x="5324" y="6475"/>
                      </a:lnTo>
                      <a:lnTo>
                        <a:pt x="5029" y="6779"/>
                      </a:lnTo>
                      <a:lnTo>
                        <a:pt x="4701" y="7044"/>
                      </a:lnTo>
                      <a:lnTo>
                        <a:pt x="4348" y="7260"/>
                      </a:lnTo>
                      <a:lnTo>
                        <a:pt x="3974" y="7458"/>
                      </a:lnTo>
                      <a:lnTo>
                        <a:pt x="3581" y="7604"/>
                      </a:lnTo>
                      <a:lnTo>
                        <a:pt x="3180" y="7714"/>
                      </a:lnTo>
                      <a:lnTo>
                        <a:pt x="2765" y="7785"/>
                      </a:lnTo>
                      <a:lnTo>
                        <a:pt x="2351" y="7802"/>
                      </a:lnTo>
                      <a:lnTo>
                        <a:pt x="1928" y="7785"/>
                      </a:lnTo>
                      <a:lnTo>
                        <a:pt x="1516" y="7714"/>
                      </a:lnTo>
                      <a:lnTo>
                        <a:pt x="1111" y="7604"/>
                      </a:lnTo>
                      <a:lnTo>
                        <a:pt x="727" y="7458"/>
                      </a:lnTo>
                      <a:lnTo>
                        <a:pt x="352" y="7260"/>
                      </a:lnTo>
                      <a:lnTo>
                        <a:pt x="0" y="7044"/>
                      </a:lnTo>
                      <a:lnTo>
                        <a:pt x="224" y="6722"/>
                      </a:lnTo>
                      <a:lnTo>
                        <a:pt x="551" y="6929"/>
                      </a:lnTo>
                      <a:lnTo>
                        <a:pt x="886" y="7097"/>
                      </a:lnTo>
                      <a:lnTo>
                        <a:pt x="1239" y="7233"/>
                      </a:lnTo>
                      <a:lnTo>
                        <a:pt x="1606" y="7330"/>
                      </a:lnTo>
                      <a:lnTo>
                        <a:pt x="1967" y="7388"/>
                      </a:lnTo>
                      <a:lnTo>
                        <a:pt x="2351" y="7410"/>
                      </a:lnTo>
                      <a:lnTo>
                        <a:pt x="2726" y="7388"/>
                      </a:lnTo>
                      <a:lnTo>
                        <a:pt x="3101" y="7330"/>
                      </a:lnTo>
                      <a:lnTo>
                        <a:pt x="3462" y="7233"/>
                      </a:lnTo>
                      <a:lnTo>
                        <a:pt x="3819" y="7097"/>
                      </a:lnTo>
                      <a:lnTo>
                        <a:pt x="4150" y="6929"/>
                      </a:lnTo>
                      <a:lnTo>
                        <a:pt x="4468" y="6722"/>
                      </a:lnTo>
                      <a:lnTo>
                        <a:pt x="4764" y="6484"/>
                      </a:lnTo>
                      <a:lnTo>
                        <a:pt x="5029" y="6219"/>
                      </a:lnTo>
                      <a:lnTo>
                        <a:pt x="5267" y="5924"/>
                      </a:lnTo>
                      <a:lnTo>
                        <a:pt x="5470" y="5601"/>
                      </a:lnTo>
                      <a:lnTo>
                        <a:pt x="5650" y="5266"/>
                      </a:lnTo>
                      <a:lnTo>
                        <a:pt x="5787" y="4922"/>
                      </a:lnTo>
                      <a:lnTo>
                        <a:pt x="5875" y="4551"/>
                      </a:lnTo>
                      <a:lnTo>
                        <a:pt x="5933" y="4177"/>
                      </a:lnTo>
                      <a:lnTo>
                        <a:pt x="5955" y="3802"/>
                      </a:lnTo>
                      <a:lnTo>
                        <a:pt x="5933" y="3418"/>
                      </a:lnTo>
                      <a:lnTo>
                        <a:pt x="5875" y="3048"/>
                      </a:lnTo>
                      <a:lnTo>
                        <a:pt x="5787" y="2682"/>
                      </a:lnTo>
                      <a:lnTo>
                        <a:pt x="5650" y="2338"/>
                      </a:lnTo>
                      <a:lnTo>
                        <a:pt x="5470" y="1994"/>
                      </a:lnTo>
                      <a:lnTo>
                        <a:pt x="5267" y="1680"/>
                      </a:lnTo>
                      <a:lnTo>
                        <a:pt x="5029" y="1384"/>
                      </a:lnTo>
                      <a:lnTo>
                        <a:pt x="4764" y="1120"/>
                      </a:lnTo>
                      <a:lnTo>
                        <a:pt x="4468" y="886"/>
                      </a:lnTo>
                      <a:lnTo>
                        <a:pt x="4150" y="679"/>
                      </a:lnTo>
                      <a:lnTo>
                        <a:pt x="3819" y="502"/>
                      </a:lnTo>
                      <a:lnTo>
                        <a:pt x="3462" y="374"/>
                      </a:lnTo>
                      <a:lnTo>
                        <a:pt x="3475" y="343"/>
                      </a:lnTo>
                      <a:lnTo>
                        <a:pt x="358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3689280" y="257184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41640" y="302112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3" y="433"/>
                      </a:moveTo>
                      <a:lnTo>
                        <a:pt x="88" y="353"/>
                      </a:lnTo>
                      <a:lnTo>
                        <a:pt x="194" y="286"/>
                      </a:lnTo>
                      <a:lnTo>
                        <a:pt x="392" y="189"/>
                      </a:lnTo>
                      <a:lnTo>
                        <a:pt x="617" y="132"/>
                      </a:lnTo>
                      <a:lnTo>
                        <a:pt x="829" y="83"/>
                      </a:lnTo>
                      <a:lnTo>
                        <a:pt x="1115" y="39"/>
                      </a:lnTo>
                      <a:lnTo>
                        <a:pt x="1384" y="13"/>
                      </a:lnTo>
                      <a:lnTo>
                        <a:pt x="1702" y="0"/>
                      </a:lnTo>
                      <a:lnTo>
                        <a:pt x="2095" y="4"/>
                      </a:lnTo>
                      <a:lnTo>
                        <a:pt x="2501" y="26"/>
                      </a:lnTo>
                      <a:lnTo>
                        <a:pt x="2787" y="61"/>
                      </a:lnTo>
                      <a:lnTo>
                        <a:pt x="3087" y="119"/>
                      </a:lnTo>
                      <a:lnTo>
                        <a:pt x="3374" y="207"/>
                      </a:lnTo>
                      <a:lnTo>
                        <a:pt x="3524" y="291"/>
                      </a:lnTo>
                      <a:lnTo>
                        <a:pt x="3616" y="362"/>
                      </a:lnTo>
                      <a:lnTo>
                        <a:pt x="3705" y="477"/>
                      </a:lnTo>
                      <a:lnTo>
                        <a:pt x="3555" y="538"/>
                      </a:lnTo>
                      <a:lnTo>
                        <a:pt x="3299" y="587"/>
                      </a:lnTo>
                      <a:lnTo>
                        <a:pt x="2981" y="622"/>
                      </a:lnTo>
                      <a:lnTo>
                        <a:pt x="2682" y="653"/>
                      </a:lnTo>
                      <a:lnTo>
                        <a:pt x="2320" y="666"/>
                      </a:lnTo>
                      <a:lnTo>
                        <a:pt x="1928" y="671"/>
                      </a:lnTo>
                      <a:lnTo>
                        <a:pt x="1552" y="671"/>
                      </a:lnTo>
                      <a:lnTo>
                        <a:pt x="1159" y="666"/>
                      </a:lnTo>
                      <a:lnTo>
                        <a:pt x="723" y="631"/>
                      </a:lnTo>
                      <a:lnTo>
                        <a:pt x="374" y="596"/>
                      </a:lnTo>
                      <a:lnTo>
                        <a:pt x="88" y="530"/>
                      </a:lnTo>
                      <a:lnTo>
                        <a:pt x="0" y="481"/>
                      </a:lnTo>
                      <a:lnTo>
                        <a:pt x="13" y="4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287880" y="396720"/>
                <a:ext cx="2376360" cy="23716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287880" y="644400"/>
                <a:ext cx="2208600" cy="1759680"/>
                <a:chOff x="3287880" y="644400"/>
                <a:chExt cx="2208600" cy="17596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600360" y="12891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638520" y="1338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65600" y="1273320"/>
                  <a:ext cx="79560" cy="74880"/>
                </a:xfrm>
                <a:custGeom>
                  <a:avLst/>
                  <a:gdLst/>
                  <a:ahLst/>
                  <a:rect l="0" t="0" r="r" b="b"/>
                  <a:pathLst>
                    <a:path w="221" h="208">
                      <a:moveTo>
                        <a:pt x="221" y="0"/>
                      </a:moveTo>
                      <a:lnTo>
                        <a:pt x="137" y="0"/>
                      </a:lnTo>
                      <a:lnTo>
                        <a:pt x="88" y="57"/>
                      </a:lnTo>
                      <a:lnTo>
                        <a:pt x="57" y="57"/>
                      </a:lnTo>
                      <a:lnTo>
                        <a:pt x="30" y="83"/>
                      </a:lnTo>
                      <a:lnTo>
                        <a:pt x="0" y="83"/>
                      </a:lnTo>
                      <a:lnTo>
                        <a:pt x="0" y="155"/>
                      </a:lnTo>
                      <a:lnTo>
                        <a:pt x="52" y="208"/>
                      </a:lnTo>
                      <a:lnTo>
                        <a:pt x="181" y="208"/>
                      </a:lnTo>
                      <a:lnTo>
                        <a:pt x="221" y="155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287880" y="1333440"/>
                  <a:ext cx="714600" cy="930600"/>
                </a:xfrm>
                <a:custGeom>
                  <a:avLst/>
                  <a:gdLst/>
                  <a:ahLst/>
                  <a:rect l="0" t="0" r="r" b="b"/>
                  <a:pathLst>
                    <a:path w="1985" h="2585">
                      <a:moveTo>
                        <a:pt x="471" y="0"/>
                      </a:moveTo>
                      <a:lnTo>
                        <a:pt x="436" y="70"/>
                      </a:lnTo>
                      <a:lnTo>
                        <a:pt x="282" y="207"/>
                      </a:lnTo>
                      <a:lnTo>
                        <a:pt x="246" y="330"/>
                      </a:lnTo>
                      <a:lnTo>
                        <a:pt x="132" y="418"/>
                      </a:lnTo>
                      <a:lnTo>
                        <a:pt x="52" y="595"/>
                      </a:lnTo>
                      <a:lnTo>
                        <a:pt x="52" y="701"/>
                      </a:lnTo>
                      <a:lnTo>
                        <a:pt x="0" y="886"/>
                      </a:lnTo>
                      <a:lnTo>
                        <a:pt x="70" y="965"/>
                      </a:lnTo>
                      <a:lnTo>
                        <a:pt x="246" y="1199"/>
                      </a:lnTo>
                      <a:lnTo>
                        <a:pt x="299" y="1168"/>
                      </a:lnTo>
                      <a:lnTo>
                        <a:pt x="612" y="1168"/>
                      </a:lnTo>
                      <a:lnTo>
                        <a:pt x="758" y="1225"/>
                      </a:lnTo>
                      <a:lnTo>
                        <a:pt x="745" y="1407"/>
                      </a:lnTo>
                      <a:lnTo>
                        <a:pt x="851" y="1650"/>
                      </a:lnTo>
                      <a:lnTo>
                        <a:pt x="842" y="1716"/>
                      </a:lnTo>
                      <a:lnTo>
                        <a:pt x="886" y="1791"/>
                      </a:lnTo>
                      <a:lnTo>
                        <a:pt x="820" y="1963"/>
                      </a:lnTo>
                      <a:lnTo>
                        <a:pt x="899" y="2179"/>
                      </a:lnTo>
                      <a:lnTo>
                        <a:pt x="943" y="2346"/>
                      </a:lnTo>
                      <a:lnTo>
                        <a:pt x="997" y="2452"/>
                      </a:lnTo>
                      <a:lnTo>
                        <a:pt x="1054" y="2585"/>
                      </a:lnTo>
                      <a:lnTo>
                        <a:pt x="1160" y="2567"/>
                      </a:lnTo>
                      <a:lnTo>
                        <a:pt x="1332" y="2470"/>
                      </a:lnTo>
                      <a:lnTo>
                        <a:pt x="1412" y="2351"/>
                      </a:lnTo>
                      <a:lnTo>
                        <a:pt x="1407" y="2272"/>
                      </a:lnTo>
                      <a:lnTo>
                        <a:pt x="1509" y="2205"/>
                      </a:lnTo>
                      <a:lnTo>
                        <a:pt x="1491" y="2091"/>
                      </a:lnTo>
                      <a:lnTo>
                        <a:pt x="1645" y="1906"/>
                      </a:lnTo>
                      <a:lnTo>
                        <a:pt x="1667" y="1756"/>
                      </a:lnTo>
                      <a:lnTo>
                        <a:pt x="1628" y="1703"/>
                      </a:lnTo>
                      <a:lnTo>
                        <a:pt x="1645" y="1641"/>
                      </a:lnTo>
                      <a:lnTo>
                        <a:pt x="1610" y="1588"/>
                      </a:lnTo>
                      <a:lnTo>
                        <a:pt x="1725" y="1442"/>
                      </a:lnTo>
                      <a:lnTo>
                        <a:pt x="1725" y="1368"/>
                      </a:lnTo>
                      <a:lnTo>
                        <a:pt x="1883" y="1243"/>
                      </a:lnTo>
                      <a:lnTo>
                        <a:pt x="1985" y="912"/>
                      </a:lnTo>
                      <a:lnTo>
                        <a:pt x="1839" y="996"/>
                      </a:lnTo>
                      <a:lnTo>
                        <a:pt x="1711" y="961"/>
                      </a:lnTo>
                      <a:lnTo>
                        <a:pt x="1729" y="881"/>
                      </a:lnTo>
                      <a:lnTo>
                        <a:pt x="1601" y="793"/>
                      </a:lnTo>
                      <a:lnTo>
                        <a:pt x="1539" y="582"/>
                      </a:lnTo>
                      <a:lnTo>
                        <a:pt x="1416" y="410"/>
                      </a:lnTo>
                      <a:lnTo>
                        <a:pt x="1416" y="291"/>
                      </a:lnTo>
                      <a:lnTo>
                        <a:pt x="1350" y="286"/>
                      </a:lnTo>
                      <a:lnTo>
                        <a:pt x="1306" y="304"/>
                      </a:lnTo>
                      <a:lnTo>
                        <a:pt x="1121" y="238"/>
                      </a:lnTo>
                      <a:lnTo>
                        <a:pt x="1072" y="286"/>
                      </a:lnTo>
                      <a:lnTo>
                        <a:pt x="1032" y="343"/>
                      </a:lnTo>
                      <a:lnTo>
                        <a:pt x="930" y="233"/>
                      </a:lnTo>
                      <a:lnTo>
                        <a:pt x="833" y="207"/>
                      </a:lnTo>
                      <a:lnTo>
                        <a:pt x="824" y="66"/>
                      </a:lnTo>
                      <a:lnTo>
                        <a:pt x="683" y="88"/>
                      </a:lnTo>
                      <a:lnTo>
                        <a:pt x="595" y="57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940280" y="1566720"/>
                  <a:ext cx="25920" cy="43200"/>
                </a:xfrm>
                <a:custGeom>
                  <a:avLst/>
                  <a:gdLst/>
                  <a:ahLst/>
                  <a:rect l="0" t="0" r="r" b="b"/>
                  <a:pathLst>
                    <a:path w="72" h="120">
                      <a:moveTo>
                        <a:pt x="31" y="0"/>
                      </a:moveTo>
                      <a:lnTo>
                        <a:pt x="40" y="35"/>
                      </a:lnTo>
                      <a:lnTo>
                        <a:pt x="31" y="62"/>
                      </a:lnTo>
                      <a:lnTo>
                        <a:pt x="31" y="84"/>
                      </a:lnTo>
                      <a:lnTo>
                        <a:pt x="72" y="102"/>
                      </a:lnTo>
                      <a:lnTo>
                        <a:pt x="72" y="120"/>
                      </a:lnTo>
                      <a:lnTo>
                        <a:pt x="40" y="102"/>
                      </a:lnTo>
                      <a:lnTo>
                        <a:pt x="13" y="120"/>
                      </a:lnTo>
                      <a:lnTo>
                        <a:pt x="0" y="102"/>
                      </a:lnTo>
                      <a:lnTo>
                        <a:pt x="13" y="84"/>
                      </a:lnTo>
                      <a:lnTo>
                        <a:pt x="0" y="62"/>
                      </a:lnTo>
                      <a:lnTo>
                        <a:pt x="13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805280" y="1760400"/>
                  <a:ext cx="106560" cy="152640"/>
                </a:xfrm>
                <a:custGeom>
                  <a:avLst/>
                  <a:gdLst/>
                  <a:ahLst/>
                  <a:rect l="0" t="0" r="r" b="b"/>
                  <a:pathLst>
                    <a:path w="296" h="424">
                      <a:moveTo>
                        <a:pt x="0" y="211"/>
                      </a:moveTo>
                      <a:lnTo>
                        <a:pt x="105" y="211"/>
                      </a:lnTo>
                      <a:lnTo>
                        <a:pt x="230" y="0"/>
                      </a:lnTo>
                      <a:lnTo>
                        <a:pt x="296" y="123"/>
                      </a:lnTo>
                      <a:lnTo>
                        <a:pt x="243" y="424"/>
                      </a:lnTo>
                      <a:lnTo>
                        <a:pt x="22" y="353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019840" y="1819440"/>
                  <a:ext cx="184680" cy="147960"/>
                </a:xfrm>
                <a:custGeom>
                  <a:avLst/>
                  <a:gdLst/>
                  <a:ahLst/>
                  <a:rect l="0" t="0" r="r" b="b"/>
                  <a:pathLst>
                    <a:path w="513" h="411">
                      <a:moveTo>
                        <a:pt x="30" y="97"/>
                      </a:moveTo>
                      <a:lnTo>
                        <a:pt x="0" y="0"/>
                      </a:lnTo>
                      <a:lnTo>
                        <a:pt x="172" y="39"/>
                      </a:lnTo>
                      <a:lnTo>
                        <a:pt x="420" y="141"/>
                      </a:lnTo>
                      <a:lnTo>
                        <a:pt x="420" y="217"/>
                      </a:lnTo>
                      <a:lnTo>
                        <a:pt x="513" y="411"/>
                      </a:lnTo>
                      <a:lnTo>
                        <a:pt x="322" y="225"/>
                      </a:lnTo>
                      <a:lnTo>
                        <a:pt x="195" y="239"/>
                      </a:lnTo>
                      <a:lnTo>
                        <a:pt x="3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372280" y="2122560"/>
                  <a:ext cx="124200" cy="159120"/>
                </a:xfrm>
                <a:custGeom>
                  <a:avLst/>
                  <a:gdLst/>
                  <a:ahLst/>
                  <a:rect l="0" t="0" r="r" b="b"/>
                  <a:pathLst>
                    <a:path w="345" h="442">
                      <a:moveTo>
                        <a:pt x="212" y="0"/>
                      </a:moveTo>
                      <a:lnTo>
                        <a:pt x="345" y="133"/>
                      </a:lnTo>
                      <a:lnTo>
                        <a:pt x="70" y="442"/>
                      </a:lnTo>
                      <a:lnTo>
                        <a:pt x="0" y="372"/>
                      </a:lnTo>
                      <a:lnTo>
                        <a:pt x="199" y="172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10000" y="1033560"/>
                  <a:ext cx="60840" cy="103680"/>
                </a:xfrm>
                <a:custGeom>
                  <a:avLst/>
                  <a:gdLst/>
                  <a:ahLst/>
                  <a:rect l="0" t="0" r="r" b="b"/>
                  <a:pathLst>
                    <a:path w="169" h="288">
                      <a:moveTo>
                        <a:pt x="169" y="226"/>
                      </a:moveTo>
                      <a:lnTo>
                        <a:pt x="124" y="190"/>
                      </a:lnTo>
                      <a:lnTo>
                        <a:pt x="124" y="61"/>
                      </a:lnTo>
                      <a:lnTo>
                        <a:pt x="147" y="35"/>
                      </a:lnTo>
                      <a:lnTo>
                        <a:pt x="106" y="35"/>
                      </a:lnTo>
                      <a:lnTo>
                        <a:pt x="129" y="0"/>
                      </a:lnTo>
                      <a:lnTo>
                        <a:pt x="98" y="0"/>
                      </a:lnTo>
                      <a:lnTo>
                        <a:pt x="62" y="39"/>
                      </a:lnTo>
                      <a:lnTo>
                        <a:pt x="62" y="120"/>
                      </a:lnTo>
                      <a:lnTo>
                        <a:pt x="80" y="137"/>
                      </a:lnTo>
                      <a:lnTo>
                        <a:pt x="80" y="172"/>
                      </a:lnTo>
                      <a:lnTo>
                        <a:pt x="71" y="172"/>
                      </a:lnTo>
                      <a:lnTo>
                        <a:pt x="39" y="203"/>
                      </a:lnTo>
                      <a:lnTo>
                        <a:pt x="39" y="235"/>
                      </a:lnTo>
                      <a:lnTo>
                        <a:pt x="0" y="288"/>
                      </a:lnTo>
                      <a:lnTo>
                        <a:pt x="129" y="288"/>
                      </a:lnTo>
                      <a:lnTo>
                        <a:pt x="169" y="2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489480" y="1068480"/>
                  <a:ext cx="32040" cy="36720"/>
                </a:xfrm>
                <a:custGeom>
                  <a:avLst/>
                  <a:gdLst/>
                  <a:ahLst/>
                  <a:rect l="0" t="0" r="r" b="b"/>
                  <a:pathLst>
                    <a:path w="89" h="102">
                      <a:moveTo>
                        <a:pt x="75" y="35"/>
                      </a:moveTo>
                      <a:lnTo>
                        <a:pt x="89" y="35"/>
                      </a:lnTo>
                      <a:lnTo>
                        <a:pt x="89" y="0"/>
                      </a:lnTo>
                      <a:lnTo>
                        <a:pt x="58" y="0"/>
                      </a:lnTo>
                      <a:lnTo>
                        <a:pt x="0" y="67"/>
                      </a:lnTo>
                      <a:lnTo>
                        <a:pt x="0" y="102"/>
                      </a:lnTo>
                      <a:lnTo>
                        <a:pt x="53" y="102"/>
                      </a:lnTo>
                      <a:lnTo>
                        <a:pt x="75" y="75"/>
                      </a:lnTo>
                      <a:lnTo>
                        <a:pt x="75" y="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40160" y="1006560"/>
                  <a:ext cx="405000" cy="341640"/>
                </a:xfrm>
                <a:custGeom>
                  <a:avLst/>
                  <a:gdLst/>
                  <a:ahLst/>
                  <a:rect l="0" t="0" r="r" b="b"/>
                  <a:pathLst>
                    <a:path w="1125" h="949">
                      <a:moveTo>
                        <a:pt x="741" y="0"/>
                      </a:moveTo>
                      <a:lnTo>
                        <a:pt x="741" y="66"/>
                      </a:lnTo>
                      <a:lnTo>
                        <a:pt x="763" y="88"/>
                      </a:lnTo>
                      <a:lnTo>
                        <a:pt x="887" y="88"/>
                      </a:lnTo>
                      <a:lnTo>
                        <a:pt x="887" y="123"/>
                      </a:lnTo>
                      <a:lnTo>
                        <a:pt x="799" y="123"/>
                      </a:lnTo>
                      <a:lnTo>
                        <a:pt x="799" y="229"/>
                      </a:lnTo>
                      <a:lnTo>
                        <a:pt x="759" y="180"/>
                      </a:lnTo>
                      <a:lnTo>
                        <a:pt x="759" y="246"/>
                      </a:lnTo>
                      <a:lnTo>
                        <a:pt x="706" y="308"/>
                      </a:lnTo>
                      <a:lnTo>
                        <a:pt x="671" y="273"/>
                      </a:lnTo>
                      <a:lnTo>
                        <a:pt x="618" y="317"/>
                      </a:lnTo>
                      <a:lnTo>
                        <a:pt x="609" y="304"/>
                      </a:lnTo>
                      <a:lnTo>
                        <a:pt x="542" y="304"/>
                      </a:lnTo>
                      <a:lnTo>
                        <a:pt x="578" y="260"/>
                      </a:lnTo>
                      <a:lnTo>
                        <a:pt x="578" y="242"/>
                      </a:lnTo>
                      <a:lnTo>
                        <a:pt x="546" y="211"/>
                      </a:lnTo>
                      <a:lnTo>
                        <a:pt x="546" y="163"/>
                      </a:lnTo>
                      <a:lnTo>
                        <a:pt x="502" y="211"/>
                      </a:lnTo>
                      <a:lnTo>
                        <a:pt x="502" y="304"/>
                      </a:lnTo>
                      <a:lnTo>
                        <a:pt x="449" y="304"/>
                      </a:lnTo>
                      <a:lnTo>
                        <a:pt x="383" y="370"/>
                      </a:lnTo>
                      <a:lnTo>
                        <a:pt x="357" y="370"/>
                      </a:lnTo>
                      <a:lnTo>
                        <a:pt x="321" y="414"/>
                      </a:lnTo>
                      <a:lnTo>
                        <a:pt x="189" y="414"/>
                      </a:lnTo>
                      <a:lnTo>
                        <a:pt x="233" y="477"/>
                      </a:lnTo>
                      <a:lnTo>
                        <a:pt x="233" y="574"/>
                      </a:lnTo>
                      <a:lnTo>
                        <a:pt x="189" y="631"/>
                      </a:lnTo>
                      <a:lnTo>
                        <a:pt x="136" y="574"/>
                      </a:lnTo>
                      <a:lnTo>
                        <a:pt x="35" y="574"/>
                      </a:lnTo>
                      <a:lnTo>
                        <a:pt x="35" y="644"/>
                      </a:lnTo>
                      <a:lnTo>
                        <a:pt x="0" y="688"/>
                      </a:lnTo>
                      <a:lnTo>
                        <a:pt x="0" y="781"/>
                      </a:lnTo>
                      <a:lnTo>
                        <a:pt x="66" y="856"/>
                      </a:lnTo>
                      <a:lnTo>
                        <a:pt x="163" y="856"/>
                      </a:lnTo>
                      <a:lnTo>
                        <a:pt x="313" y="675"/>
                      </a:lnTo>
                      <a:lnTo>
                        <a:pt x="445" y="675"/>
                      </a:lnTo>
                      <a:lnTo>
                        <a:pt x="463" y="640"/>
                      </a:lnTo>
                      <a:lnTo>
                        <a:pt x="493" y="675"/>
                      </a:lnTo>
                      <a:lnTo>
                        <a:pt x="489" y="710"/>
                      </a:lnTo>
                      <a:lnTo>
                        <a:pt x="613" y="834"/>
                      </a:lnTo>
                      <a:lnTo>
                        <a:pt x="613" y="887"/>
                      </a:lnTo>
                      <a:lnTo>
                        <a:pt x="640" y="865"/>
                      </a:lnTo>
                      <a:lnTo>
                        <a:pt x="627" y="834"/>
                      </a:lnTo>
                      <a:lnTo>
                        <a:pt x="640" y="816"/>
                      </a:lnTo>
                      <a:lnTo>
                        <a:pt x="662" y="834"/>
                      </a:lnTo>
                      <a:lnTo>
                        <a:pt x="671" y="830"/>
                      </a:lnTo>
                      <a:lnTo>
                        <a:pt x="542" y="671"/>
                      </a:lnTo>
                      <a:lnTo>
                        <a:pt x="542" y="613"/>
                      </a:lnTo>
                      <a:lnTo>
                        <a:pt x="578" y="613"/>
                      </a:lnTo>
                      <a:lnTo>
                        <a:pt x="578" y="644"/>
                      </a:lnTo>
                      <a:lnTo>
                        <a:pt x="706" y="785"/>
                      </a:lnTo>
                      <a:lnTo>
                        <a:pt x="706" y="830"/>
                      </a:lnTo>
                      <a:lnTo>
                        <a:pt x="759" y="891"/>
                      </a:lnTo>
                      <a:lnTo>
                        <a:pt x="746" y="904"/>
                      </a:lnTo>
                      <a:lnTo>
                        <a:pt x="785" y="949"/>
                      </a:lnTo>
                      <a:lnTo>
                        <a:pt x="843" y="882"/>
                      </a:lnTo>
                      <a:lnTo>
                        <a:pt x="807" y="843"/>
                      </a:lnTo>
                      <a:lnTo>
                        <a:pt x="843" y="803"/>
                      </a:lnTo>
                      <a:lnTo>
                        <a:pt x="891" y="803"/>
                      </a:lnTo>
                      <a:lnTo>
                        <a:pt x="913" y="781"/>
                      </a:lnTo>
                      <a:lnTo>
                        <a:pt x="944" y="781"/>
                      </a:lnTo>
                      <a:lnTo>
                        <a:pt x="904" y="724"/>
                      </a:lnTo>
                      <a:lnTo>
                        <a:pt x="927" y="697"/>
                      </a:lnTo>
                      <a:lnTo>
                        <a:pt x="927" y="605"/>
                      </a:lnTo>
                      <a:lnTo>
                        <a:pt x="966" y="556"/>
                      </a:lnTo>
                      <a:lnTo>
                        <a:pt x="984" y="574"/>
                      </a:lnTo>
                      <a:lnTo>
                        <a:pt x="1024" y="574"/>
                      </a:lnTo>
                      <a:lnTo>
                        <a:pt x="1006" y="600"/>
                      </a:lnTo>
                      <a:lnTo>
                        <a:pt x="1041" y="640"/>
                      </a:lnTo>
                      <a:lnTo>
                        <a:pt x="1063" y="605"/>
                      </a:lnTo>
                      <a:lnTo>
                        <a:pt x="1090" y="605"/>
                      </a:lnTo>
                      <a:lnTo>
                        <a:pt x="1090" y="591"/>
                      </a:lnTo>
                      <a:lnTo>
                        <a:pt x="1076" y="591"/>
                      </a:lnTo>
                      <a:lnTo>
                        <a:pt x="1054" y="574"/>
                      </a:lnTo>
                      <a:lnTo>
                        <a:pt x="1112" y="503"/>
                      </a:lnTo>
                      <a:lnTo>
                        <a:pt x="1112" y="605"/>
                      </a:lnTo>
                      <a:lnTo>
                        <a:pt x="1125" y="605"/>
                      </a:lnTo>
                      <a:lnTo>
                        <a:pt x="1125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13320" y="644400"/>
                  <a:ext cx="1727640" cy="1219680"/>
                </a:xfrm>
                <a:custGeom>
                  <a:avLst/>
                  <a:gdLst/>
                  <a:ahLst/>
                  <a:rect l="0" t="0" r="r" b="b"/>
                  <a:pathLst>
                    <a:path w="4799" h="3388">
                      <a:moveTo>
                        <a:pt x="0" y="997"/>
                      </a:moveTo>
                      <a:lnTo>
                        <a:pt x="141" y="891"/>
                      </a:lnTo>
                      <a:lnTo>
                        <a:pt x="273" y="687"/>
                      </a:lnTo>
                      <a:lnTo>
                        <a:pt x="436" y="590"/>
                      </a:lnTo>
                      <a:lnTo>
                        <a:pt x="604" y="705"/>
                      </a:lnTo>
                      <a:lnTo>
                        <a:pt x="626" y="798"/>
                      </a:lnTo>
                      <a:lnTo>
                        <a:pt x="586" y="798"/>
                      </a:lnTo>
                      <a:lnTo>
                        <a:pt x="520" y="789"/>
                      </a:lnTo>
                      <a:lnTo>
                        <a:pt x="604" y="891"/>
                      </a:lnTo>
                      <a:lnTo>
                        <a:pt x="952" y="758"/>
                      </a:lnTo>
                      <a:lnTo>
                        <a:pt x="908" y="657"/>
                      </a:lnTo>
                      <a:lnTo>
                        <a:pt x="1058" y="485"/>
                      </a:lnTo>
                      <a:lnTo>
                        <a:pt x="1155" y="489"/>
                      </a:lnTo>
                      <a:lnTo>
                        <a:pt x="1062" y="546"/>
                      </a:lnTo>
                      <a:lnTo>
                        <a:pt x="983" y="674"/>
                      </a:lnTo>
                      <a:lnTo>
                        <a:pt x="983" y="758"/>
                      </a:lnTo>
                      <a:lnTo>
                        <a:pt x="1124" y="852"/>
                      </a:lnTo>
                      <a:lnTo>
                        <a:pt x="1328" y="586"/>
                      </a:lnTo>
                      <a:lnTo>
                        <a:pt x="2033" y="277"/>
                      </a:lnTo>
                      <a:lnTo>
                        <a:pt x="2029" y="101"/>
                      </a:lnTo>
                      <a:lnTo>
                        <a:pt x="2351" y="35"/>
                      </a:lnTo>
                      <a:lnTo>
                        <a:pt x="2532" y="127"/>
                      </a:lnTo>
                      <a:lnTo>
                        <a:pt x="2959" y="0"/>
                      </a:lnTo>
                      <a:lnTo>
                        <a:pt x="3092" y="66"/>
                      </a:lnTo>
                      <a:lnTo>
                        <a:pt x="3378" y="374"/>
                      </a:lnTo>
                      <a:lnTo>
                        <a:pt x="3706" y="313"/>
                      </a:lnTo>
                      <a:lnTo>
                        <a:pt x="3909" y="423"/>
                      </a:lnTo>
                      <a:lnTo>
                        <a:pt x="4416" y="401"/>
                      </a:lnTo>
                      <a:lnTo>
                        <a:pt x="4799" y="520"/>
                      </a:lnTo>
                      <a:lnTo>
                        <a:pt x="4764" y="687"/>
                      </a:lnTo>
                      <a:lnTo>
                        <a:pt x="4438" y="798"/>
                      </a:lnTo>
                      <a:lnTo>
                        <a:pt x="4495" y="909"/>
                      </a:lnTo>
                      <a:lnTo>
                        <a:pt x="4354" y="971"/>
                      </a:lnTo>
                      <a:lnTo>
                        <a:pt x="4345" y="1191"/>
                      </a:lnTo>
                      <a:lnTo>
                        <a:pt x="4222" y="1341"/>
                      </a:lnTo>
                      <a:lnTo>
                        <a:pt x="4169" y="1204"/>
                      </a:lnTo>
                      <a:lnTo>
                        <a:pt x="4239" y="1076"/>
                      </a:lnTo>
                      <a:lnTo>
                        <a:pt x="4226" y="811"/>
                      </a:lnTo>
                      <a:lnTo>
                        <a:pt x="4098" y="949"/>
                      </a:lnTo>
                      <a:lnTo>
                        <a:pt x="3997" y="1024"/>
                      </a:lnTo>
                      <a:lnTo>
                        <a:pt x="3900" y="904"/>
                      </a:lnTo>
                      <a:lnTo>
                        <a:pt x="3829" y="1204"/>
                      </a:lnTo>
                      <a:lnTo>
                        <a:pt x="3904" y="1204"/>
                      </a:lnTo>
                      <a:lnTo>
                        <a:pt x="3886" y="1403"/>
                      </a:lnTo>
                      <a:lnTo>
                        <a:pt x="3798" y="1614"/>
                      </a:lnTo>
                      <a:lnTo>
                        <a:pt x="3692" y="1698"/>
                      </a:lnTo>
                      <a:lnTo>
                        <a:pt x="3781" y="1839"/>
                      </a:lnTo>
                      <a:lnTo>
                        <a:pt x="3723" y="1936"/>
                      </a:lnTo>
                      <a:lnTo>
                        <a:pt x="3701" y="1853"/>
                      </a:lnTo>
                      <a:lnTo>
                        <a:pt x="3701" y="1822"/>
                      </a:lnTo>
                      <a:lnTo>
                        <a:pt x="3631" y="1773"/>
                      </a:lnTo>
                      <a:lnTo>
                        <a:pt x="3515" y="1835"/>
                      </a:lnTo>
                      <a:lnTo>
                        <a:pt x="3617" y="2069"/>
                      </a:lnTo>
                      <a:lnTo>
                        <a:pt x="3653" y="2188"/>
                      </a:lnTo>
                      <a:lnTo>
                        <a:pt x="3533" y="2510"/>
                      </a:lnTo>
                      <a:lnTo>
                        <a:pt x="3312" y="2599"/>
                      </a:lnTo>
                      <a:lnTo>
                        <a:pt x="3131" y="2581"/>
                      </a:lnTo>
                      <a:lnTo>
                        <a:pt x="3220" y="2713"/>
                      </a:lnTo>
                      <a:lnTo>
                        <a:pt x="3228" y="2899"/>
                      </a:lnTo>
                      <a:lnTo>
                        <a:pt x="3101" y="3115"/>
                      </a:lnTo>
                      <a:lnTo>
                        <a:pt x="2955" y="2996"/>
                      </a:lnTo>
                      <a:lnTo>
                        <a:pt x="2933" y="3124"/>
                      </a:lnTo>
                      <a:lnTo>
                        <a:pt x="3043" y="3229"/>
                      </a:lnTo>
                      <a:lnTo>
                        <a:pt x="3136" y="3388"/>
                      </a:lnTo>
                      <a:lnTo>
                        <a:pt x="2981" y="3296"/>
                      </a:lnTo>
                      <a:lnTo>
                        <a:pt x="2796" y="2762"/>
                      </a:lnTo>
                      <a:lnTo>
                        <a:pt x="2571" y="2616"/>
                      </a:lnTo>
                      <a:lnTo>
                        <a:pt x="2404" y="2630"/>
                      </a:lnTo>
                      <a:lnTo>
                        <a:pt x="2192" y="2934"/>
                      </a:lnTo>
                      <a:lnTo>
                        <a:pt x="2219" y="3040"/>
                      </a:lnTo>
                      <a:lnTo>
                        <a:pt x="2148" y="3256"/>
                      </a:lnTo>
                      <a:lnTo>
                        <a:pt x="2077" y="3256"/>
                      </a:lnTo>
                      <a:lnTo>
                        <a:pt x="1835" y="2806"/>
                      </a:lnTo>
                      <a:lnTo>
                        <a:pt x="1835" y="2612"/>
                      </a:lnTo>
                      <a:lnTo>
                        <a:pt x="1782" y="2683"/>
                      </a:lnTo>
                      <a:lnTo>
                        <a:pt x="1645" y="2678"/>
                      </a:lnTo>
                      <a:lnTo>
                        <a:pt x="1698" y="2559"/>
                      </a:lnTo>
                      <a:lnTo>
                        <a:pt x="1482" y="2404"/>
                      </a:lnTo>
                      <a:lnTo>
                        <a:pt x="1213" y="2404"/>
                      </a:lnTo>
                      <a:lnTo>
                        <a:pt x="983" y="2249"/>
                      </a:lnTo>
                      <a:lnTo>
                        <a:pt x="970" y="2404"/>
                      </a:lnTo>
                      <a:lnTo>
                        <a:pt x="1159" y="2546"/>
                      </a:lnTo>
                      <a:lnTo>
                        <a:pt x="1226" y="2542"/>
                      </a:lnTo>
                      <a:lnTo>
                        <a:pt x="1031" y="2736"/>
                      </a:lnTo>
                      <a:lnTo>
                        <a:pt x="837" y="2780"/>
                      </a:lnTo>
                      <a:lnTo>
                        <a:pt x="837" y="2669"/>
                      </a:lnTo>
                      <a:lnTo>
                        <a:pt x="560" y="2285"/>
                      </a:lnTo>
                      <a:lnTo>
                        <a:pt x="524" y="2183"/>
                      </a:lnTo>
                      <a:lnTo>
                        <a:pt x="674" y="2060"/>
                      </a:lnTo>
                      <a:lnTo>
                        <a:pt x="657" y="1906"/>
                      </a:lnTo>
                      <a:lnTo>
                        <a:pt x="657" y="1734"/>
                      </a:lnTo>
                      <a:lnTo>
                        <a:pt x="732" y="1698"/>
                      </a:lnTo>
                      <a:lnTo>
                        <a:pt x="657" y="1614"/>
                      </a:lnTo>
                      <a:lnTo>
                        <a:pt x="657" y="997"/>
                      </a:lnTo>
                      <a:lnTo>
                        <a:pt x="268" y="997"/>
                      </a:lnTo>
                      <a:lnTo>
                        <a:pt x="379" y="852"/>
                      </a:lnTo>
                      <a:lnTo>
                        <a:pt x="370" y="798"/>
                      </a:lnTo>
                      <a:lnTo>
                        <a:pt x="242" y="927"/>
                      </a:lnTo>
                      <a:lnTo>
                        <a:pt x="198" y="997"/>
                      </a:lnTo>
                      <a:lnTo>
                        <a:pt x="0" y="9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976640" y="1143000"/>
                  <a:ext cx="147960" cy="248040"/>
                </a:xfrm>
                <a:custGeom>
                  <a:avLst/>
                  <a:gdLst/>
                  <a:ahLst/>
                  <a:rect l="0" t="0" r="r" b="b"/>
                  <a:pathLst>
                    <a:path w="411" h="689">
                      <a:moveTo>
                        <a:pt x="278" y="0"/>
                      </a:moveTo>
                      <a:lnTo>
                        <a:pt x="278" y="88"/>
                      </a:lnTo>
                      <a:lnTo>
                        <a:pt x="243" y="145"/>
                      </a:lnTo>
                      <a:lnTo>
                        <a:pt x="252" y="239"/>
                      </a:lnTo>
                      <a:lnTo>
                        <a:pt x="208" y="362"/>
                      </a:lnTo>
                      <a:lnTo>
                        <a:pt x="136" y="477"/>
                      </a:lnTo>
                      <a:lnTo>
                        <a:pt x="30" y="553"/>
                      </a:lnTo>
                      <a:lnTo>
                        <a:pt x="0" y="681"/>
                      </a:lnTo>
                      <a:lnTo>
                        <a:pt x="44" y="689"/>
                      </a:lnTo>
                      <a:lnTo>
                        <a:pt x="44" y="570"/>
                      </a:lnTo>
                      <a:lnTo>
                        <a:pt x="194" y="562"/>
                      </a:lnTo>
                      <a:lnTo>
                        <a:pt x="305" y="481"/>
                      </a:lnTo>
                      <a:lnTo>
                        <a:pt x="305" y="318"/>
                      </a:lnTo>
                      <a:lnTo>
                        <a:pt x="340" y="256"/>
                      </a:lnTo>
                      <a:lnTo>
                        <a:pt x="283" y="149"/>
                      </a:lnTo>
                      <a:lnTo>
                        <a:pt x="362" y="119"/>
                      </a:lnTo>
                      <a:lnTo>
                        <a:pt x="411" y="35"/>
                      </a:lnTo>
                      <a:lnTo>
                        <a:pt x="305" y="48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413240" y="1808280"/>
                  <a:ext cx="28800" cy="55800"/>
                </a:xfrm>
                <a:custGeom>
                  <a:avLst/>
                  <a:gdLst/>
                  <a:ahLst/>
                  <a:rect l="0" t="0" r="r" b="b"/>
                  <a:pathLst>
                    <a:path w="80" h="155">
                      <a:moveTo>
                        <a:pt x="39" y="0"/>
                      </a:moveTo>
                      <a:lnTo>
                        <a:pt x="0" y="70"/>
                      </a:lnTo>
                      <a:lnTo>
                        <a:pt x="26" y="155"/>
                      </a:lnTo>
                      <a:lnTo>
                        <a:pt x="80" y="9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0400" y="1868400"/>
                  <a:ext cx="348120" cy="147960"/>
                </a:xfrm>
                <a:custGeom>
                  <a:avLst/>
                  <a:gdLst/>
                  <a:ahLst/>
                  <a:rect l="0" t="0" r="r" b="b"/>
                  <a:pathLst>
                    <a:path w="967" h="411">
                      <a:moveTo>
                        <a:pt x="0" y="0"/>
                      </a:moveTo>
                      <a:lnTo>
                        <a:pt x="145" y="30"/>
                      </a:lnTo>
                      <a:lnTo>
                        <a:pt x="362" y="180"/>
                      </a:lnTo>
                      <a:lnTo>
                        <a:pt x="331" y="265"/>
                      </a:lnTo>
                      <a:lnTo>
                        <a:pt x="508" y="340"/>
                      </a:lnTo>
                      <a:lnTo>
                        <a:pt x="967" y="340"/>
                      </a:lnTo>
                      <a:lnTo>
                        <a:pt x="468" y="411"/>
                      </a:lnTo>
                      <a:lnTo>
                        <a:pt x="331" y="265"/>
                      </a:lnTo>
                      <a:lnTo>
                        <a:pt x="202" y="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17960" y="1992240"/>
                  <a:ext cx="373320" cy="349560"/>
                </a:xfrm>
                <a:custGeom>
                  <a:avLst/>
                  <a:gdLst/>
                  <a:ahLst/>
                  <a:rect l="0" t="0" r="r" b="b"/>
                  <a:pathLst>
                    <a:path w="1037" h="971">
                      <a:moveTo>
                        <a:pt x="865" y="949"/>
                      </a:moveTo>
                      <a:lnTo>
                        <a:pt x="838" y="953"/>
                      </a:lnTo>
                      <a:lnTo>
                        <a:pt x="816" y="971"/>
                      </a:lnTo>
                      <a:lnTo>
                        <a:pt x="790" y="935"/>
                      </a:lnTo>
                      <a:lnTo>
                        <a:pt x="697" y="891"/>
                      </a:lnTo>
                      <a:lnTo>
                        <a:pt x="680" y="825"/>
                      </a:lnTo>
                      <a:lnTo>
                        <a:pt x="649" y="803"/>
                      </a:lnTo>
                      <a:lnTo>
                        <a:pt x="574" y="803"/>
                      </a:lnTo>
                      <a:lnTo>
                        <a:pt x="574" y="750"/>
                      </a:lnTo>
                      <a:lnTo>
                        <a:pt x="547" y="737"/>
                      </a:lnTo>
                      <a:lnTo>
                        <a:pt x="543" y="693"/>
                      </a:lnTo>
                      <a:lnTo>
                        <a:pt x="485" y="684"/>
                      </a:lnTo>
                      <a:lnTo>
                        <a:pt x="432" y="671"/>
                      </a:lnTo>
                      <a:lnTo>
                        <a:pt x="383" y="684"/>
                      </a:lnTo>
                      <a:lnTo>
                        <a:pt x="383" y="693"/>
                      </a:lnTo>
                      <a:lnTo>
                        <a:pt x="273" y="728"/>
                      </a:lnTo>
                      <a:lnTo>
                        <a:pt x="273" y="746"/>
                      </a:lnTo>
                      <a:lnTo>
                        <a:pt x="176" y="746"/>
                      </a:lnTo>
                      <a:lnTo>
                        <a:pt x="123" y="777"/>
                      </a:lnTo>
                      <a:lnTo>
                        <a:pt x="66" y="746"/>
                      </a:lnTo>
                      <a:lnTo>
                        <a:pt x="61" y="737"/>
                      </a:lnTo>
                      <a:lnTo>
                        <a:pt x="61" y="671"/>
                      </a:lnTo>
                      <a:lnTo>
                        <a:pt x="44" y="613"/>
                      </a:lnTo>
                      <a:lnTo>
                        <a:pt x="22" y="561"/>
                      </a:lnTo>
                      <a:lnTo>
                        <a:pt x="35" y="521"/>
                      </a:lnTo>
                      <a:lnTo>
                        <a:pt x="13" y="503"/>
                      </a:lnTo>
                      <a:lnTo>
                        <a:pt x="0" y="410"/>
                      </a:lnTo>
                      <a:lnTo>
                        <a:pt x="13" y="348"/>
                      </a:lnTo>
                      <a:lnTo>
                        <a:pt x="70" y="299"/>
                      </a:lnTo>
                      <a:lnTo>
                        <a:pt x="194" y="264"/>
                      </a:lnTo>
                      <a:lnTo>
                        <a:pt x="224" y="224"/>
                      </a:lnTo>
                      <a:lnTo>
                        <a:pt x="211" y="180"/>
                      </a:lnTo>
                      <a:lnTo>
                        <a:pt x="242" y="167"/>
                      </a:lnTo>
                      <a:lnTo>
                        <a:pt x="251" y="189"/>
                      </a:lnTo>
                      <a:lnTo>
                        <a:pt x="264" y="154"/>
                      </a:lnTo>
                      <a:lnTo>
                        <a:pt x="339" y="97"/>
                      </a:lnTo>
                      <a:lnTo>
                        <a:pt x="383" y="123"/>
                      </a:lnTo>
                      <a:lnTo>
                        <a:pt x="432" y="110"/>
                      </a:lnTo>
                      <a:lnTo>
                        <a:pt x="449" y="57"/>
                      </a:lnTo>
                      <a:lnTo>
                        <a:pt x="498" y="44"/>
                      </a:lnTo>
                      <a:lnTo>
                        <a:pt x="485" y="8"/>
                      </a:lnTo>
                      <a:lnTo>
                        <a:pt x="552" y="35"/>
                      </a:lnTo>
                      <a:lnTo>
                        <a:pt x="609" y="22"/>
                      </a:lnTo>
                      <a:lnTo>
                        <a:pt x="640" y="149"/>
                      </a:lnTo>
                      <a:lnTo>
                        <a:pt x="680" y="189"/>
                      </a:lnTo>
                      <a:lnTo>
                        <a:pt x="719" y="189"/>
                      </a:lnTo>
                      <a:lnTo>
                        <a:pt x="737" y="110"/>
                      </a:lnTo>
                      <a:lnTo>
                        <a:pt x="728" y="70"/>
                      </a:lnTo>
                      <a:lnTo>
                        <a:pt x="737" y="8"/>
                      </a:lnTo>
                      <a:lnTo>
                        <a:pt x="759" y="0"/>
                      </a:lnTo>
                      <a:lnTo>
                        <a:pt x="790" y="79"/>
                      </a:lnTo>
                      <a:lnTo>
                        <a:pt x="816" y="97"/>
                      </a:lnTo>
                      <a:lnTo>
                        <a:pt x="834" y="167"/>
                      </a:lnTo>
                      <a:lnTo>
                        <a:pt x="865" y="264"/>
                      </a:lnTo>
                      <a:lnTo>
                        <a:pt x="909" y="291"/>
                      </a:lnTo>
                      <a:lnTo>
                        <a:pt x="966" y="366"/>
                      </a:lnTo>
                      <a:lnTo>
                        <a:pt x="975" y="401"/>
                      </a:lnTo>
                      <a:lnTo>
                        <a:pt x="1024" y="445"/>
                      </a:lnTo>
                      <a:lnTo>
                        <a:pt x="1037" y="525"/>
                      </a:lnTo>
                      <a:lnTo>
                        <a:pt x="1037" y="587"/>
                      </a:lnTo>
                      <a:lnTo>
                        <a:pt x="1024" y="684"/>
                      </a:lnTo>
                      <a:lnTo>
                        <a:pt x="975" y="746"/>
                      </a:lnTo>
                      <a:lnTo>
                        <a:pt x="957" y="825"/>
                      </a:lnTo>
                      <a:lnTo>
                        <a:pt x="957" y="891"/>
                      </a:lnTo>
                      <a:lnTo>
                        <a:pt x="909" y="904"/>
                      </a:lnTo>
                      <a:lnTo>
                        <a:pt x="865" y="9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16400" y="2362320"/>
                  <a:ext cx="27360" cy="41760"/>
                </a:xfrm>
                <a:custGeom>
                  <a:avLst/>
                  <a:gdLst/>
                  <a:ahLst/>
                  <a:rect l="0" t="0" r="r" b="b"/>
                  <a:pathLst>
                    <a:path w="76" h="116">
                      <a:moveTo>
                        <a:pt x="40" y="103"/>
                      </a:moveTo>
                      <a:lnTo>
                        <a:pt x="13" y="84"/>
                      </a:lnTo>
                      <a:lnTo>
                        <a:pt x="13" y="67"/>
                      </a:lnTo>
                      <a:lnTo>
                        <a:pt x="13" y="49"/>
                      </a:lnTo>
                      <a:lnTo>
                        <a:pt x="8" y="31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40" y="17"/>
                      </a:lnTo>
                      <a:lnTo>
                        <a:pt x="53" y="13"/>
                      </a:lnTo>
                      <a:lnTo>
                        <a:pt x="59" y="13"/>
                      </a:lnTo>
                      <a:lnTo>
                        <a:pt x="76" y="0"/>
                      </a:lnTo>
                      <a:lnTo>
                        <a:pt x="76" y="49"/>
                      </a:lnTo>
                      <a:lnTo>
                        <a:pt x="68" y="67"/>
                      </a:lnTo>
                      <a:lnTo>
                        <a:pt x="59" y="84"/>
                      </a:lnTo>
                      <a:lnTo>
                        <a:pt x="59" y="99"/>
                      </a:lnTo>
                      <a:lnTo>
                        <a:pt x="53" y="103"/>
                      </a:lnTo>
                      <a:lnTo>
                        <a:pt x="53" y="116"/>
                      </a:lnTo>
                      <a:lnTo>
                        <a:pt x="40" y="10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09960" y="1960560"/>
                  <a:ext cx="39960" cy="167040"/>
                </a:xfrm>
                <a:custGeom>
                  <a:avLst/>
                  <a:gdLst/>
                  <a:ahLst/>
                  <a:rect l="0" t="0" r="r" b="b"/>
                  <a:pathLst>
                    <a:path w="111" h="464">
                      <a:moveTo>
                        <a:pt x="13" y="163"/>
                      </a:moveTo>
                      <a:lnTo>
                        <a:pt x="58" y="123"/>
                      </a:lnTo>
                      <a:lnTo>
                        <a:pt x="89" y="0"/>
                      </a:lnTo>
                      <a:lnTo>
                        <a:pt x="111" y="185"/>
                      </a:lnTo>
                      <a:lnTo>
                        <a:pt x="75" y="415"/>
                      </a:lnTo>
                      <a:lnTo>
                        <a:pt x="0" y="464"/>
                      </a:lnTo>
                      <a:lnTo>
                        <a:pt x="0" y="353"/>
                      </a:lnTo>
                      <a:lnTo>
                        <a:pt x="22" y="283"/>
                      </a:lnTo>
                      <a:lnTo>
                        <a:pt x="13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‘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96 Frontiers in Education Con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v. 6-9, 1996 - Salt Lake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05040" y="4770360"/>
            <a:ext cx="379728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fox@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http://fox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6560" y="1711440"/>
            <a:ext cx="841860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teractive Learning with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gital Library 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omputer Scienc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ERACTIVE 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N (Algorithm visu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IT (automated 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Page Tree generator (according to link hierarchy, count # page access, see what machines are respo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 Access Graphing (layout of course pages based on count of # link of travers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QUIZ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L generates HTML &amp; answer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QL supports record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ed password request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 allows review of taken qu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 allows selection of next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ypes of questions are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provided if questions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Web  Page 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with access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d web site routine which follows links from a page to traverse the sub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has indenting fo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unt is for period of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” yields page, alphabetically sorted, accounting for a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Web Server Access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with server access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L script generates grap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nci (UNIX) front end handles layout and presentation, with zo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are from CS5604, 10/29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accesses increase as edges shift from light blue -&gt; green -&gt; yellow -&gt; red (color gradient based on Keller &amp; Ke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1604: Introduction to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3604: Professionalism in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4624: Multimedia, Hypertext and Informatio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5604: Information Storage and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roduction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either lecture or self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“information lite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 each term, summer, and at other institutions thru NSF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zed System of Instruction (Kel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tutorials for interactive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IT for interactive g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: Professionalism i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uidance for commun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s, Speaking,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direct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phy; Censorship; Copyrights, Patents, Trademarks, Intellectual Property; Community Values; Crime; Disabilities; Ethics; Freedom of Speech; Green Machines; Hacking; Impact; Liabilities; Privacy; Relationships; Responsibilities; Therac 25; Viruses; World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: Professionalism i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752480"/>
            <a:ext cx="7772400" cy="42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; Debates; Evaluations (past); Examinations (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End (syllabus, index, calendar, teacher and assistants, announc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or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(university, college, departmental, and course policies that affect the participants -- including the late assignment policy and the honor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: Professionalism i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series by BBC and WGB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Machine That Changed The World", by Jon Palfre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iquette: A.Rinaldi, Florida Atlantic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king: R. Barnhart, Heritage U.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s and the Computer: Living in the Electronic World- K. Bowyer, U. South F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M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Hypertext and Information Access - now a regular senior 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Development Efforts: ACM SIGIR and SIGMM (Multimed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er’s Personalized System of I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projects, field trips, digital video editing, work in “Interactive Accessibility”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: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SION: Interface, ACM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Reports: WATERS, NCS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Tools: SWAN, QUIZIT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less Courses: CS1604, 3604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: WWW Traff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: Follow-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fo. Storage &amp; Retr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1993 w. gopher, Fall 1994 on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er’s Personalized System of Instruction (mastery, tutoring, proceed at own pace, quick feedback, written un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95 included “distance learning”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motivational,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1/2 time, field trips, group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interviews using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IX app, 2 VTRs: computer/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nette, Fox, Hartson, Lee, Sha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: course, approach to pedagogy, purpose, goals, objectives, syllabus, what works well, less well, pros, cons, problems, successes, rationale, claims, scenarios/anecd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 and post-tests, Final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s: course,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i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1206 (10 groups), CS1704 (6 labs);   Full Classes: CS3604, CS56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WWW  Traffic 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4 figures in conferenc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sion shows R</a:t>
            </a:r>
            <a:r>
              <a:rPr b="0" lang="en-US" sz="2800" spc="-1" strike="noStrike" baseline="3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.56 if predicting # accesses by # students, “paper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classes pie charts: accesses,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1995 with 1996 regar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s,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 clients, uniqu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CONCLUS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Library: ENVISION, NCS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urses: Intro. to Internet, HCI, MHIA plus enhanced Profess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work on MHIA (HT, IR, 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: SWAN, QUIZIT, Web Page Tree, Web Server Access Graphing, deb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: infrastructure, pedagogy,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pages of online cours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integrated int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CONCLUS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Follow-o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-Wide Web Traffic Characterization with Application to In-network Caching and Prefetching (N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ng Statistics and Models across the Social Sciences Curricula (FIP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Graduate Ed. with a National Digital Library of Theses and Dissertations (FIPSE)   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F (CDA-9312611), ACM, Virginia Tech (CS Dept. , College of A&amp;S, Computing Cn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, STAF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ms, Barnette, France, Hartson, Heath, Hix, Lee, Ribbens, Rosson, Shaffer, Stand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ulla, Averboch, Hash, Heagy, Laughton, Nielsen, Nowell, Patel, Ribler, Tinoco, Wake, Williams,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RODUCTION: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digital library content&amp;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&amp;apply algorithm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new courses: freshman information literacy, HCI, 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ly change courses like Computer Professionalism to be more interactive and use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Digit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 “electronic librar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collection principle, support for searching and browsing of full tex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to aid education (e.g., reduce cost of multimedia development) and to help ensure “information lite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ble to CS: ACM / IEEE-CS, technical reports, theses/disser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EN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r-Centered Database from the Computer Science Literature (1991-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ed bib. data, converted to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d typesetter data to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d thousands of pag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AN search engine (used with Virginia Tech library catalog) used as part of prototype object-based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ENVISION: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by L. Nowell, assisted especially by R. France, D. Hix, and W.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windows: large query, small query, query list, and initial login (plus brow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works with MARIAN data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show: “cream rising” when relevance is on Y axis, visualization of patterns like growth of a fiel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TECHNICAL 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TR project supported by ARPA (Berkeley, CMU, Cornell, MIT, Stan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S project for other departments led by ODU, SUNY Buffalo, UVA, VPI&amp;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r summer 1995 to NCSTRL (Networked CS Tech Report Libr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arge departments now have jo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” server: UVA, “backup”: VPI&amp;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TECHNICAL  REPORT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NCSTRL    http://www.ncstrl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46280" y="158436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701800" y="3235320"/>
            <a:ext cx="1217520" cy="873000"/>
          </a:xfrm>
          <a:prstGeom prst="rect">
            <a:avLst/>
          </a:prstGeom>
          <a:noFill/>
          <a:ln w="25560">
            <a:solidFill>
              <a:srgbClr val="006b6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2120" y="3235320"/>
            <a:ext cx="1251000" cy="873000"/>
          </a:xfrm>
          <a:prstGeom prst="rect">
            <a:avLst/>
          </a:prstGeom>
          <a:noFill/>
          <a:ln w="25560">
            <a:solidFill>
              <a:srgbClr val="8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01800" y="4606920"/>
            <a:ext cx="793800" cy="5079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69040" y="3235320"/>
            <a:ext cx="1200240" cy="12384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701800" y="5597640"/>
            <a:ext cx="793800" cy="5079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92920" y="3235320"/>
            <a:ext cx="1200240" cy="12384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905120"/>
            <a:ext cx="15228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905120"/>
            <a:ext cx="137160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1905120"/>
            <a:ext cx="1295280" cy="27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905120"/>
            <a:ext cx="121896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828800"/>
            <a:ext cx="396216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752480"/>
            <a:ext cx="5486400" cy="15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Systems</dc:creator>
  <dc:description/>
  <dc:language>en-US</dc:language>
  <cp:lastModifiedBy>Information Systems</cp:lastModifiedBy>
  <cp:revision>0</cp:revision>
  <dc:subject/>
  <dc:title>NSF CISE EI (Educational Innovation) PIs Meeting November 5-7, 1996 Salt Lake City, Utah </dc:title>
</cp:coreProperties>
</file>