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333268D-BDB4-495B-94EB-DA2D31CF49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4367160"/>
            <a:ext cx="9131400" cy="2478240"/>
            <a:chOff x="0" y="4367160"/>
            <a:chExt cx="9131400" cy="2478240"/>
          </a:xfrm>
        </p:grpSpPr>
        <p:sp>
          <p:nvSpPr>
            <p:cNvPr id="1" name=""/>
            <p:cNvSpPr/>
            <p:nvPr/>
          </p:nvSpPr>
          <p:spPr>
            <a:xfrm>
              <a:off x="0" y="6477120"/>
              <a:ext cx="9131400" cy="3682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7f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077240" y="4367160"/>
              <a:ext cx="1887480" cy="2262600"/>
              <a:chOff x="7077240" y="4367160"/>
              <a:chExt cx="1887480" cy="2262600"/>
            </a:xfrm>
          </p:grpSpPr>
          <p:sp>
            <p:nvSpPr>
              <p:cNvPr id="3" name=""/>
              <p:cNvSpPr/>
              <p:nvPr/>
            </p:nvSpPr>
            <p:spPr>
              <a:xfrm>
                <a:off x="7324560" y="4429080"/>
                <a:ext cx="1640160" cy="2019600"/>
              </a:xfrm>
              <a:custGeom>
                <a:avLst/>
                <a:gdLst/>
                <a:ahLst/>
                <a:rect l="0" t="0" r="r" b="b"/>
                <a:pathLst>
                  <a:path w="4556" h="5610">
                    <a:moveTo>
                      <a:pt x="2567" y="0"/>
                    </a:moveTo>
                    <a:lnTo>
                      <a:pt x="2849" y="101"/>
                    </a:lnTo>
                    <a:lnTo>
                      <a:pt x="3118" y="246"/>
                    </a:lnTo>
                    <a:lnTo>
                      <a:pt x="3374" y="405"/>
                    </a:lnTo>
                    <a:lnTo>
                      <a:pt x="3608" y="590"/>
                    </a:lnTo>
                    <a:lnTo>
                      <a:pt x="3819" y="811"/>
                    </a:lnTo>
                    <a:lnTo>
                      <a:pt x="4005" y="1045"/>
                    </a:lnTo>
                    <a:lnTo>
                      <a:pt x="4163" y="1296"/>
                    </a:lnTo>
                    <a:lnTo>
                      <a:pt x="4309" y="1556"/>
                    </a:lnTo>
                    <a:lnTo>
                      <a:pt x="4410" y="1838"/>
                    </a:lnTo>
                    <a:lnTo>
                      <a:pt x="4490" y="2129"/>
                    </a:lnTo>
                    <a:lnTo>
                      <a:pt x="4543" y="2425"/>
                    </a:lnTo>
                    <a:lnTo>
                      <a:pt x="4556" y="2729"/>
                    </a:lnTo>
                    <a:lnTo>
                      <a:pt x="4543" y="3034"/>
                    </a:lnTo>
                    <a:lnTo>
                      <a:pt x="4490" y="3334"/>
                    </a:lnTo>
                    <a:lnTo>
                      <a:pt x="4410" y="3621"/>
                    </a:lnTo>
                    <a:lnTo>
                      <a:pt x="4309" y="3899"/>
                    </a:lnTo>
                    <a:lnTo>
                      <a:pt x="4163" y="4163"/>
                    </a:lnTo>
                    <a:lnTo>
                      <a:pt x="4005" y="4423"/>
                    </a:lnTo>
                    <a:lnTo>
                      <a:pt x="3819" y="4653"/>
                    </a:lnTo>
                    <a:lnTo>
                      <a:pt x="3608" y="4873"/>
                    </a:lnTo>
                    <a:lnTo>
                      <a:pt x="3374" y="5063"/>
                    </a:lnTo>
                    <a:lnTo>
                      <a:pt x="3118" y="5217"/>
                    </a:lnTo>
                    <a:lnTo>
                      <a:pt x="2849" y="5358"/>
                    </a:lnTo>
                    <a:lnTo>
                      <a:pt x="2567" y="5464"/>
                    </a:lnTo>
                    <a:lnTo>
                      <a:pt x="2280" y="5544"/>
                    </a:lnTo>
                    <a:lnTo>
                      <a:pt x="1984" y="5596"/>
                    </a:lnTo>
                    <a:lnTo>
                      <a:pt x="1684" y="5610"/>
                    </a:lnTo>
                    <a:lnTo>
                      <a:pt x="1380" y="5596"/>
                    </a:lnTo>
                    <a:lnTo>
                      <a:pt x="1084" y="5544"/>
                    </a:lnTo>
                    <a:lnTo>
                      <a:pt x="793" y="5464"/>
                    </a:lnTo>
                    <a:lnTo>
                      <a:pt x="520" y="5358"/>
                    </a:lnTo>
                    <a:lnTo>
                      <a:pt x="251" y="5217"/>
                    </a:lnTo>
                    <a:lnTo>
                      <a:pt x="0" y="5063"/>
                    </a:lnTo>
                    <a:lnTo>
                      <a:pt x="158" y="4829"/>
                    </a:lnTo>
                    <a:lnTo>
                      <a:pt x="392" y="4979"/>
                    </a:lnTo>
                    <a:lnTo>
                      <a:pt x="635" y="5098"/>
                    </a:lnTo>
                    <a:lnTo>
                      <a:pt x="886" y="5200"/>
                    </a:lnTo>
                    <a:lnTo>
                      <a:pt x="1150" y="5270"/>
                    </a:lnTo>
                    <a:lnTo>
                      <a:pt x="1411" y="5310"/>
                    </a:lnTo>
                    <a:lnTo>
                      <a:pt x="1684" y="5327"/>
                    </a:lnTo>
                    <a:lnTo>
                      <a:pt x="1953" y="5310"/>
                    </a:lnTo>
                    <a:lnTo>
                      <a:pt x="2222" y="5270"/>
                    </a:lnTo>
                    <a:lnTo>
                      <a:pt x="2483" y="5200"/>
                    </a:lnTo>
                    <a:lnTo>
                      <a:pt x="2739" y="5098"/>
                    </a:lnTo>
                    <a:lnTo>
                      <a:pt x="2977" y="4979"/>
                    </a:lnTo>
                    <a:lnTo>
                      <a:pt x="3206" y="4829"/>
                    </a:lnTo>
                    <a:lnTo>
                      <a:pt x="3418" y="4662"/>
                    </a:lnTo>
                    <a:lnTo>
                      <a:pt x="3608" y="4468"/>
                    </a:lnTo>
                    <a:lnTo>
                      <a:pt x="3780" y="4256"/>
                    </a:lnTo>
                    <a:lnTo>
                      <a:pt x="3925" y="4027"/>
                    </a:lnTo>
                    <a:lnTo>
                      <a:pt x="4053" y="3784"/>
                    </a:lnTo>
                    <a:lnTo>
                      <a:pt x="4150" y="3537"/>
                    </a:lnTo>
                    <a:lnTo>
                      <a:pt x="4216" y="3273"/>
                    </a:lnTo>
                    <a:lnTo>
                      <a:pt x="4256" y="2999"/>
                    </a:lnTo>
                    <a:lnTo>
                      <a:pt x="4274" y="2729"/>
                    </a:lnTo>
                    <a:lnTo>
                      <a:pt x="4256" y="2456"/>
                    </a:lnTo>
                    <a:lnTo>
                      <a:pt x="4216" y="2187"/>
                    </a:lnTo>
                    <a:lnTo>
                      <a:pt x="4150" y="1927"/>
                    </a:lnTo>
                    <a:lnTo>
                      <a:pt x="4053" y="1680"/>
                    </a:lnTo>
                    <a:lnTo>
                      <a:pt x="3925" y="1433"/>
                    </a:lnTo>
                    <a:lnTo>
                      <a:pt x="3780" y="1203"/>
                    </a:lnTo>
                    <a:lnTo>
                      <a:pt x="3608" y="992"/>
                    </a:lnTo>
                    <a:lnTo>
                      <a:pt x="3418" y="802"/>
                    </a:lnTo>
                    <a:lnTo>
                      <a:pt x="3206" y="635"/>
                    </a:lnTo>
                    <a:lnTo>
                      <a:pt x="2977" y="485"/>
                    </a:lnTo>
                    <a:lnTo>
                      <a:pt x="2739" y="357"/>
                    </a:lnTo>
                    <a:lnTo>
                      <a:pt x="2483" y="268"/>
                    </a:lnTo>
                    <a:lnTo>
                      <a:pt x="2492" y="246"/>
                    </a:lnTo>
                    <a:lnTo>
                      <a:pt x="256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ff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V="1">
                <a:off x="7364520" y="6132600"/>
                <a:ext cx="163440" cy="295200"/>
              </a:xfrm>
              <a:prstGeom prst="line">
                <a:avLst/>
              </a:prstGeom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V="1">
                <a:off x="8271000" y="4562640"/>
                <a:ext cx="56880" cy="112680"/>
              </a:xfrm>
              <a:prstGeom prst="line">
                <a:avLst/>
              </a:prstGeom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5080" bIns="55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V="1">
                <a:off x="8366040" y="4367160"/>
                <a:ext cx="57240" cy="112680"/>
              </a:xfrm>
              <a:prstGeom prst="line">
                <a:avLst/>
              </a:prstGeom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5080" bIns="55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545240" y="6456240"/>
                <a:ext cx="957600" cy="173520"/>
              </a:xfrm>
              <a:custGeom>
                <a:avLst/>
                <a:gdLst/>
                <a:ahLst/>
                <a:rect l="0" t="0" r="r" b="b"/>
                <a:pathLst>
                  <a:path w="2660" h="482">
                    <a:moveTo>
                      <a:pt x="8" y="309"/>
                    </a:moveTo>
                    <a:lnTo>
                      <a:pt x="61" y="252"/>
                    </a:lnTo>
                    <a:lnTo>
                      <a:pt x="136" y="203"/>
                    </a:lnTo>
                    <a:lnTo>
                      <a:pt x="277" y="133"/>
                    </a:lnTo>
                    <a:lnTo>
                      <a:pt x="440" y="92"/>
                    </a:lnTo>
                    <a:lnTo>
                      <a:pt x="590" y="57"/>
                    </a:lnTo>
                    <a:lnTo>
                      <a:pt x="798" y="26"/>
                    </a:lnTo>
                    <a:lnTo>
                      <a:pt x="992" y="8"/>
                    </a:lnTo>
                    <a:lnTo>
                      <a:pt x="1221" y="0"/>
                    </a:lnTo>
                    <a:lnTo>
                      <a:pt x="1500" y="0"/>
                    </a:lnTo>
                    <a:lnTo>
                      <a:pt x="1795" y="17"/>
                    </a:lnTo>
                    <a:lnTo>
                      <a:pt x="1998" y="44"/>
                    </a:lnTo>
                    <a:lnTo>
                      <a:pt x="2214" y="83"/>
                    </a:lnTo>
                    <a:lnTo>
                      <a:pt x="2421" y="146"/>
                    </a:lnTo>
                    <a:lnTo>
                      <a:pt x="2527" y="208"/>
                    </a:lnTo>
                    <a:lnTo>
                      <a:pt x="2593" y="256"/>
                    </a:lnTo>
                    <a:lnTo>
                      <a:pt x="2660" y="340"/>
                    </a:lnTo>
                    <a:lnTo>
                      <a:pt x="2549" y="385"/>
                    </a:lnTo>
                    <a:lnTo>
                      <a:pt x="2364" y="420"/>
                    </a:lnTo>
                    <a:lnTo>
                      <a:pt x="2139" y="447"/>
                    </a:lnTo>
                    <a:lnTo>
                      <a:pt x="1923" y="469"/>
                    </a:lnTo>
                    <a:lnTo>
                      <a:pt x="1663" y="478"/>
                    </a:lnTo>
                    <a:lnTo>
                      <a:pt x="1381" y="482"/>
                    </a:lnTo>
                    <a:lnTo>
                      <a:pt x="1111" y="482"/>
                    </a:lnTo>
                    <a:lnTo>
                      <a:pt x="829" y="478"/>
                    </a:lnTo>
                    <a:lnTo>
                      <a:pt x="515" y="451"/>
                    </a:lnTo>
                    <a:lnTo>
                      <a:pt x="268" y="425"/>
                    </a:lnTo>
                    <a:lnTo>
                      <a:pt x="61" y="381"/>
                    </a:lnTo>
                    <a:lnTo>
                      <a:pt x="0" y="344"/>
                    </a:lnTo>
                    <a:lnTo>
                      <a:pt x="8" y="30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077240" y="4570560"/>
                <a:ext cx="1704960" cy="1703520"/>
              </a:xfrm>
              <a:prstGeom prst="ellipse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" name=""/>
              <p:cNvGrpSpPr/>
              <p:nvPr/>
            </p:nvGrpSpPr>
            <p:grpSpPr>
              <a:xfrm>
                <a:off x="7077240" y="4748040"/>
                <a:ext cx="1584720" cy="1264320"/>
                <a:chOff x="7077240" y="4748040"/>
                <a:chExt cx="1584720" cy="1264320"/>
              </a:xfrm>
            </p:grpSpPr>
            <p:sp>
              <p:nvSpPr>
                <p:cNvPr id="10" name=""/>
                <p:cNvSpPr/>
                <p:nvPr/>
              </p:nvSpPr>
              <p:spPr>
                <a:xfrm>
                  <a:off x="7300800" y="5211720"/>
                  <a:ext cx="0" cy="25200"/>
                </a:xfrm>
                <a:custGeom>
                  <a:avLst/>
                  <a:gdLst/>
                  <a:ahLst/>
                  <a:rect l="0" t="0" r="r" b="b"/>
                  <a:pathLst>
                    <a:path w="0" h="70">
                      <a:moveTo>
                        <a:pt x="0" y="0"/>
                      </a:moveTo>
                      <a:lnTo>
                        <a:pt x="0" y="70"/>
                      </a:lnTo>
                      <a:lnTo>
                        <a:pt x="0" y="2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7327800" y="52466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0"/>
                      </a:moveTo>
                      <a:lnTo>
                        <a:pt x="72" y="0"/>
                      </a:lnTo>
                      <a:lnTo>
                        <a:pt x="72" y="7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7419960" y="5199120"/>
                  <a:ext cx="57600" cy="54360"/>
                </a:xfrm>
                <a:custGeom>
                  <a:avLst/>
                  <a:gdLst/>
                  <a:ahLst/>
                  <a:rect l="0" t="0" r="r" b="b"/>
                  <a:pathLst>
                    <a:path w="160" h="151">
                      <a:moveTo>
                        <a:pt x="160" y="0"/>
                      </a:moveTo>
                      <a:lnTo>
                        <a:pt x="98" y="0"/>
                      </a:lnTo>
                      <a:lnTo>
                        <a:pt x="62" y="40"/>
                      </a:lnTo>
                      <a:lnTo>
                        <a:pt x="39" y="40"/>
                      </a:lnTo>
                      <a:lnTo>
                        <a:pt x="22" y="58"/>
                      </a:lnTo>
                      <a:lnTo>
                        <a:pt x="0" y="58"/>
                      </a:lnTo>
                      <a:lnTo>
                        <a:pt x="0" y="111"/>
                      </a:lnTo>
                      <a:lnTo>
                        <a:pt x="35" y="151"/>
                      </a:lnTo>
                      <a:lnTo>
                        <a:pt x="129" y="151"/>
                      </a:lnTo>
                      <a:lnTo>
                        <a:pt x="160" y="111"/>
                      </a:lnTo>
                      <a:lnTo>
                        <a:pt x="16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077240" y="5243400"/>
                  <a:ext cx="513000" cy="668520"/>
                </a:xfrm>
                <a:custGeom>
                  <a:avLst/>
                  <a:gdLst/>
                  <a:ahLst/>
                  <a:rect l="0" t="0" r="r" b="b"/>
                  <a:pathLst>
                    <a:path w="1425" h="1857">
                      <a:moveTo>
                        <a:pt x="335" y="0"/>
                      </a:moveTo>
                      <a:lnTo>
                        <a:pt x="313" y="48"/>
                      </a:lnTo>
                      <a:lnTo>
                        <a:pt x="198" y="145"/>
                      </a:lnTo>
                      <a:lnTo>
                        <a:pt x="176" y="233"/>
                      </a:lnTo>
                      <a:lnTo>
                        <a:pt x="92" y="299"/>
                      </a:lnTo>
                      <a:lnTo>
                        <a:pt x="35" y="423"/>
                      </a:lnTo>
                      <a:lnTo>
                        <a:pt x="35" y="502"/>
                      </a:lnTo>
                      <a:lnTo>
                        <a:pt x="0" y="635"/>
                      </a:lnTo>
                      <a:lnTo>
                        <a:pt x="48" y="692"/>
                      </a:lnTo>
                      <a:lnTo>
                        <a:pt x="176" y="859"/>
                      </a:lnTo>
                      <a:lnTo>
                        <a:pt x="211" y="837"/>
                      </a:lnTo>
                      <a:lnTo>
                        <a:pt x="436" y="837"/>
                      </a:lnTo>
                      <a:lnTo>
                        <a:pt x="542" y="877"/>
                      </a:lnTo>
                      <a:lnTo>
                        <a:pt x="533" y="1010"/>
                      </a:lnTo>
                      <a:lnTo>
                        <a:pt x="608" y="1182"/>
                      </a:lnTo>
                      <a:lnTo>
                        <a:pt x="604" y="1231"/>
                      </a:lnTo>
                      <a:lnTo>
                        <a:pt x="635" y="1284"/>
                      </a:lnTo>
                      <a:lnTo>
                        <a:pt x="586" y="1407"/>
                      </a:lnTo>
                      <a:lnTo>
                        <a:pt x="643" y="1562"/>
                      </a:lnTo>
                      <a:lnTo>
                        <a:pt x="674" y="1685"/>
                      </a:lnTo>
                      <a:lnTo>
                        <a:pt x="715" y="1760"/>
                      </a:lnTo>
                      <a:lnTo>
                        <a:pt x="755" y="1857"/>
                      </a:lnTo>
                      <a:lnTo>
                        <a:pt x="830" y="1844"/>
                      </a:lnTo>
                      <a:lnTo>
                        <a:pt x="953" y="1773"/>
                      </a:lnTo>
                      <a:lnTo>
                        <a:pt x="1010" y="1685"/>
                      </a:lnTo>
                      <a:lnTo>
                        <a:pt x="1006" y="1628"/>
                      </a:lnTo>
                      <a:lnTo>
                        <a:pt x="1081" y="1584"/>
                      </a:lnTo>
                      <a:lnTo>
                        <a:pt x="1068" y="1500"/>
                      </a:lnTo>
                      <a:lnTo>
                        <a:pt x="1178" y="1368"/>
                      </a:lnTo>
                      <a:lnTo>
                        <a:pt x="1196" y="1257"/>
                      </a:lnTo>
                      <a:lnTo>
                        <a:pt x="1165" y="1222"/>
                      </a:lnTo>
                      <a:lnTo>
                        <a:pt x="1178" y="1178"/>
                      </a:lnTo>
                      <a:lnTo>
                        <a:pt x="1151" y="1138"/>
                      </a:lnTo>
                      <a:lnTo>
                        <a:pt x="1235" y="1032"/>
                      </a:lnTo>
                      <a:lnTo>
                        <a:pt x="1235" y="979"/>
                      </a:lnTo>
                      <a:lnTo>
                        <a:pt x="1350" y="890"/>
                      </a:lnTo>
                      <a:lnTo>
                        <a:pt x="1425" y="652"/>
                      </a:lnTo>
                      <a:lnTo>
                        <a:pt x="1319" y="714"/>
                      </a:lnTo>
                      <a:lnTo>
                        <a:pt x="1226" y="687"/>
                      </a:lnTo>
                      <a:lnTo>
                        <a:pt x="1240" y="630"/>
                      </a:lnTo>
                      <a:lnTo>
                        <a:pt x="1147" y="568"/>
                      </a:lnTo>
                      <a:lnTo>
                        <a:pt x="1103" y="414"/>
                      </a:lnTo>
                      <a:lnTo>
                        <a:pt x="1015" y="291"/>
                      </a:lnTo>
                      <a:lnTo>
                        <a:pt x="1015" y="207"/>
                      </a:lnTo>
                      <a:lnTo>
                        <a:pt x="966" y="202"/>
                      </a:lnTo>
                      <a:lnTo>
                        <a:pt x="935" y="216"/>
                      </a:lnTo>
                      <a:lnTo>
                        <a:pt x="803" y="167"/>
                      </a:lnTo>
                      <a:lnTo>
                        <a:pt x="768" y="202"/>
                      </a:lnTo>
                      <a:lnTo>
                        <a:pt x="737" y="246"/>
                      </a:lnTo>
                      <a:lnTo>
                        <a:pt x="665" y="167"/>
                      </a:lnTo>
                      <a:lnTo>
                        <a:pt x="595" y="145"/>
                      </a:lnTo>
                      <a:lnTo>
                        <a:pt x="590" y="44"/>
                      </a:lnTo>
                      <a:lnTo>
                        <a:pt x="489" y="61"/>
                      </a:lnTo>
                      <a:lnTo>
                        <a:pt x="423" y="39"/>
                      </a:lnTo>
                      <a:lnTo>
                        <a:pt x="335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8263080" y="5410080"/>
                  <a:ext cx="25920" cy="32040"/>
                </a:xfrm>
                <a:custGeom>
                  <a:avLst/>
                  <a:gdLst/>
                  <a:ahLst/>
                  <a:rect l="0" t="0" r="r" b="b"/>
                  <a:pathLst>
                    <a:path w="72" h="89">
                      <a:moveTo>
                        <a:pt x="31" y="0"/>
                      </a:moveTo>
                      <a:lnTo>
                        <a:pt x="40" y="22"/>
                      </a:lnTo>
                      <a:lnTo>
                        <a:pt x="31" y="45"/>
                      </a:lnTo>
                      <a:lnTo>
                        <a:pt x="31" y="62"/>
                      </a:lnTo>
                      <a:lnTo>
                        <a:pt x="72" y="75"/>
                      </a:lnTo>
                      <a:lnTo>
                        <a:pt x="72" y="89"/>
                      </a:lnTo>
                      <a:lnTo>
                        <a:pt x="40" y="75"/>
                      </a:lnTo>
                      <a:lnTo>
                        <a:pt x="13" y="89"/>
                      </a:lnTo>
                      <a:lnTo>
                        <a:pt x="0" y="75"/>
                      </a:lnTo>
                      <a:lnTo>
                        <a:pt x="13" y="62"/>
                      </a:lnTo>
                      <a:lnTo>
                        <a:pt x="0" y="45"/>
                      </a:lnTo>
                      <a:lnTo>
                        <a:pt x="13" y="8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8166240" y="5549760"/>
                  <a:ext cx="76680" cy="109800"/>
                </a:xfrm>
                <a:custGeom>
                  <a:avLst/>
                  <a:gdLst/>
                  <a:ahLst/>
                  <a:rect l="0" t="0" r="r" b="b"/>
                  <a:pathLst>
                    <a:path w="213" h="305">
                      <a:moveTo>
                        <a:pt x="0" y="149"/>
                      </a:moveTo>
                      <a:lnTo>
                        <a:pt x="75" y="149"/>
                      </a:lnTo>
                      <a:lnTo>
                        <a:pt x="165" y="0"/>
                      </a:lnTo>
                      <a:lnTo>
                        <a:pt x="213" y="88"/>
                      </a:lnTo>
                      <a:lnTo>
                        <a:pt x="173" y="305"/>
                      </a:lnTo>
                      <a:lnTo>
                        <a:pt x="13" y="252"/>
                      </a:lnTo>
                      <a:lnTo>
                        <a:pt x="0" y="14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8319960" y="5592600"/>
                  <a:ext cx="132120" cy="105120"/>
                </a:xfrm>
                <a:custGeom>
                  <a:avLst/>
                  <a:gdLst/>
                  <a:ahLst/>
                  <a:rect l="0" t="0" r="r" b="b"/>
                  <a:pathLst>
                    <a:path w="367" h="292">
                      <a:moveTo>
                        <a:pt x="22" y="66"/>
                      </a:moveTo>
                      <a:lnTo>
                        <a:pt x="0" y="0"/>
                      </a:lnTo>
                      <a:lnTo>
                        <a:pt x="119" y="26"/>
                      </a:lnTo>
                      <a:lnTo>
                        <a:pt x="296" y="97"/>
                      </a:lnTo>
                      <a:lnTo>
                        <a:pt x="296" y="150"/>
                      </a:lnTo>
                      <a:lnTo>
                        <a:pt x="367" y="292"/>
                      </a:lnTo>
                      <a:lnTo>
                        <a:pt x="230" y="159"/>
                      </a:lnTo>
                      <a:lnTo>
                        <a:pt x="136" y="168"/>
                      </a:lnTo>
                      <a:lnTo>
                        <a:pt x="22" y="6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8572680" y="5810400"/>
                  <a:ext cx="89280" cy="114840"/>
                </a:xfrm>
                <a:custGeom>
                  <a:avLst/>
                  <a:gdLst/>
                  <a:ahLst/>
                  <a:rect l="0" t="0" r="r" b="b"/>
                  <a:pathLst>
                    <a:path w="248" h="319">
                      <a:moveTo>
                        <a:pt x="150" y="0"/>
                      </a:moveTo>
                      <a:lnTo>
                        <a:pt x="248" y="93"/>
                      </a:lnTo>
                      <a:lnTo>
                        <a:pt x="48" y="319"/>
                      </a:lnTo>
                      <a:lnTo>
                        <a:pt x="0" y="266"/>
                      </a:lnTo>
                      <a:lnTo>
                        <a:pt x="142" y="124"/>
                      </a:lnTo>
                      <a:lnTo>
                        <a:pt x="15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7236000" y="5027760"/>
                  <a:ext cx="44640" cy="74880"/>
                </a:xfrm>
                <a:custGeom>
                  <a:avLst/>
                  <a:gdLst/>
                  <a:ahLst/>
                  <a:rect l="0" t="0" r="r" b="b"/>
                  <a:pathLst>
                    <a:path w="124" h="208">
                      <a:moveTo>
                        <a:pt x="124" y="159"/>
                      </a:moveTo>
                      <a:lnTo>
                        <a:pt x="89" y="137"/>
                      </a:lnTo>
                      <a:lnTo>
                        <a:pt x="89" y="44"/>
                      </a:lnTo>
                      <a:lnTo>
                        <a:pt x="106" y="22"/>
                      </a:lnTo>
                      <a:lnTo>
                        <a:pt x="75" y="22"/>
                      </a:lnTo>
                      <a:lnTo>
                        <a:pt x="93" y="0"/>
                      </a:lnTo>
                      <a:lnTo>
                        <a:pt x="71" y="0"/>
                      </a:lnTo>
                      <a:lnTo>
                        <a:pt x="44" y="26"/>
                      </a:lnTo>
                      <a:lnTo>
                        <a:pt x="44" y="83"/>
                      </a:lnTo>
                      <a:lnTo>
                        <a:pt x="57" y="97"/>
                      </a:lnTo>
                      <a:lnTo>
                        <a:pt x="57" y="124"/>
                      </a:lnTo>
                      <a:lnTo>
                        <a:pt x="48" y="124"/>
                      </a:lnTo>
                      <a:lnTo>
                        <a:pt x="26" y="146"/>
                      </a:lnTo>
                      <a:lnTo>
                        <a:pt x="26" y="168"/>
                      </a:lnTo>
                      <a:lnTo>
                        <a:pt x="0" y="208"/>
                      </a:lnTo>
                      <a:lnTo>
                        <a:pt x="93" y="208"/>
                      </a:lnTo>
                      <a:lnTo>
                        <a:pt x="124" y="15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7221600" y="50529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59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45" y="0"/>
                      </a:lnTo>
                      <a:lnTo>
                        <a:pt x="0" y="45"/>
                      </a:lnTo>
                      <a:lnTo>
                        <a:pt x="0" y="72"/>
                      </a:lnTo>
                      <a:lnTo>
                        <a:pt x="40" y="72"/>
                      </a:lnTo>
                      <a:lnTo>
                        <a:pt x="59" y="49"/>
                      </a:lnTo>
                      <a:lnTo>
                        <a:pt x="59" y="23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7186680" y="5008680"/>
                  <a:ext cx="290880" cy="244800"/>
                </a:xfrm>
                <a:custGeom>
                  <a:avLst/>
                  <a:gdLst/>
                  <a:ahLst/>
                  <a:rect l="0" t="0" r="r" b="b"/>
                  <a:pathLst>
                    <a:path w="808" h="680">
                      <a:moveTo>
                        <a:pt x="530" y="0"/>
                      </a:moveTo>
                      <a:lnTo>
                        <a:pt x="530" y="44"/>
                      </a:lnTo>
                      <a:lnTo>
                        <a:pt x="547" y="61"/>
                      </a:lnTo>
                      <a:lnTo>
                        <a:pt x="637" y="61"/>
                      </a:lnTo>
                      <a:lnTo>
                        <a:pt x="637" y="88"/>
                      </a:lnTo>
                      <a:lnTo>
                        <a:pt x="569" y="88"/>
                      </a:lnTo>
                      <a:lnTo>
                        <a:pt x="569" y="163"/>
                      </a:lnTo>
                      <a:lnTo>
                        <a:pt x="543" y="127"/>
                      </a:lnTo>
                      <a:lnTo>
                        <a:pt x="543" y="176"/>
                      </a:lnTo>
                      <a:lnTo>
                        <a:pt x="503" y="220"/>
                      </a:lnTo>
                      <a:lnTo>
                        <a:pt x="481" y="194"/>
                      </a:lnTo>
                      <a:lnTo>
                        <a:pt x="441" y="224"/>
                      </a:lnTo>
                      <a:lnTo>
                        <a:pt x="437" y="216"/>
                      </a:lnTo>
                      <a:lnTo>
                        <a:pt x="389" y="216"/>
                      </a:lnTo>
                      <a:lnTo>
                        <a:pt x="415" y="185"/>
                      </a:lnTo>
                      <a:lnTo>
                        <a:pt x="415" y="171"/>
                      </a:lnTo>
                      <a:lnTo>
                        <a:pt x="389" y="149"/>
                      </a:lnTo>
                      <a:lnTo>
                        <a:pt x="389" y="114"/>
                      </a:lnTo>
                      <a:lnTo>
                        <a:pt x="358" y="149"/>
                      </a:lnTo>
                      <a:lnTo>
                        <a:pt x="358" y="216"/>
                      </a:lnTo>
                      <a:lnTo>
                        <a:pt x="322" y="216"/>
                      </a:lnTo>
                      <a:lnTo>
                        <a:pt x="274" y="264"/>
                      </a:lnTo>
                      <a:lnTo>
                        <a:pt x="256" y="264"/>
                      </a:lnTo>
                      <a:lnTo>
                        <a:pt x="230" y="295"/>
                      </a:lnTo>
                      <a:lnTo>
                        <a:pt x="132" y="295"/>
                      </a:lnTo>
                      <a:lnTo>
                        <a:pt x="167" y="339"/>
                      </a:lnTo>
                      <a:lnTo>
                        <a:pt x="167" y="411"/>
                      </a:lnTo>
                      <a:lnTo>
                        <a:pt x="132" y="450"/>
                      </a:lnTo>
                      <a:lnTo>
                        <a:pt x="97" y="411"/>
                      </a:lnTo>
                      <a:lnTo>
                        <a:pt x="22" y="411"/>
                      </a:lnTo>
                      <a:lnTo>
                        <a:pt x="22" y="459"/>
                      </a:lnTo>
                      <a:lnTo>
                        <a:pt x="0" y="490"/>
                      </a:lnTo>
                      <a:lnTo>
                        <a:pt x="0" y="556"/>
                      </a:lnTo>
                      <a:lnTo>
                        <a:pt x="44" y="609"/>
                      </a:lnTo>
                      <a:lnTo>
                        <a:pt x="114" y="609"/>
                      </a:lnTo>
                      <a:lnTo>
                        <a:pt x="221" y="481"/>
                      </a:lnTo>
                      <a:lnTo>
                        <a:pt x="318" y="481"/>
                      </a:lnTo>
                      <a:lnTo>
                        <a:pt x="331" y="455"/>
                      </a:lnTo>
                      <a:lnTo>
                        <a:pt x="353" y="481"/>
                      </a:lnTo>
                      <a:lnTo>
                        <a:pt x="349" y="508"/>
                      </a:lnTo>
                      <a:lnTo>
                        <a:pt x="437" y="596"/>
                      </a:lnTo>
                      <a:lnTo>
                        <a:pt x="437" y="631"/>
                      </a:lnTo>
                      <a:lnTo>
                        <a:pt x="459" y="618"/>
                      </a:lnTo>
                      <a:lnTo>
                        <a:pt x="446" y="596"/>
                      </a:lnTo>
                      <a:lnTo>
                        <a:pt x="459" y="583"/>
                      </a:lnTo>
                      <a:lnTo>
                        <a:pt x="472" y="596"/>
                      </a:lnTo>
                      <a:lnTo>
                        <a:pt x="481" y="591"/>
                      </a:lnTo>
                      <a:lnTo>
                        <a:pt x="389" y="477"/>
                      </a:lnTo>
                      <a:lnTo>
                        <a:pt x="389" y="437"/>
                      </a:lnTo>
                      <a:lnTo>
                        <a:pt x="415" y="437"/>
                      </a:lnTo>
                      <a:lnTo>
                        <a:pt x="415" y="459"/>
                      </a:lnTo>
                      <a:lnTo>
                        <a:pt x="503" y="561"/>
                      </a:lnTo>
                      <a:lnTo>
                        <a:pt x="503" y="591"/>
                      </a:lnTo>
                      <a:lnTo>
                        <a:pt x="543" y="636"/>
                      </a:lnTo>
                      <a:lnTo>
                        <a:pt x="534" y="644"/>
                      </a:lnTo>
                      <a:lnTo>
                        <a:pt x="561" y="680"/>
                      </a:lnTo>
                      <a:lnTo>
                        <a:pt x="605" y="631"/>
                      </a:lnTo>
                      <a:lnTo>
                        <a:pt x="578" y="600"/>
                      </a:lnTo>
                      <a:lnTo>
                        <a:pt x="605" y="574"/>
                      </a:lnTo>
                      <a:lnTo>
                        <a:pt x="637" y="574"/>
                      </a:lnTo>
                      <a:lnTo>
                        <a:pt x="654" y="556"/>
                      </a:lnTo>
                      <a:lnTo>
                        <a:pt x="676" y="556"/>
                      </a:lnTo>
                      <a:lnTo>
                        <a:pt x="650" y="516"/>
                      </a:lnTo>
                      <a:lnTo>
                        <a:pt x="663" y="499"/>
                      </a:lnTo>
                      <a:lnTo>
                        <a:pt x="663" y="433"/>
                      </a:lnTo>
                      <a:lnTo>
                        <a:pt x="694" y="397"/>
                      </a:lnTo>
                      <a:lnTo>
                        <a:pt x="707" y="411"/>
                      </a:lnTo>
                      <a:lnTo>
                        <a:pt x="734" y="411"/>
                      </a:lnTo>
                      <a:lnTo>
                        <a:pt x="720" y="428"/>
                      </a:lnTo>
                      <a:lnTo>
                        <a:pt x="747" y="455"/>
                      </a:lnTo>
                      <a:lnTo>
                        <a:pt x="760" y="433"/>
                      </a:lnTo>
                      <a:lnTo>
                        <a:pt x="782" y="433"/>
                      </a:lnTo>
                      <a:lnTo>
                        <a:pt x="782" y="419"/>
                      </a:lnTo>
                      <a:lnTo>
                        <a:pt x="773" y="419"/>
                      </a:lnTo>
                      <a:lnTo>
                        <a:pt x="756" y="411"/>
                      </a:lnTo>
                      <a:lnTo>
                        <a:pt x="795" y="358"/>
                      </a:lnTo>
                      <a:lnTo>
                        <a:pt x="795" y="433"/>
                      </a:lnTo>
                      <a:lnTo>
                        <a:pt x="808" y="433"/>
                      </a:lnTo>
                      <a:lnTo>
                        <a:pt x="808" y="0"/>
                      </a:lnTo>
                      <a:lnTo>
                        <a:pt x="53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7310520" y="4748040"/>
                  <a:ext cx="1240200" cy="876600"/>
                </a:xfrm>
                <a:custGeom>
                  <a:avLst/>
                  <a:gdLst/>
                  <a:ahLst/>
                  <a:rect l="0" t="0" r="r" b="b"/>
                  <a:pathLst>
                    <a:path w="3445" h="2435">
                      <a:moveTo>
                        <a:pt x="0" y="714"/>
                      </a:moveTo>
                      <a:lnTo>
                        <a:pt x="97" y="639"/>
                      </a:lnTo>
                      <a:lnTo>
                        <a:pt x="194" y="493"/>
                      </a:lnTo>
                      <a:lnTo>
                        <a:pt x="313" y="423"/>
                      </a:lnTo>
                      <a:lnTo>
                        <a:pt x="432" y="507"/>
                      </a:lnTo>
                      <a:lnTo>
                        <a:pt x="445" y="573"/>
                      </a:lnTo>
                      <a:lnTo>
                        <a:pt x="418" y="573"/>
                      </a:lnTo>
                      <a:lnTo>
                        <a:pt x="370" y="564"/>
                      </a:lnTo>
                      <a:lnTo>
                        <a:pt x="432" y="639"/>
                      </a:lnTo>
                      <a:lnTo>
                        <a:pt x="683" y="542"/>
                      </a:lnTo>
                      <a:lnTo>
                        <a:pt x="648" y="471"/>
                      </a:lnTo>
                      <a:lnTo>
                        <a:pt x="758" y="348"/>
                      </a:lnTo>
                      <a:lnTo>
                        <a:pt x="829" y="348"/>
                      </a:lnTo>
                      <a:lnTo>
                        <a:pt x="758" y="392"/>
                      </a:lnTo>
                      <a:lnTo>
                        <a:pt x="705" y="480"/>
                      </a:lnTo>
                      <a:lnTo>
                        <a:pt x="705" y="542"/>
                      </a:lnTo>
                      <a:lnTo>
                        <a:pt x="806" y="608"/>
                      </a:lnTo>
                      <a:lnTo>
                        <a:pt x="953" y="418"/>
                      </a:lnTo>
                      <a:lnTo>
                        <a:pt x="1456" y="198"/>
                      </a:lnTo>
                      <a:lnTo>
                        <a:pt x="1456" y="70"/>
                      </a:lnTo>
                      <a:lnTo>
                        <a:pt x="1685" y="22"/>
                      </a:lnTo>
                      <a:lnTo>
                        <a:pt x="1817" y="88"/>
                      </a:lnTo>
                      <a:lnTo>
                        <a:pt x="2122" y="0"/>
                      </a:lnTo>
                      <a:lnTo>
                        <a:pt x="2219" y="44"/>
                      </a:lnTo>
                      <a:lnTo>
                        <a:pt x="2421" y="268"/>
                      </a:lnTo>
                      <a:lnTo>
                        <a:pt x="2656" y="224"/>
                      </a:lnTo>
                      <a:lnTo>
                        <a:pt x="2802" y="304"/>
                      </a:lnTo>
                      <a:lnTo>
                        <a:pt x="3168" y="286"/>
                      </a:lnTo>
                      <a:lnTo>
                        <a:pt x="3445" y="370"/>
                      </a:lnTo>
                      <a:lnTo>
                        <a:pt x="3419" y="493"/>
                      </a:lnTo>
                      <a:lnTo>
                        <a:pt x="3185" y="573"/>
                      </a:lnTo>
                      <a:lnTo>
                        <a:pt x="3225" y="652"/>
                      </a:lnTo>
                      <a:lnTo>
                        <a:pt x="3124" y="696"/>
                      </a:lnTo>
                      <a:lnTo>
                        <a:pt x="3119" y="855"/>
                      </a:lnTo>
                      <a:lnTo>
                        <a:pt x="3027" y="961"/>
                      </a:lnTo>
                      <a:lnTo>
                        <a:pt x="2991" y="864"/>
                      </a:lnTo>
                      <a:lnTo>
                        <a:pt x="3040" y="771"/>
                      </a:lnTo>
                      <a:lnTo>
                        <a:pt x="3031" y="582"/>
                      </a:lnTo>
                      <a:lnTo>
                        <a:pt x="2938" y="679"/>
                      </a:lnTo>
                      <a:lnTo>
                        <a:pt x="2868" y="732"/>
                      </a:lnTo>
                      <a:lnTo>
                        <a:pt x="2797" y="648"/>
                      </a:lnTo>
                      <a:lnTo>
                        <a:pt x="2749" y="864"/>
                      </a:lnTo>
                      <a:lnTo>
                        <a:pt x="2802" y="864"/>
                      </a:lnTo>
                      <a:lnTo>
                        <a:pt x="2788" y="1005"/>
                      </a:lnTo>
                      <a:lnTo>
                        <a:pt x="2727" y="1159"/>
                      </a:lnTo>
                      <a:lnTo>
                        <a:pt x="2647" y="1218"/>
                      </a:lnTo>
                      <a:lnTo>
                        <a:pt x="2713" y="1319"/>
                      </a:lnTo>
                      <a:lnTo>
                        <a:pt x="2669" y="1390"/>
                      </a:lnTo>
                      <a:lnTo>
                        <a:pt x="2656" y="1328"/>
                      </a:lnTo>
                      <a:lnTo>
                        <a:pt x="2656" y="1306"/>
                      </a:lnTo>
                      <a:lnTo>
                        <a:pt x="2603" y="1271"/>
                      </a:lnTo>
                      <a:lnTo>
                        <a:pt x="2523" y="1319"/>
                      </a:lnTo>
                      <a:lnTo>
                        <a:pt x="2594" y="1487"/>
                      </a:lnTo>
                      <a:lnTo>
                        <a:pt x="2621" y="1570"/>
                      </a:lnTo>
                      <a:lnTo>
                        <a:pt x="2532" y="1800"/>
                      </a:lnTo>
                      <a:lnTo>
                        <a:pt x="2377" y="1866"/>
                      </a:lnTo>
                      <a:lnTo>
                        <a:pt x="2245" y="1853"/>
                      </a:lnTo>
                      <a:lnTo>
                        <a:pt x="2311" y="1950"/>
                      </a:lnTo>
                      <a:lnTo>
                        <a:pt x="2316" y="2082"/>
                      </a:lnTo>
                      <a:lnTo>
                        <a:pt x="2223" y="2236"/>
                      </a:lnTo>
                      <a:lnTo>
                        <a:pt x="2117" y="2152"/>
                      </a:lnTo>
                      <a:lnTo>
                        <a:pt x="2104" y="2241"/>
                      </a:lnTo>
                      <a:lnTo>
                        <a:pt x="2183" y="2320"/>
                      </a:lnTo>
                      <a:lnTo>
                        <a:pt x="2249" y="2435"/>
                      </a:lnTo>
                      <a:lnTo>
                        <a:pt x="2139" y="2364"/>
                      </a:lnTo>
                      <a:lnTo>
                        <a:pt x="2007" y="1980"/>
                      </a:lnTo>
                      <a:lnTo>
                        <a:pt x="1844" y="1879"/>
                      </a:lnTo>
                      <a:lnTo>
                        <a:pt x="1725" y="1888"/>
                      </a:lnTo>
                      <a:lnTo>
                        <a:pt x="1570" y="2104"/>
                      </a:lnTo>
                      <a:lnTo>
                        <a:pt x="1592" y="2183"/>
                      </a:lnTo>
                      <a:lnTo>
                        <a:pt x="1539" y="2338"/>
                      </a:lnTo>
                      <a:lnTo>
                        <a:pt x="1491" y="2338"/>
                      </a:lnTo>
                      <a:lnTo>
                        <a:pt x="1315" y="2016"/>
                      </a:lnTo>
                      <a:lnTo>
                        <a:pt x="1315" y="1875"/>
                      </a:lnTo>
                      <a:lnTo>
                        <a:pt x="1279" y="1928"/>
                      </a:lnTo>
                      <a:lnTo>
                        <a:pt x="1178" y="1923"/>
                      </a:lnTo>
                      <a:lnTo>
                        <a:pt x="1218" y="1835"/>
                      </a:lnTo>
                      <a:lnTo>
                        <a:pt x="1063" y="1725"/>
                      </a:lnTo>
                      <a:lnTo>
                        <a:pt x="869" y="1725"/>
                      </a:lnTo>
                      <a:lnTo>
                        <a:pt x="705" y="1614"/>
                      </a:lnTo>
                      <a:lnTo>
                        <a:pt x="692" y="1725"/>
                      </a:lnTo>
                      <a:lnTo>
                        <a:pt x="829" y="1826"/>
                      </a:lnTo>
                      <a:lnTo>
                        <a:pt x="878" y="1826"/>
                      </a:lnTo>
                      <a:lnTo>
                        <a:pt x="736" y="1963"/>
                      </a:lnTo>
                      <a:lnTo>
                        <a:pt x="599" y="1994"/>
                      </a:lnTo>
                      <a:lnTo>
                        <a:pt x="599" y="1914"/>
                      </a:lnTo>
                      <a:lnTo>
                        <a:pt x="401" y="1641"/>
                      </a:lnTo>
                      <a:lnTo>
                        <a:pt x="374" y="1566"/>
                      </a:lnTo>
                      <a:lnTo>
                        <a:pt x="480" y="1478"/>
                      </a:lnTo>
                      <a:lnTo>
                        <a:pt x="467" y="1368"/>
                      </a:lnTo>
                      <a:lnTo>
                        <a:pt x="467" y="1244"/>
                      </a:lnTo>
                      <a:lnTo>
                        <a:pt x="524" y="1218"/>
                      </a:lnTo>
                      <a:lnTo>
                        <a:pt x="467" y="1159"/>
                      </a:lnTo>
                      <a:lnTo>
                        <a:pt x="467" y="714"/>
                      </a:lnTo>
                      <a:lnTo>
                        <a:pt x="189" y="714"/>
                      </a:lnTo>
                      <a:lnTo>
                        <a:pt x="268" y="608"/>
                      </a:lnTo>
                      <a:lnTo>
                        <a:pt x="264" y="573"/>
                      </a:lnTo>
                      <a:lnTo>
                        <a:pt x="171" y="661"/>
                      </a:lnTo>
                      <a:lnTo>
                        <a:pt x="141" y="714"/>
                      </a:lnTo>
                      <a:lnTo>
                        <a:pt x="0" y="714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8288280" y="5106960"/>
                  <a:ext cx="106560" cy="178200"/>
                </a:xfrm>
                <a:custGeom>
                  <a:avLst/>
                  <a:gdLst/>
                  <a:ahLst/>
                  <a:rect l="0" t="0" r="r" b="b"/>
                  <a:pathLst>
                    <a:path w="296" h="495">
                      <a:moveTo>
                        <a:pt x="199" y="0"/>
                      </a:moveTo>
                      <a:lnTo>
                        <a:pt x="199" y="61"/>
                      </a:lnTo>
                      <a:lnTo>
                        <a:pt x="172" y="101"/>
                      </a:lnTo>
                      <a:lnTo>
                        <a:pt x="181" y="168"/>
                      </a:lnTo>
                      <a:lnTo>
                        <a:pt x="145" y="256"/>
                      </a:lnTo>
                      <a:lnTo>
                        <a:pt x="97" y="340"/>
                      </a:lnTo>
                      <a:lnTo>
                        <a:pt x="22" y="394"/>
                      </a:lnTo>
                      <a:lnTo>
                        <a:pt x="0" y="487"/>
                      </a:lnTo>
                      <a:lnTo>
                        <a:pt x="30" y="495"/>
                      </a:lnTo>
                      <a:lnTo>
                        <a:pt x="30" y="407"/>
                      </a:lnTo>
                      <a:lnTo>
                        <a:pt x="136" y="403"/>
                      </a:lnTo>
                      <a:lnTo>
                        <a:pt x="217" y="344"/>
                      </a:lnTo>
                      <a:lnTo>
                        <a:pt x="217" y="225"/>
                      </a:lnTo>
                      <a:lnTo>
                        <a:pt x="243" y="181"/>
                      </a:lnTo>
                      <a:lnTo>
                        <a:pt x="203" y="105"/>
                      </a:lnTo>
                      <a:lnTo>
                        <a:pt x="261" y="83"/>
                      </a:lnTo>
                      <a:lnTo>
                        <a:pt x="296" y="22"/>
                      </a:lnTo>
                      <a:lnTo>
                        <a:pt x="217" y="30"/>
                      </a:lnTo>
                      <a:lnTo>
                        <a:pt x="199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7885080" y="5584680"/>
                  <a:ext cx="25920" cy="39960"/>
                </a:xfrm>
                <a:custGeom>
                  <a:avLst/>
                  <a:gdLst/>
                  <a:ahLst/>
                  <a:rect l="0" t="0" r="r" b="b"/>
                  <a:pathLst>
                    <a:path w="72" h="111">
                      <a:moveTo>
                        <a:pt x="36" y="0"/>
                      </a:moveTo>
                      <a:lnTo>
                        <a:pt x="0" y="48"/>
                      </a:lnTo>
                      <a:lnTo>
                        <a:pt x="23" y="111"/>
                      </a:lnTo>
                      <a:lnTo>
                        <a:pt x="72" y="67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-5040" bIns="-5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8047080" y="5627520"/>
                  <a:ext cx="249480" cy="106560"/>
                </a:xfrm>
                <a:custGeom>
                  <a:avLst/>
                  <a:gdLst/>
                  <a:ahLst/>
                  <a:rect l="0" t="0" r="r" b="b"/>
                  <a:pathLst>
                    <a:path w="693" h="296">
                      <a:moveTo>
                        <a:pt x="0" y="0"/>
                      </a:moveTo>
                      <a:lnTo>
                        <a:pt x="101" y="22"/>
                      </a:lnTo>
                      <a:lnTo>
                        <a:pt x="255" y="127"/>
                      </a:lnTo>
                      <a:lnTo>
                        <a:pt x="233" y="190"/>
                      </a:lnTo>
                      <a:lnTo>
                        <a:pt x="362" y="243"/>
                      </a:lnTo>
                      <a:lnTo>
                        <a:pt x="693" y="243"/>
                      </a:lnTo>
                      <a:lnTo>
                        <a:pt x="330" y="296"/>
                      </a:lnTo>
                      <a:lnTo>
                        <a:pt x="233" y="190"/>
                      </a:lnTo>
                      <a:lnTo>
                        <a:pt x="141" y="1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8247240" y="5716440"/>
                  <a:ext cx="267120" cy="251280"/>
                </a:xfrm>
                <a:custGeom>
                  <a:avLst/>
                  <a:gdLst/>
                  <a:ahLst/>
                  <a:rect l="0" t="0" r="r" b="b"/>
                  <a:pathLst>
                    <a:path w="742" h="698">
                      <a:moveTo>
                        <a:pt x="619" y="681"/>
                      </a:moveTo>
                      <a:lnTo>
                        <a:pt x="597" y="685"/>
                      </a:lnTo>
                      <a:lnTo>
                        <a:pt x="584" y="698"/>
                      </a:lnTo>
                      <a:lnTo>
                        <a:pt x="562" y="672"/>
                      </a:lnTo>
                      <a:lnTo>
                        <a:pt x="494" y="641"/>
                      </a:lnTo>
                      <a:lnTo>
                        <a:pt x="486" y="592"/>
                      </a:lnTo>
                      <a:lnTo>
                        <a:pt x="464" y="575"/>
                      </a:lnTo>
                      <a:lnTo>
                        <a:pt x="406" y="575"/>
                      </a:lnTo>
                      <a:lnTo>
                        <a:pt x="406" y="539"/>
                      </a:lnTo>
                      <a:lnTo>
                        <a:pt x="389" y="526"/>
                      </a:lnTo>
                      <a:lnTo>
                        <a:pt x="384" y="494"/>
                      </a:lnTo>
                      <a:lnTo>
                        <a:pt x="344" y="490"/>
                      </a:lnTo>
                      <a:lnTo>
                        <a:pt x="309" y="481"/>
                      </a:lnTo>
                      <a:lnTo>
                        <a:pt x="274" y="490"/>
                      </a:lnTo>
                      <a:lnTo>
                        <a:pt x="274" y="494"/>
                      </a:lnTo>
                      <a:lnTo>
                        <a:pt x="195" y="521"/>
                      </a:lnTo>
                      <a:lnTo>
                        <a:pt x="195" y="535"/>
                      </a:lnTo>
                      <a:lnTo>
                        <a:pt x="123" y="535"/>
                      </a:lnTo>
                      <a:lnTo>
                        <a:pt x="88" y="557"/>
                      </a:lnTo>
                      <a:lnTo>
                        <a:pt x="44" y="535"/>
                      </a:lnTo>
                      <a:lnTo>
                        <a:pt x="44" y="526"/>
                      </a:lnTo>
                      <a:lnTo>
                        <a:pt x="44" y="481"/>
                      </a:lnTo>
                      <a:lnTo>
                        <a:pt x="30" y="437"/>
                      </a:lnTo>
                      <a:lnTo>
                        <a:pt x="13" y="402"/>
                      </a:lnTo>
                      <a:lnTo>
                        <a:pt x="22" y="371"/>
                      </a:lnTo>
                      <a:lnTo>
                        <a:pt x="8" y="358"/>
                      </a:lnTo>
                      <a:lnTo>
                        <a:pt x="0" y="292"/>
                      </a:lnTo>
                      <a:lnTo>
                        <a:pt x="8" y="247"/>
                      </a:lnTo>
                      <a:lnTo>
                        <a:pt x="48" y="212"/>
                      </a:lnTo>
                      <a:lnTo>
                        <a:pt x="136" y="190"/>
                      </a:lnTo>
                      <a:lnTo>
                        <a:pt x="158" y="158"/>
                      </a:lnTo>
                      <a:lnTo>
                        <a:pt x="149" y="127"/>
                      </a:lnTo>
                      <a:lnTo>
                        <a:pt x="171" y="119"/>
                      </a:lnTo>
                      <a:lnTo>
                        <a:pt x="176" y="132"/>
                      </a:lnTo>
                      <a:lnTo>
                        <a:pt x="186" y="110"/>
                      </a:lnTo>
                      <a:lnTo>
                        <a:pt x="243" y="66"/>
                      </a:lnTo>
                      <a:lnTo>
                        <a:pt x="274" y="88"/>
                      </a:lnTo>
                      <a:lnTo>
                        <a:pt x="309" y="74"/>
                      </a:lnTo>
                      <a:lnTo>
                        <a:pt x="318" y="39"/>
                      </a:lnTo>
                      <a:lnTo>
                        <a:pt x="353" y="30"/>
                      </a:lnTo>
                      <a:lnTo>
                        <a:pt x="344" y="4"/>
                      </a:lnTo>
                      <a:lnTo>
                        <a:pt x="393" y="22"/>
                      </a:lnTo>
                      <a:lnTo>
                        <a:pt x="433" y="13"/>
                      </a:lnTo>
                      <a:lnTo>
                        <a:pt x="455" y="105"/>
                      </a:lnTo>
                      <a:lnTo>
                        <a:pt x="486" y="132"/>
                      </a:lnTo>
                      <a:lnTo>
                        <a:pt x="512" y="132"/>
                      </a:lnTo>
                      <a:lnTo>
                        <a:pt x="525" y="74"/>
                      </a:lnTo>
                      <a:lnTo>
                        <a:pt x="516" y="48"/>
                      </a:lnTo>
                      <a:lnTo>
                        <a:pt x="525" y="4"/>
                      </a:lnTo>
                      <a:lnTo>
                        <a:pt x="538" y="0"/>
                      </a:lnTo>
                      <a:lnTo>
                        <a:pt x="562" y="52"/>
                      </a:lnTo>
                      <a:lnTo>
                        <a:pt x="584" y="66"/>
                      </a:lnTo>
                      <a:lnTo>
                        <a:pt x="597" y="119"/>
                      </a:lnTo>
                      <a:lnTo>
                        <a:pt x="619" y="190"/>
                      </a:lnTo>
                      <a:lnTo>
                        <a:pt x="650" y="208"/>
                      </a:lnTo>
                      <a:lnTo>
                        <a:pt x="689" y="261"/>
                      </a:lnTo>
                      <a:lnTo>
                        <a:pt x="694" y="287"/>
                      </a:lnTo>
                      <a:lnTo>
                        <a:pt x="729" y="318"/>
                      </a:lnTo>
                      <a:lnTo>
                        <a:pt x="742" y="375"/>
                      </a:lnTo>
                      <a:lnTo>
                        <a:pt x="742" y="419"/>
                      </a:lnTo>
                      <a:lnTo>
                        <a:pt x="729" y="490"/>
                      </a:lnTo>
                      <a:lnTo>
                        <a:pt x="694" y="535"/>
                      </a:lnTo>
                      <a:lnTo>
                        <a:pt x="685" y="592"/>
                      </a:lnTo>
                      <a:lnTo>
                        <a:pt x="685" y="641"/>
                      </a:lnTo>
                      <a:lnTo>
                        <a:pt x="650" y="650"/>
                      </a:lnTo>
                      <a:lnTo>
                        <a:pt x="619" y="681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8461440" y="5981760"/>
                  <a:ext cx="25920" cy="30600"/>
                </a:xfrm>
                <a:custGeom>
                  <a:avLst/>
                  <a:gdLst/>
                  <a:ahLst/>
                  <a:rect l="0" t="0" r="r" b="b"/>
                  <a:pathLst>
                    <a:path w="72" h="85">
                      <a:moveTo>
                        <a:pt x="36" y="72"/>
                      </a:moveTo>
                      <a:lnTo>
                        <a:pt x="8" y="58"/>
                      </a:lnTo>
                      <a:lnTo>
                        <a:pt x="8" y="45"/>
                      </a:lnTo>
                      <a:lnTo>
                        <a:pt x="8" y="36"/>
                      </a:lnTo>
                      <a:lnTo>
                        <a:pt x="4" y="23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36" y="8"/>
                      </a:lnTo>
                      <a:lnTo>
                        <a:pt x="49" y="8"/>
                      </a:lnTo>
                      <a:lnTo>
                        <a:pt x="53" y="8"/>
                      </a:lnTo>
                      <a:lnTo>
                        <a:pt x="72" y="0"/>
                      </a:lnTo>
                      <a:lnTo>
                        <a:pt x="72" y="36"/>
                      </a:lnTo>
                      <a:lnTo>
                        <a:pt x="63" y="45"/>
                      </a:lnTo>
                      <a:lnTo>
                        <a:pt x="53" y="58"/>
                      </a:lnTo>
                      <a:lnTo>
                        <a:pt x="53" y="72"/>
                      </a:lnTo>
                      <a:lnTo>
                        <a:pt x="49" y="72"/>
                      </a:lnTo>
                      <a:lnTo>
                        <a:pt x="49" y="85"/>
                      </a:lnTo>
                      <a:lnTo>
                        <a:pt x="36" y="72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7523280" y="5694480"/>
                  <a:ext cx="28800" cy="119520"/>
                </a:xfrm>
                <a:custGeom>
                  <a:avLst/>
                  <a:gdLst/>
                  <a:ahLst/>
                  <a:rect l="0" t="0" r="r" b="b"/>
                  <a:pathLst>
                    <a:path w="80" h="332">
                      <a:moveTo>
                        <a:pt x="8" y="115"/>
                      </a:moveTo>
                      <a:lnTo>
                        <a:pt x="39" y="89"/>
                      </a:lnTo>
                      <a:lnTo>
                        <a:pt x="62" y="0"/>
                      </a:lnTo>
                      <a:lnTo>
                        <a:pt x="80" y="133"/>
                      </a:lnTo>
                      <a:lnTo>
                        <a:pt x="53" y="297"/>
                      </a:lnTo>
                      <a:lnTo>
                        <a:pt x="0" y="332"/>
                      </a:lnTo>
                      <a:lnTo>
                        <a:pt x="0" y="253"/>
                      </a:lnTo>
                      <a:lnTo>
                        <a:pt x="13" y="199"/>
                      </a:lnTo>
                      <a:lnTo>
                        <a:pt x="8" y="115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0" y="114480"/>
            <a:ext cx="9142560" cy="6741720"/>
            <a:chOff x="0" y="114480"/>
            <a:chExt cx="9142560" cy="6741720"/>
          </a:xfrm>
        </p:grpSpPr>
        <p:sp>
          <p:nvSpPr>
            <p:cNvPr id="113" name=""/>
            <p:cNvSpPr/>
            <p:nvPr/>
          </p:nvSpPr>
          <p:spPr>
            <a:xfrm>
              <a:off x="0" y="3352680"/>
              <a:ext cx="9142560" cy="35035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0" y="114480"/>
              <a:ext cx="9142560" cy="3238200"/>
              <a:chOff x="0" y="114480"/>
              <a:chExt cx="9142560" cy="3238200"/>
            </a:xfrm>
          </p:grpSpPr>
          <p:sp>
            <p:nvSpPr>
              <p:cNvPr id="115" name=""/>
              <p:cNvSpPr/>
              <p:nvPr/>
            </p:nvSpPr>
            <p:spPr>
              <a:xfrm>
                <a:off x="0" y="2971800"/>
                <a:ext cx="9142560" cy="380880"/>
              </a:xfrm>
              <a:prstGeom prst="rect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00007f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" name=""/>
              <p:cNvGrpSpPr/>
              <p:nvPr/>
            </p:nvGrpSpPr>
            <p:grpSpPr>
              <a:xfrm>
                <a:off x="3633840" y="114480"/>
                <a:ext cx="2284920" cy="3148200"/>
                <a:chOff x="3633840" y="114480"/>
                <a:chExt cx="2284920" cy="314820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3633840" y="201600"/>
                  <a:ext cx="2284920" cy="2808720"/>
                </a:xfrm>
                <a:custGeom>
                  <a:avLst/>
                  <a:gdLst/>
                  <a:ahLst/>
                  <a:rect l="0" t="0" r="r" b="b"/>
                  <a:pathLst>
                    <a:path w="6347" h="7802">
                      <a:moveTo>
                        <a:pt x="3581" y="0"/>
                      </a:moveTo>
                      <a:lnTo>
                        <a:pt x="3974" y="145"/>
                      </a:lnTo>
                      <a:lnTo>
                        <a:pt x="4348" y="343"/>
                      </a:lnTo>
                      <a:lnTo>
                        <a:pt x="4701" y="568"/>
                      </a:lnTo>
                      <a:lnTo>
                        <a:pt x="5029" y="824"/>
                      </a:lnTo>
                      <a:lnTo>
                        <a:pt x="5324" y="1128"/>
                      </a:lnTo>
                      <a:lnTo>
                        <a:pt x="5580" y="1455"/>
                      </a:lnTo>
                      <a:lnTo>
                        <a:pt x="5805" y="1807"/>
                      </a:lnTo>
                      <a:lnTo>
                        <a:pt x="6003" y="2170"/>
                      </a:lnTo>
                      <a:lnTo>
                        <a:pt x="6149" y="2563"/>
                      </a:lnTo>
                      <a:lnTo>
                        <a:pt x="6259" y="2968"/>
                      </a:lnTo>
                      <a:lnTo>
                        <a:pt x="6329" y="3378"/>
                      </a:lnTo>
                      <a:lnTo>
                        <a:pt x="6347" y="3802"/>
                      </a:lnTo>
                      <a:lnTo>
                        <a:pt x="6329" y="4225"/>
                      </a:lnTo>
                      <a:lnTo>
                        <a:pt x="6259" y="4640"/>
                      </a:lnTo>
                      <a:lnTo>
                        <a:pt x="6149" y="5041"/>
                      </a:lnTo>
                      <a:lnTo>
                        <a:pt x="6003" y="5424"/>
                      </a:lnTo>
                      <a:lnTo>
                        <a:pt x="5805" y="5795"/>
                      </a:lnTo>
                      <a:lnTo>
                        <a:pt x="5580" y="6153"/>
                      </a:lnTo>
                      <a:lnTo>
                        <a:pt x="5324" y="6475"/>
                      </a:lnTo>
                      <a:lnTo>
                        <a:pt x="5029" y="6779"/>
                      </a:lnTo>
                      <a:lnTo>
                        <a:pt x="4701" y="7044"/>
                      </a:lnTo>
                      <a:lnTo>
                        <a:pt x="4348" y="7260"/>
                      </a:lnTo>
                      <a:lnTo>
                        <a:pt x="3974" y="7458"/>
                      </a:lnTo>
                      <a:lnTo>
                        <a:pt x="3581" y="7604"/>
                      </a:lnTo>
                      <a:lnTo>
                        <a:pt x="3180" y="7714"/>
                      </a:lnTo>
                      <a:lnTo>
                        <a:pt x="2765" y="7785"/>
                      </a:lnTo>
                      <a:lnTo>
                        <a:pt x="2351" y="7802"/>
                      </a:lnTo>
                      <a:lnTo>
                        <a:pt x="1928" y="7785"/>
                      </a:lnTo>
                      <a:lnTo>
                        <a:pt x="1516" y="7714"/>
                      </a:lnTo>
                      <a:lnTo>
                        <a:pt x="1111" y="7604"/>
                      </a:lnTo>
                      <a:lnTo>
                        <a:pt x="727" y="7458"/>
                      </a:lnTo>
                      <a:lnTo>
                        <a:pt x="352" y="7260"/>
                      </a:lnTo>
                      <a:lnTo>
                        <a:pt x="0" y="7044"/>
                      </a:lnTo>
                      <a:lnTo>
                        <a:pt x="224" y="6722"/>
                      </a:lnTo>
                      <a:lnTo>
                        <a:pt x="551" y="6929"/>
                      </a:lnTo>
                      <a:lnTo>
                        <a:pt x="886" y="7097"/>
                      </a:lnTo>
                      <a:lnTo>
                        <a:pt x="1239" y="7233"/>
                      </a:lnTo>
                      <a:lnTo>
                        <a:pt x="1606" y="7330"/>
                      </a:lnTo>
                      <a:lnTo>
                        <a:pt x="1967" y="7388"/>
                      </a:lnTo>
                      <a:lnTo>
                        <a:pt x="2351" y="7410"/>
                      </a:lnTo>
                      <a:lnTo>
                        <a:pt x="2726" y="7388"/>
                      </a:lnTo>
                      <a:lnTo>
                        <a:pt x="3101" y="7330"/>
                      </a:lnTo>
                      <a:lnTo>
                        <a:pt x="3462" y="7233"/>
                      </a:lnTo>
                      <a:lnTo>
                        <a:pt x="3819" y="7097"/>
                      </a:lnTo>
                      <a:lnTo>
                        <a:pt x="4150" y="6929"/>
                      </a:lnTo>
                      <a:lnTo>
                        <a:pt x="4468" y="6722"/>
                      </a:lnTo>
                      <a:lnTo>
                        <a:pt x="4764" y="6484"/>
                      </a:lnTo>
                      <a:lnTo>
                        <a:pt x="5029" y="6219"/>
                      </a:lnTo>
                      <a:lnTo>
                        <a:pt x="5267" y="5924"/>
                      </a:lnTo>
                      <a:lnTo>
                        <a:pt x="5470" y="5601"/>
                      </a:lnTo>
                      <a:lnTo>
                        <a:pt x="5650" y="5266"/>
                      </a:lnTo>
                      <a:lnTo>
                        <a:pt x="5787" y="4922"/>
                      </a:lnTo>
                      <a:lnTo>
                        <a:pt x="5875" y="4551"/>
                      </a:lnTo>
                      <a:lnTo>
                        <a:pt x="5933" y="4177"/>
                      </a:lnTo>
                      <a:lnTo>
                        <a:pt x="5955" y="3802"/>
                      </a:lnTo>
                      <a:lnTo>
                        <a:pt x="5933" y="3418"/>
                      </a:lnTo>
                      <a:lnTo>
                        <a:pt x="5875" y="3048"/>
                      </a:lnTo>
                      <a:lnTo>
                        <a:pt x="5787" y="2682"/>
                      </a:lnTo>
                      <a:lnTo>
                        <a:pt x="5650" y="2338"/>
                      </a:lnTo>
                      <a:lnTo>
                        <a:pt x="5470" y="1994"/>
                      </a:lnTo>
                      <a:lnTo>
                        <a:pt x="5267" y="1680"/>
                      </a:lnTo>
                      <a:lnTo>
                        <a:pt x="5029" y="1384"/>
                      </a:lnTo>
                      <a:lnTo>
                        <a:pt x="4764" y="1120"/>
                      </a:lnTo>
                      <a:lnTo>
                        <a:pt x="4468" y="886"/>
                      </a:lnTo>
                      <a:lnTo>
                        <a:pt x="4150" y="679"/>
                      </a:lnTo>
                      <a:lnTo>
                        <a:pt x="3819" y="502"/>
                      </a:lnTo>
                      <a:lnTo>
                        <a:pt x="3462" y="374"/>
                      </a:lnTo>
                      <a:lnTo>
                        <a:pt x="3475" y="343"/>
                      </a:lnTo>
                      <a:lnTo>
                        <a:pt x="3581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0000ff"/>
                    </a:gs>
                  </a:gsLst>
                  <a:lin ang="5400000"/>
                </a:gra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 flipV="1">
                  <a:off x="3689280" y="2571840"/>
                  <a:ext cx="227160" cy="40932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 flipV="1">
                  <a:off x="4951440" y="385920"/>
                  <a:ext cx="79200" cy="15696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 flipV="1">
                  <a:off x="5084640" y="114480"/>
                  <a:ext cx="79560" cy="15696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941640" y="3021120"/>
                  <a:ext cx="1333800" cy="241560"/>
                </a:xfrm>
                <a:custGeom>
                  <a:avLst/>
                  <a:gdLst/>
                  <a:ahLst/>
                  <a:rect l="0" t="0" r="r" b="b"/>
                  <a:pathLst>
                    <a:path w="3705" h="671">
                      <a:moveTo>
                        <a:pt x="13" y="433"/>
                      </a:moveTo>
                      <a:lnTo>
                        <a:pt x="88" y="353"/>
                      </a:lnTo>
                      <a:lnTo>
                        <a:pt x="194" y="286"/>
                      </a:lnTo>
                      <a:lnTo>
                        <a:pt x="392" y="189"/>
                      </a:lnTo>
                      <a:lnTo>
                        <a:pt x="617" y="132"/>
                      </a:lnTo>
                      <a:lnTo>
                        <a:pt x="829" y="83"/>
                      </a:lnTo>
                      <a:lnTo>
                        <a:pt x="1115" y="39"/>
                      </a:lnTo>
                      <a:lnTo>
                        <a:pt x="1384" y="13"/>
                      </a:lnTo>
                      <a:lnTo>
                        <a:pt x="1702" y="0"/>
                      </a:lnTo>
                      <a:lnTo>
                        <a:pt x="2095" y="4"/>
                      </a:lnTo>
                      <a:lnTo>
                        <a:pt x="2501" y="26"/>
                      </a:lnTo>
                      <a:lnTo>
                        <a:pt x="2787" y="61"/>
                      </a:lnTo>
                      <a:lnTo>
                        <a:pt x="3087" y="119"/>
                      </a:lnTo>
                      <a:lnTo>
                        <a:pt x="3374" y="207"/>
                      </a:lnTo>
                      <a:lnTo>
                        <a:pt x="3524" y="291"/>
                      </a:lnTo>
                      <a:lnTo>
                        <a:pt x="3616" y="362"/>
                      </a:lnTo>
                      <a:lnTo>
                        <a:pt x="3705" y="477"/>
                      </a:lnTo>
                      <a:lnTo>
                        <a:pt x="3555" y="538"/>
                      </a:lnTo>
                      <a:lnTo>
                        <a:pt x="3299" y="587"/>
                      </a:lnTo>
                      <a:lnTo>
                        <a:pt x="2981" y="622"/>
                      </a:lnTo>
                      <a:lnTo>
                        <a:pt x="2682" y="653"/>
                      </a:lnTo>
                      <a:lnTo>
                        <a:pt x="2320" y="666"/>
                      </a:lnTo>
                      <a:lnTo>
                        <a:pt x="1928" y="671"/>
                      </a:lnTo>
                      <a:lnTo>
                        <a:pt x="1552" y="671"/>
                      </a:lnTo>
                      <a:lnTo>
                        <a:pt x="1159" y="666"/>
                      </a:lnTo>
                      <a:lnTo>
                        <a:pt x="723" y="631"/>
                      </a:lnTo>
                      <a:lnTo>
                        <a:pt x="374" y="596"/>
                      </a:lnTo>
                      <a:lnTo>
                        <a:pt x="88" y="530"/>
                      </a:lnTo>
                      <a:lnTo>
                        <a:pt x="0" y="481"/>
                      </a:lnTo>
                      <a:lnTo>
                        <a:pt x="13" y="43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ff"/>
                    </a:gs>
                    <a:gs pos="100000">
                      <a:srgbClr val="000000"/>
                    </a:gs>
                  </a:gsLst>
                  <a:lin ang="0"/>
                </a:gra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3287880" y="396720"/>
                <a:ext cx="2376360" cy="2371680"/>
              </a:xfrm>
              <a:prstGeom prst="ellipse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" name=""/>
              <p:cNvGrpSpPr/>
              <p:nvPr/>
            </p:nvGrpSpPr>
            <p:grpSpPr>
              <a:xfrm>
                <a:off x="3287880" y="644400"/>
                <a:ext cx="2208600" cy="1759680"/>
                <a:chOff x="3287880" y="644400"/>
                <a:chExt cx="2208600" cy="175968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3600360" y="1289160"/>
                  <a:ext cx="0" cy="25200"/>
                </a:xfrm>
                <a:custGeom>
                  <a:avLst/>
                  <a:gdLst/>
                  <a:ahLst/>
                  <a:rect l="0" t="0" r="r" b="b"/>
                  <a:pathLst>
                    <a:path w="0" h="70">
                      <a:moveTo>
                        <a:pt x="0" y="0"/>
                      </a:moveTo>
                      <a:lnTo>
                        <a:pt x="0" y="70"/>
                      </a:lnTo>
                      <a:lnTo>
                        <a:pt x="0" y="2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3638520" y="133812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0"/>
                      </a:moveTo>
                      <a:lnTo>
                        <a:pt x="72" y="0"/>
                      </a:lnTo>
                      <a:lnTo>
                        <a:pt x="72" y="7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3765600" y="1273320"/>
                  <a:ext cx="79560" cy="74880"/>
                </a:xfrm>
                <a:custGeom>
                  <a:avLst/>
                  <a:gdLst/>
                  <a:ahLst/>
                  <a:rect l="0" t="0" r="r" b="b"/>
                  <a:pathLst>
                    <a:path w="221" h="208">
                      <a:moveTo>
                        <a:pt x="221" y="0"/>
                      </a:moveTo>
                      <a:lnTo>
                        <a:pt x="137" y="0"/>
                      </a:lnTo>
                      <a:lnTo>
                        <a:pt x="88" y="57"/>
                      </a:lnTo>
                      <a:lnTo>
                        <a:pt x="57" y="57"/>
                      </a:lnTo>
                      <a:lnTo>
                        <a:pt x="30" y="83"/>
                      </a:lnTo>
                      <a:lnTo>
                        <a:pt x="0" y="83"/>
                      </a:lnTo>
                      <a:lnTo>
                        <a:pt x="0" y="155"/>
                      </a:lnTo>
                      <a:lnTo>
                        <a:pt x="52" y="208"/>
                      </a:lnTo>
                      <a:lnTo>
                        <a:pt x="181" y="208"/>
                      </a:lnTo>
                      <a:lnTo>
                        <a:pt x="221" y="155"/>
                      </a:lnTo>
                      <a:lnTo>
                        <a:pt x="221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3287880" y="1333440"/>
                  <a:ext cx="714600" cy="930600"/>
                </a:xfrm>
                <a:custGeom>
                  <a:avLst/>
                  <a:gdLst/>
                  <a:ahLst/>
                  <a:rect l="0" t="0" r="r" b="b"/>
                  <a:pathLst>
                    <a:path w="1985" h="2585">
                      <a:moveTo>
                        <a:pt x="471" y="0"/>
                      </a:moveTo>
                      <a:lnTo>
                        <a:pt x="436" y="70"/>
                      </a:lnTo>
                      <a:lnTo>
                        <a:pt x="282" y="207"/>
                      </a:lnTo>
                      <a:lnTo>
                        <a:pt x="246" y="330"/>
                      </a:lnTo>
                      <a:lnTo>
                        <a:pt x="132" y="418"/>
                      </a:lnTo>
                      <a:lnTo>
                        <a:pt x="52" y="595"/>
                      </a:lnTo>
                      <a:lnTo>
                        <a:pt x="52" y="701"/>
                      </a:lnTo>
                      <a:lnTo>
                        <a:pt x="0" y="886"/>
                      </a:lnTo>
                      <a:lnTo>
                        <a:pt x="70" y="965"/>
                      </a:lnTo>
                      <a:lnTo>
                        <a:pt x="246" y="1199"/>
                      </a:lnTo>
                      <a:lnTo>
                        <a:pt x="299" y="1168"/>
                      </a:lnTo>
                      <a:lnTo>
                        <a:pt x="612" y="1168"/>
                      </a:lnTo>
                      <a:lnTo>
                        <a:pt x="758" y="1225"/>
                      </a:lnTo>
                      <a:lnTo>
                        <a:pt x="745" y="1407"/>
                      </a:lnTo>
                      <a:lnTo>
                        <a:pt x="851" y="1650"/>
                      </a:lnTo>
                      <a:lnTo>
                        <a:pt x="842" y="1716"/>
                      </a:lnTo>
                      <a:lnTo>
                        <a:pt x="886" y="1791"/>
                      </a:lnTo>
                      <a:lnTo>
                        <a:pt x="820" y="1963"/>
                      </a:lnTo>
                      <a:lnTo>
                        <a:pt x="899" y="2179"/>
                      </a:lnTo>
                      <a:lnTo>
                        <a:pt x="943" y="2346"/>
                      </a:lnTo>
                      <a:lnTo>
                        <a:pt x="997" y="2452"/>
                      </a:lnTo>
                      <a:lnTo>
                        <a:pt x="1054" y="2585"/>
                      </a:lnTo>
                      <a:lnTo>
                        <a:pt x="1160" y="2567"/>
                      </a:lnTo>
                      <a:lnTo>
                        <a:pt x="1332" y="2470"/>
                      </a:lnTo>
                      <a:lnTo>
                        <a:pt x="1412" y="2351"/>
                      </a:lnTo>
                      <a:lnTo>
                        <a:pt x="1407" y="2272"/>
                      </a:lnTo>
                      <a:lnTo>
                        <a:pt x="1509" y="2205"/>
                      </a:lnTo>
                      <a:lnTo>
                        <a:pt x="1491" y="2091"/>
                      </a:lnTo>
                      <a:lnTo>
                        <a:pt x="1645" y="1906"/>
                      </a:lnTo>
                      <a:lnTo>
                        <a:pt x="1667" y="1756"/>
                      </a:lnTo>
                      <a:lnTo>
                        <a:pt x="1628" y="1703"/>
                      </a:lnTo>
                      <a:lnTo>
                        <a:pt x="1645" y="1641"/>
                      </a:lnTo>
                      <a:lnTo>
                        <a:pt x="1610" y="1588"/>
                      </a:lnTo>
                      <a:lnTo>
                        <a:pt x="1725" y="1442"/>
                      </a:lnTo>
                      <a:lnTo>
                        <a:pt x="1725" y="1368"/>
                      </a:lnTo>
                      <a:lnTo>
                        <a:pt x="1883" y="1243"/>
                      </a:lnTo>
                      <a:lnTo>
                        <a:pt x="1985" y="912"/>
                      </a:lnTo>
                      <a:lnTo>
                        <a:pt x="1839" y="996"/>
                      </a:lnTo>
                      <a:lnTo>
                        <a:pt x="1711" y="961"/>
                      </a:lnTo>
                      <a:lnTo>
                        <a:pt x="1729" y="881"/>
                      </a:lnTo>
                      <a:lnTo>
                        <a:pt x="1601" y="793"/>
                      </a:lnTo>
                      <a:lnTo>
                        <a:pt x="1539" y="582"/>
                      </a:lnTo>
                      <a:lnTo>
                        <a:pt x="1416" y="410"/>
                      </a:lnTo>
                      <a:lnTo>
                        <a:pt x="1416" y="291"/>
                      </a:lnTo>
                      <a:lnTo>
                        <a:pt x="1350" y="286"/>
                      </a:lnTo>
                      <a:lnTo>
                        <a:pt x="1306" y="304"/>
                      </a:lnTo>
                      <a:lnTo>
                        <a:pt x="1121" y="238"/>
                      </a:lnTo>
                      <a:lnTo>
                        <a:pt x="1072" y="286"/>
                      </a:lnTo>
                      <a:lnTo>
                        <a:pt x="1032" y="343"/>
                      </a:lnTo>
                      <a:lnTo>
                        <a:pt x="930" y="233"/>
                      </a:lnTo>
                      <a:lnTo>
                        <a:pt x="833" y="207"/>
                      </a:lnTo>
                      <a:lnTo>
                        <a:pt x="824" y="66"/>
                      </a:lnTo>
                      <a:lnTo>
                        <a:pt x="683" y="88"/>
                      </a:lnTo>
                      <a:lnTo>
                        <a:pt x="595" y="57"/>
                      </a:lnTo>
                      <a:lnTo>
                        <a:pt x="471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4940280" y="1566720"/>
                  <a:ext cx="25920" cy="43200"/>
                </a:xfrm>
                <a:custGeom>
                  <a:avLst/>
                  <a:gdLst/>
                  <a:ahLst/>
                  <a:rect l="0" t="0" r="r" b="b"/>
                  <a:pathLst>
                    <a:path w="72" h="120">
                      <a:moveTo>
                        <a:pt x="31" y="0"/>
                      </a:moveTo>
                      <a:lnTo>
                        <a:pt x="40" y="35"/>
                      </a:lnTo>
                      <a:lnTo>
                        <a:pt x="31" y="62"/>
                      </a:lnTo>
                      <a:lnTo>
                        <a:pt x="31" y="84"/>
                      </a:lnTo>
                      <a:lnTo>
                        <a:pt x="72" y="102"/>
                      </a:lnTo>
                      <a:lnTo>
                        <a:pt x="72" y="120"/>
                      </a:lnTo>
                      <a:lnTo>
                        <a:pt x="40" y="102"/>
                      </a:lnTo>
                      <a:lnTo>
                        <a:pt x="13" y="120"/>
                      </a:lnTo>
                      <a:lnTo>
                        <a:pt x="0" y="102"/>
                      </a:lnTo>
                      <a:lnTo>
                        <a:pt x="13" y="84"/>
                      </a:lnTo>
                      <a:lnTo>
                        <a:pt x="0" y="62"/>
                      </a:lnTo>
                      <a:lnTo>
                        <a:pt x="13" y="17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4805280" y="1760400"/>
                  <a:ext cx="106560" cy="152640"/>
                </a:xfrm>
                <a:custGeom>
                  <a:avLst/>
                  <a:gdLst/>
                  <a:ahLst/>
                  <a:rect l="0" t="0" r="r" b="b"/>
                  <a:pathLst>
                    <a:path w="296" h="424">
                      <a:moveTo>
                        <a:pt x="0" y="211"/>
                      </a:moveTo>
                      <a:lnTo>
                        <a:pt x="105" y="211"/>
                      </a:lnTo>
                      <a:lnTo>
                        <a:pt x="230" y="0"/>
                      </a:lnTo>
                      <a:lnTo>
                        <a:pt x="296" y="123"/>
                      </a:lnTo>
                      <a:lnTo>
                        <a:pt x="243" y="424"/>
                      </a:lnTo>
                      <a:lnTo>
                        <a:pt x="22" y="353"/>
                      </a:lnTo>
                      <a:lnTo>
                        <a:pt x="0" y="211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5019840" y="1819440"/>
                  <a:ext cx="184680" cy="147960"/>
                </a:xfrm>
                <a:custGeom>
                  <a:avLst/>
                  <a:gdLst/>
                  <a:ahLst/>
                  <a:rect l="0" t="0" r="r" b="b"/>
                  <a:pathLst>
                    <a:path w="513" h="411">
                      <a:moveTo>
                        <a:pt x="30" y="97"/>
                      </a:moveTo>
                      <a:lnTo>
                        <a:pt x="0" y="0"/>
                      </a:lnTo>
                      <a:lnTo>
                        <a:pt x="172" y="39"/>
                      </a:lnTo>
                      <a:lnTo>
                        <a:pt x="420" y="141"/>
                      </a:lnTo>
                      <a:lnTo>
                        <a:pt x="420" y="217"/>
                      </a:lnTo>
                      <a:lnTo>
                        <a:pt x="513" y="411"/>
                      </a:lnTo>
                      <a:lnTo>
                        <a:pt x="322" y="225"/>
                      </a:lnTo>
                      <a:lnTo>
                        <a:pt x="195" y="239"/>
                      </a:lnTo>
                      <a:lnTo>
                        <a:pt x="30" y="9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5372280" y="2122560"/>
                  <a:ext cx="124200" cy="159120"/>
                </a:xfrm>
                <a:custGeom>
                  <a:avLst/>
                  <a:gdLst/>
                  <a:ahLst/>
                  <a:rect l="0" t="0" r="r" b="b"/>
                  <a:pathLst>
                    <a:path w="345" h="442">
                      <a:moveTo>
                        <a:pt x="212" y="0"/>
                      </a:moveTo>
                      <a:lnTo>
                        <a:pt x="345" y="133"/>
                      </a:lnTo>
                      <a:lnTo>
                        <a:pt x="70" y="442"/>
                      </a:lnTo>
                      <a:lnTo>
                        <a:pt x="0" y="372"/>
                      </a:lnTo>
                      <a:lnTo>
                        <a:pt x="199" y="172"/>
                      </a:lnTo>
                      <a:lnTo>
                        <a:pt x="212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3510000" y="1033560"/>
                  <a:ext cx="60840" cy="103680"/>
                </a:xfrm>
                <a:custGeom>
                  <a:avLst/>
                  <a:gdLst/>
                  <a:ahLst/>
                  <a:rect l="0" t="0" r="r" b="b"/>
                  <a:pathLst>
                    <a:path w="169" h="288">
                      <a:moveTo>
                        <a:pt x="169" y="226"/>
                      </a:moveTo>
                      <a:lnTo>
                        <a:pt x="124" y="190"/>
                      </a:lnTo>
                      <a:lnTo>
                        <a:pt x="124" y="61"/>
                      </a:lnTo>
                      <a:lnTo>
                        <a:pt x="147" y="35"/>
                      </a:lnTo>
                      <a:lnTo>
                        <a:pt x="106" y="35"/>
                      </a:lnTo>
                      <a:lnTo>
                        <a:pt x="129" y="0"/>
                      </a:lnTo>
                      <a:lnTo>
                        <a:pt x="98" y="0"/>
                      </a:lnTo>
                      <a:lnTo>
                        <a:pt x="62" y="39"/>
                      </a:lnTo>
                      <a:lnTo>
                        <a:pt x="62" y="120"/>
                      </a:lnTo>
                      <a:lnTo>
                        <a:pt x="80" y="137"/>
                      </a:lnTo>
                      <a:lnTo>
                        <a:pt x="80" y="172"/>
                      </a:lnTo>
                      <a:lnTo>
                        <a:pt x="71" y="172"/>
                      </a:lnTo>
                      <a:lnTo>
                        <a:pt x="39" y="203"/>
                      </a:lnTo>
                      <a:lnTo>
                        <a:pt x="39" y="235"/>
                      </a:lnTo>
                      <a:lnTo>
                        <a:pt x="0" y="288"/>
                      </a:lnTo>
                      <a:lnTo>
                        <a:pt x="129" y="288"/>
                      </a:lnTo>
                      <a:lnTo>
                        <a:pt x="169" y="22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3489480" y="1068480"/>
                  <a:ext cx="32040" cy="36720"/>
                </a:xfrm>
                <a:custGeom>
                  <a:avLst/>
                  <a:gdLst/>
                  <a:ahLst/>
                  <a:rect l="0" t="0" r="r" b="b"/>
                  <a:pathLst>
                    <a:path w="89" h="102">
                      <a:moveTo>
                        <a:pt x="75" y="35"/>
                      </a:moveTo>
                      <a:lnTo>
                        <a:pt x="89" y="35"/>
                      </a:lnTo>
                      <a:lnTo>
                        <a:pt x="89" y="0"/>
                      </a:lnTo>
                      <a:lnTo>
                        <a:pt x="58" y="0"/>
                      </a:lnTo>
                      <a:lnTo>
                        <a:pt x="0" y="67"/>
                      </a:lnTo>
                      <a:lnTo>
                        <a:pt x="0" y="102"/>
                      </a:lnTo>
                      <a:lnTo>
                        <a:pt x="53" y="102"/>
                      </a:lnTo>
                      <a:lnTo>
                        <a:pt x="75" y="75"/>
                      </a:lnTo>
                      <a:lnTo>
                        <a:pt x="75" y="35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3440160" y="1006560"/>
                  <a:ext cx="405000" cy="341640"/>
                </a:xfrm>
                <a:custGeom>
                  <a:avLst/>
                  <a:gdLst/>
                  <a:ahLst/>
                  <a:rect l="0" t="0" r="r" b="b"/>
                  <a:pathLst>
                    <a:path w="1125" h="949">
                      <a:moveTo>
                        <a:pt x="741" y="0"/>
                      </a:moveTo>
                      <a:lnTo>
                        <a:pt x="741" y="66"/>
                      </a:lnTo>
                      <a:lnTo>
                        <a:pt x="763" y="88"/>
                      </a:lnTo>
                      <a:lnTo>
                        <a:pt x="887" y="88"/>
                      </a:lnTo>
                      <a:lnTo>
                        <a:pt x="887" y="123"/>
                      </a:lnTo>
                      <a:lnTo>
                        <a:pt x="799" y="123"/>
                      </a:lnTo>
                      <a:lnTo>
                        <a:pt x="799" y="229"/>
                      </a:lnTo>
                      <a:lnTo>
                        <a:pt x="759" y="180"/>
                      </a:lnTo>
                      <a:lnTo>
                        <a:pt x="759" y="246"/>
                      </a:lnTo>
                      <a:lnTo>
                        <a:pt x="706" y="308"/>
                      </a:lnTo>
                      <a:lnTo>
                        <a:pt x="671" y="273"/>
                      </a:lnTo>
                      <a:lnTo>
                        <a:pt x="618" y="317"/>
                      </a:lnTo>
                      <a:lnTo>
                        <a:pt x="609" y="304"/>
                      </a:lnTo>
                      <a:lnTo>
                        <a:pt x="542" y="304"/>
                      </a:lnTo>
                      <a:lnTo>
                        <a:pt x="578" y="260"/>
                      </a:lnTo>
                      <a:lnTo>
                        <a:pt x="578" y="242"/>
                      </a:lnTo>
                      <a:lnTo>
                        <a:pt x="546" y="211"/>
                      </a:lnTo>
                      <a:lnTo>
                        <a:pt x="546" y="163"/>
                      </a:lnTo>
                      <a:lnTo>
                        <a:pt x="502" y="211"/>
                      </a:lnTo>
                      <a:lnTo>
                        <a:pt x="502" y="304"/>
                      </a:lnTo>
                      <a:lnTo>
                        <a:pt x="449" y="304"/>
                      </a:lnTo>
                      <a:lnTo>
                        <a:pt x="383" y="370"/>
                      </a:lnTo>
                      <a:lnTo>
                        <a:pt x="357" y="370"/>
                      </a:lnTo>
                      <a:lnTo>
                        <a:pt x="321" y="414"/>
                      </a:lnTo>
                      <a:lnTo>
                        <a:pt x="189" y="414"/>
                      </a:lnTo>
                      <a:lnTo>
                        <a:pt x="233" y="477"/>
                      </a:lnTo>
                      <a:lnTo>
                        <a:pt x="233" y="574"/>
                      </a:lnTo>
                      <a:lnTo>
                        <a:pt x="189" y="631"/>
                      </a:lnTo>
                      <a:lnTo>
                        <a:pt x="136" y="574"/>
                      </a:lnTo>
                      <a:lnTo>
                        <a:pt x="35" y="574"/>
                      </a:lnTo>
                      <a:lnTo>
                        <a:pt x="35" y="644"/>
                      </a:lnTo>
                      <a:lnTo>
                        <a:pt x="0" y="688"/>
                      </a:lnTo>
                      <a:lnTo>
                        <a:pt x="0" y="781"/>
                      </a:lnTo>
                      <a:lnTo>
                        <a:pt x="66" y="856"/>
                      </a:lnTo>
                      <a:lnTo>
                        <a:pt x="163" y="856"/>
                      </a:lnTo>
                      <a:lnTo>
                        <a:pt x="313" y="675"/>
                      </a:lnTo>
                      <a:lnTo>
                        <a:pt x="445" y="675"/>
                      </a:lnTo>
                      <a:lnTo>
                        <a:pt x="463" y="640"/>
                      </a:lnTo>
                      <a:lnTo>
                        <a:pt x="493" y="675"/>
                      </a:lnTo>
                      <a:lnTo>
                        <a:pt x="489" y="710"/>
                      </a:lnTo>
                      <a:lnTo>
                        <a:pt x="613" y="834"/>
                      </a:lnTo>
                      <a:lnTo>
                        <a:pt x="613" y="887"/>
                      </a:lnTo>
                      <a:lnTo>
                        <a:pt x="640" y="865"/>
                      </a:lnTo>
                      <a:lnTo>
                        <a:pt x="627" y="834"/>
                      </a:lnTo>
                      <a:lnTo>
                        <a:pt x="640" y="816"/>
                      </a:lnTo>
                      <a:lnTo>
                        <a:pt x="662" y="834"/>
                      </a:lnTo>
                      <a:lnTo>
                        <a:pt x="671" y="830"/>
                      </a:lnTo>
                      <a:lnTo>
                        <a:pt x="542" y="671"/>
                      </a:lnTo>
                      <a:lnTo>
                        <a:pt x="542" y="613"/>
                      </a:lnTo>
                      <a:lnTo>
                        <a:pt x="578" y="613"/>
                      </a:lnTo>
                      <a:lnTo>
                        <a:pt x="578" y="644"/>
                      </a:lnTo>
                      <a:lnTo>
                        <a:pt x="706" y="785"/>
                      </a:lnTo>
                      <a:lnTo>
                        <a:pt x="706" y="830"/>
                      </a:lnTo>
                      <a:lnTo>
                        <a:pt x="759" y="891"/>
                      </a:lnTo>
                      <a:lnTo>
                        <a:pt x="746" y="904"/>
                      </a:lnTo>
                      <a:lnTo>
                        <a:pt x="785" y="949"/>
                      </a:lnTo>
                      <a:lnTo>
                        <a:pt x="843" y="882"/>
                      </a:lnTo>
                      <a:lnTo>
                        <a:pt x="807" y="843"/>
                      </a:lnTo>
                      <a:lnTo>
                        <a:pt x="843" y="803"/>
                      </a:lnTo>
                      <a:lnTo>
                        <a:pt x="891" y="803"/>
                      </a:lnTo>
                      <a:lnTo>
                        <a:pt x="913" y="781"/>
                      </a:lnTo>
                      <a:lnTo>
                        <a:pt x="944" y="781"/>
                      </a:lnTo>
                      <a:lnTo>
                        <a:pt x="904" y="724"/>
                      </a:lnTo>
                      <a:lnTo>
                        <a:pt x="927" y="697"/>
                      </a:lnTo>
                      <a:lnTo>
                        <a:pt x="927" y="605"/>
                      </a:lnTo>
                      <a:lnTo>
                        <a:pt x="966" y="556"/>
                      </a:lnTo>
                      <a:lnTo>
                        <a:pt x="984" y="574"/>
                      </a:lnTo>
                      <a:lnTo>
                        <a:pt x="1024" y="574"/>
                      </a:lnTo>
                      <a:lnTo>
                        <a:pt x="1006" y="600"/>
                      </a:lnTo>
                      <a:lnTo>
                        <a:pt x="1041" y="640"/>
                      </a:lnTo>
                      <a:lnTo>
                        <a:pt x="1063" y="605"/>
                      </a:lnTo>
                      <a:lnTo>
                        <a:pt x="1090" y="605"/>
                      </a:lnTo>
                      <a:lnTo>
                        <a:pt x="1090" y="591"/>
                      </a:lnTo>
                      <a:lnTo>
                        <a:pt x="1076" y="591"/>
                      </a:lnTo>
                      <a:lnTo>
                        <a:pt x="1054" y="574"/>
                      </a:lnTo>
                      <a:lnTo>
                        <a:pt x="1112" y="503"/>
                      </a:lnTo>
                      <a:lnTo>
                        <a:pt x="1112" y="605"/>
                      </a:lnTo>
                      <a:lnTo>
                        <a:pt x="1125" y="605"/>
                      </a:lnTo>
                      <a:lnTo>
                        <a:pt x="1125" y="0"/>
                      </a:lnTo>
                      <a:lnTo>
                        <a:pt x="741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3613320" y="644400"/>
                  <a:ext cx="1727640" cy="1219680"/>
                </a:xfrm>
                <a:custGeom>
                  <a:avLst/>
                  <a:gdLst/>
                  <a:ahLst/>
                  <a:rect l="0" t="0" r="r" b="b"/>
                  <a:pathLst>
                    <a:path w="4799" h="3388">
                      <a:moveTo>
                        <a:pt x="0" y="997"/>
                      </a:moveTo>
                      <a:lnTo>
                        <a:pt x="141" y="891"/>
                      </a:lnTo>
                      <a:lnTo>
                        <a:pt x="273" y="687"/>
                      </a:lnTo>
                      <a:lnTo>
                        <a:pt x="436" y="590"/>
                      </a:lnTo>
                      <a:lnTo>
                        <a:pt x="604" y="705"/>
                      </a:lnTo>
                      <a:lnTo>
                        <a:pt x="626" y="798"/>
                      </a:lnTo>
                      <a:lnTo>
                        <a:pt x="586" y="798"/>
                      </a:lnTo>
                      <a:lnTo>
                        <a:pt x="520" y="789"/>
                      </a:lnTo>
                      <a:lnTo>
                        <a:pt x="604" y="891"/>
                      </a:lnTo>
                      <a:lnTo>
                        <a:pt x="952" y="758"/>
                      </a:lnTo>
                      <a:lnTo>
                        <a:pt x="908" y="657"/>
                      </a:lnTo>
                      <a:lnTo>
                        <a:pt x="1058" y="485"/>
                      </a:lnTo>
                      <a:lnTo>
                        <a:pt x="1155" y="489"/>
                      </a:lnTo>
                      <a:lnTo>
                        <a:pt x="1062" y="546"/>
                      </a:lnTo>
                      <a:lnTo>
                        <a:pt x="983" y="674"/>
                      </a:lnTo>
                      <a:lnTo>
                        <a:pt x="983" y="758"/>
                      </a:lnTo>
                      <a:lnTo>
                        <a:pt x="1124" y="852"/>
                      </a:lnTo>
                      <a:lnTo>
                        <a:pt x="1328" y="586"/>
                      </a:lnTo>
                      <a:lnTo>
                        <a:pt x="2033" y="277"/>
                      </a:lnTo>
                      <a:lnTo>
                        <a:pt x="2029" y="101"/>
                      </a:lnTo>
                      <a:lnTo>
                        <a:pt x="2351" y="35"/>
                      </a:lnTo>
                      <a:lnTo>
                        <a:pt x="2532" y="127"/>
                      </a:lnTo>
                      <a:lnTo>
                        <a:pt x="2959" y="0"/>
                      </a:lnTo>
                      <a:lnTo>
                        <a:pt x="3092" y="66"/>
                      </a:lnTo>
                      <a:lnTo>
                        <a:pt x="3378" y="374"/>
                      </a:lnTo>
                      <a:lnTo>
                        <a:pt x="3706" y="313"/>
                      </a:lnTo>
                      <a:lnTo>
                        <a:pt x="3909" y="423"/>
                      </a:lnTo>
                      <a:lnTo>
                        <a:pt x="4416" y="401"/>
                      </a:lnTo>
                      <a:lnTo>
                        <a:pt x="4799" y="520"/>
                      </a:lnTo>
                      <a:lnTo>
                        <a:pt x="4764" y="687"/>
                      </a:lnTo>
                      <a:lnTo>
                        <a:pt x="4438" y="798"/>
                      </a:lnTo>
                      <a:lnTo>
                        <a:pt x="4495" y="909"/>
                      </a:lnTo>
                      <a:lnTo>
                        <a:pt x="4354" y="971"/>
                      </a:lnTo>
                      <a:lnTo>
                        <a:pt x="4345" y="1191"/>
                      </a:lnTo>
                      <a:lnTo>
                        <a:pt x="4222" y="1341"/>
                      </a:lnTo>
                      <a:lnTo>
                        <a:pt x="4169" y="1204"/>
                      </a:lnTo>
                      <a:lnTo>
                        <a:pt x="4239" y="1076"/>
                      </a:lnTo>
                      <a:lnTo>
                        <a:pt x="4226" y="811"/>
                      </a:lnTo>
                      <a:lnTo>
                        <a:pt x="4098" y="949"/>
                      </a:lnTo>
                      <a:lnTo>
                        <a:pt x="3997" y="1024"/>
                      </a:lnTo>
                      <a:lnTo>
                        <a:pt x="3900" y="904"/>
                      </a:lnTo>
                      <a:lnTo>
                        <a:pt x="3829" y="1204"/>
                      </a:lnTo>
                      <a:lnTo>
                        <a:pt x="3904" y="1204"/>
                      </a:lnTo>
                      <a:lnTo>
                        <a:pt x="3886" y="1403"/>
                      </a:lnTo>
                      <a:lnTo>
                        <a:pt x="3798" y="1614"/>
                      </a:lnTo>
                      <a:lnTo>
                        <a:pt x="3692" y="1698"/>
                      </a:lnTo>
                      <a:lnTo>
                        <a:pt x="3781" y="1839"/>
                      </a:lnTo>
                      <a:lnTo>
                        <a:pt x="3723" y="1936"/>
                      </a:lnTo>
                      <a:lnTo>
                        <a:pt x="3701" y="1853"/>
                      </a:lnTo>
                      <a:lnTo>
                        <a:pt x="3701" y="1822"/>
                      </a:lnTo>
                      <a:lnTo>
                        <a:pt x="3631" y="1773"/>
                      </a:lnTo>
                      <a:lnTo>
                        <a:pt x="3515" y="1835"/>
                      </a:lnTo>
                      <a:lnTo>
                        <a:pt x="3617" y="2069"/>
                      </a:lnTo>
                      <a:lnTo>
                        <a:pt x="3653" y="2188"/>
                      </a:lnTo>
                      <a:lnTo>
                        <a:pt x="3533" y="2510"/>
                      </a:lnTo>
                      <a:lnTo>
                        <a:pt x="3312" y="2599"/>
                      </a:lnTo>
                      <a:lnTo>
                        <a:pt x="3131" y="2581"/>
                      </a:lnTo>
                      <a:lnTo>
                        <a:pt x="3220" y="2713"/>
                      </a:lnTo>
                      <a:lnTo>
                        <a:pt x="3228" y="2899"/>
                      </a:lnTo>
                      <a:lnTo>
                        <a:pt x="3101" y="3115"/>
                      </a:lnTo>
                      <a:lnTo>
                        <a:pt x="2955" y="2996"/>
                      </a:lnTo>
                      <a:lnTo>
                        <a:pt x="2933" y="3124"/>
                      </a:lnTo>
                      <a:lnTo>
                        <a:pt x="3043" y="3229"/>
                      </a:lnTo>
                      <a:lnTo>
                        <a:pt x="3136" y="3388"/>
                      </a:lnTo>
                      <a:lnTo>
                        <a:pt x="2981" y="3296"/>
                      </a:lnTo>
                      <a:lnTo>
                        <a:pt x="2796" y="2762"/>
                      </a:lnTo>
                      <a:lnTo>
                        <a:pt x="2571" y="2616"/>
                      </a:lnTo>
                      <a:lnTo>
                        <a:pt x="2404" y="2630"/>
                      </a:lnTo>
                      <a:lnTo>
                        <a:pt x="2192" y="2934"/>
                      </a:lnTo>
                      <a:lnTo>
                        <a:pt x="2219" y="3040"/>
                      </a:lnTo>
                      <a:lnTo>
                        <a:pt x="2148" y="3256"/>
                      </a:lnTo>
                      <a:lnTo>
                        <a:pt x="2077" y="3256"/>
                      </a:lnTo>
                      <a:lnTo>
                        <a:pt x="1835" y="2806"/>
                      </a:lnTo>
                      <a:lnTo>
                        <a:pt x="1835" y="2612"/>
                      </a:lnTo>
                      <a:lnTo>
                        <a:pt x="1782" y="2683"/>
                      </a:lnTo>
                      <a:lnTo>
                        <a:pt x="1645" y="2678"/>
                      </a:lnTo>
                      <a:lnTo>
                        <a:pt x="1698" y="2559"/>
                      </a:lnTo>
                      <a:lnTo>
                        <a:pt x="1482" y="2404"/>
                      </a:lnTo>
                      <a:lnTo>
                        <a:pt x="1213" y="2404"/>
                      </a:lnTo>
                      <a:lnTo>
                        <a:pt x="983" y="2249"/>
                      </a:lnTo>
                      <a:lnTo>
                        <a:pt x="970" y="2404"/>
                      </a:lnTo>
                      <a:lnTo>
                        <a:pt x="1159" y="2546"/>
                      </a:lnTo>
                      <a:lnTo>
                        <a:pt x="1226" y="2542"/>
                      </a:lnTo>
                      <a:lnTo>
                        <a:pt x="1031" y="2736"/>
                      </a:lnTo>
                      <a:lnTo>
                        <a:pt x="837" y="2780"/>
                      </a:lnTo>
                      <a:lnTo>
                        <a:pt x="837" y="2669"/>
                      </a:lnTo>
                      <a:lnTo>
                        <a:pt x="560" y="2285"/>
                      </a:lnTo>
                      <a:lnTo>
                        <a:pt x="524" y="2183"/>
                      </a:lnTo>
                      <a:lnTo>
                        <a:pt x="674" y="2060"/>
                      </a:lnTo>
                      <a:lnTo>
                        <a:pt x="657" y="1906"/>
                      </a:lnTo>
                      <a:lnTo>
                        <a:pt x="657" y="1734"/>
                      </a:lnTo>
                      <a:lnTo>
                        <a:pt x="732" y="1698"/>
                      </a:lnTo>
                      <a:lnTo>
                        <a:pt x="657" y="1614"/>
                      </a:lnTo>
                      <a:lnTo>
                        <a:pt x="657" y="997"/>
                      </a:lnTo>
                      <a:lnTo>
                        <a:pt x="268" y="997"/>
                      </a:lnTo>
                      <a:lnTo>
                        <a:pt x="379" y="852"/>
                      </a:lnTo>
                      <a:lnTo>
                        <a:pt x="370" y="798"/>
                      </a:lnTo>
                      <a:lnTo>
                        <a:pt x="242" y="927"/>
                      </a:lnTo>
                      <a:lnTo>
                        <a:pt x="198" y="997"/>
                      </a:lnTo>
                      <a:lnTo>
                        <a:pt x="0" y="99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4976640" y="1143000"/>
                  <a:ext cx="147960" cy="248040"/>
                </a:xfrm>
                <a:custGeom>
                  <a:avLst/>
                  <a:gdLst/>
                  <a:ahLst/>
                  <a:rect l="0" t="0" r="r" b="b"/>
                  <a:pathLst>
                    <a:path w="411" h="689">
                      <a:moveTo>
                        <a:pt x="278" y="0"/>
                      </a:moveTo>
                      <a:lnTo>
                        <a:pt x="278" y="88"/>
                      </a:lnTo>
                      <a:lnTo>
                        <a:pt x="243" y="145"/>
                      </a:lnTo>
                      <a:lnTo>
                        <a:pt x="252" y="239"/>
                      </a:lnTo>
                      <a:lnTo>
                        <a:pt x="208" y="362"/>
                      </a:lnTo>
                      <a:lnTo>
                        <a:pt x="136" y="477"/>
                      </a:lnTo>
                      <a:lnTo>
                        <a:pt x="30" y="553"/>
                      </a:lnTo>
                      <a:lnTo>
                        <a:pt x="0" y="681"/>
                      </a:lnTo>
                      <a:lnTo>
                        <a:pt x="44" y="689"/>
                      </a:lnTo>
                      <a:lnTo>
                        <a:pt x="44" y="570"/>
                      </a:lnTo>
                      <a:lnTo>
                        <a:pt x="194" y="562"/>
                      </a:lnTo>
                      <a:lnTo>
                        <a:pt x="305" y="481"/>
                      </a:lnTo>
                      <a:lnTo>
                        <a:pt x="305" y="318"/>
                      </a:lnTo>
                      <a:lnTo>
                        <a:pt x="340" y="256"/>
                      </a:lnTo>
                      <a:lnTo>
                        <a:pt x="283" y="149"/>
                      </a:lnTo>
                      <a:lnTo>
                        <a:pt x="362" y="119"/>
                      </a:lnTo>
                      <a:lnTo>
                        <a:pt x="411" y="35"/>
                      </a:lnTo>
                      <a:lnTo>
                        <a:pt x="305" y="48"/>
                      </a:lnTo>
                      <a:lnTo>
                        <a:pt x="278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13240" y="1808280"/>
                  <a:ext cx="28800" cy="55800"/>
                </a:xfrm>
                <a:custGeom>
                  <a:avLst/>
                  <a:gdLst/>
                  <a:ahLst/>
                  <a:rect l="0" t="0" r="r" b="b"/>
                  <a:pathLst>
                    <a:path w="80" h="155">
                      <a:moveTo>
                        <a:pt x="39" y="0"/>
                      </a:moveTo>
                      <a:lnTo>
                        <a:pt x="0" y="70"/>
                      </a:lnTo>
                      <a:lnTo>
                        <a:pt x="26" y="155"/>
                      </a:lnTo>
                      <a:lnTo>
                        <a:pt x="80" y="93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4640400" y="1868400"/>
                  <a:ext cx="348120" cy="147960"/>
                </a:xfrm>
                <a:custGeom>
                  <a:avLst/>
                  <a:gdLst/>
                  <a:ahLst/>
                  <a:rect l="0" t="0" r="r" b="b"/>
                  <a:pathLst>
                    <a:path w="967" h="411">
                      <a:moveTo>
                        <a:pt x="0" y="0"/>
                      </a:moveTo>
                      <a:lnTo>
                        <a:pt x="145" y="30"/>
                      </a:lnTo>
                      <a:lnTo>
                        <a:pt x="362" y="180"/>
                      </a:lnTo>
                      <a:lnTo>
                        <a:pt x="331" y="265"/>
                      </a:lnTo>
                      <a:lnTo>
                        <a:pt x="508" y="340"/>
                      </a:lnTo>
                      <a:lnTo>
                        <a:pt x="967" y="340"/>
                      </a:lnTo>
                      <a:lnTo>
                        <a:pt x="468" y="411"/>
                      </a:lnTo>
                      <a:lnTo>
                        <a:pt x="331" y="265"/>
                      </a:lnTo>
                      <a:lnTo>
                        <a:pt x="202" y="23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4917960" y="1992240"/>
                  <a:ext cx="373320" cy="349560"/>
                </a:xfrm>
                <a:custGeom>
                  <a:avLst/>
                  <a:gdLst/>
                  <a:ahLst/>
                  <a:rect l="0" t="0" r="r" b="b"/>
                  <a:pathLst>
                    <a:path w="1037" h="971">
                      <a:moveTo>
                        <a:pt x="865" y="949"/>
                      </a:moveTo>
                      <a:lnTo>
                        <a:pt x="838" y="953"/>
                      </a:lnTo>
                      <a:lnTo>
                        <a:pt x="816" y="971"/>
                      </a:lnTo>
                      <a:lnTo>
                        <a:pt x="790" y="935"/>
                      </a:lnTo>
                      <a:lnTo>
                        <a:pt x="697" y="891"/>
                      </a:lnTo>
                      <a:lnTo>
                        <a:pt x="680" y="825"/>
                      </a:lnTo>
                      <a:lnTo>
                        <a:pt x="649" y="803"/>
                      </a:lnTo>
                      <a:lnTo>
                        <a:pt x="574" y="803"/>
                      </a:lnTo>
                      <a:lnTo>
                        <a:pt x="574" y="750"/>
                      </a:lnTo>
                      <a:lnTo>
                        <a:pt x="547" y="737"/>
                      </a:lnTo>
                      <a:lnTo>
                        <a:pt x="543" y="693"/>
                      </a:lnTo>
                      <a:lnTo>
                        <a:pt x="485" y="684"/>
                      </a:lnTo>
                      <a:lnTo>
                        <a:pt x="432" y="671"/>
                      </a:lnTo>
                      <a:lnTo>
                        <a:pt x="383" y="684"/>
                      </a:lnTo>
                      <a:lnTo>
                        <a:pt x="383" y="693"/>
                      </a:lnTo>
                      <a:lnTo>
                        <a:pt x="273" y="728"/>
                      </a:lnTo>
                      <a:lnTo>
                        <a:pt x="273" y="746"/>
                      </a:lnTo>
                      <a:lnTo>
                        <a:pt x="176" y="746"/>
                      </a:lnTo>
                      <a:lnTo>
                        <a:pt x="123" y="777"/>
                      </a:lnTo>
                      <a:lnTo>
                        <a:pt x="66" y="746"/>
                      </a:lnTo>
                      <a:lnTo>
                        <a:pt x="61" y="737"/>
                      </a:lnTo>
                      <a:lnTo>
                        <a:pt x="61" y="671"/>
                      </a:lnTo>
                      <a:lnTo>
                        <a:pt x="44" y="613"/>
                      </a:lnTo>
                      <a:lnTo>
                        <a:pt x="22" y="561"/>
                      </a:lnTo>
                      <a:lnTo>
                        <a:pt x="35" y="521"/>
                      </a:lnTo>
                      <a:lnTo>
                        <a:pt x="13" y="503"/>
                      </a:lnTo>
                      <a:lnTo>
                        <a:pt x="0" y="410"/>
                      </a:lnTo>
                      <a:lnTo>
                        <a:pt x="13" y="348"/>
                      </a:lnTo>
                      <a:lnTo>
                        <a:pt x="70" y="299"/>
                      </a:lnTo>
                      <a:lnTo>
                        <a:pt x="194" y="264"/>
                      </a:lnTo>
                      <a:lnTo>
                        <a:pt x="224" y="224"/>
                      </a:lnTo>
                      <a:lnTo>
                        <a:pt x="211" y="180"/>
                      </a:lnTo>
                      <a:lnTo>
                        <a:pt x="242" y="167"/>
                      </a:lnTo>
                      <a:lnTo>
                        <a:pt x="251" y="189"/>
                      </a:lnTo>
                      <a:lnTo>
                        <a:pt x="264" y="154"/>
                      </a:lnTo>
                      <a:lnTo>
                        <a:pt x="339" y="97"/>
                      </a:lnTo>
                      <a:lnTo>
                        <a:pt x="383" y="123"/>
                      </a:lnTo>
                      <a:lnTo>
                        <a:pt x="432" y="110"/>
                      </a:lnTo>
                      <a:lnTo>
                        <a:pt x="449" y="57"/>
                      </a:lnTo>
                      <a:lnTo>
                        <a:pt x="498" y="44"/>
                      </a:lnTo>
                      <a:lnTo>
                        <a:pt x="485" y="8"/>
                      </a:lnTo>
                      <a:lnTo>
                        <a:pt x="552" y="35"/>
                      </a:lnTo>
                      <a:lnTo>
                        <a:pt x="609" y="22"/>
                      </a:lnTo>
                      <a:lnTo>
                        <a:pt x="640" y="149"/>
                      </a:lnTo>
                      <a:lnTo>
                        <a:pt x="680" y="189"/>
                      </a:lnTo>
                      <a:lnTo>
                        <a:pt x="719" y="189"/>
                      </a:lnTo>
                      <a:lnTo>
                        <a:pt x="737" y="110"/>
                      </a:lnTo>
                      <a:lnTo>
                        <a:pt x="728" y="70"/>
                      </a:lnTo>
                      <a:lnTo>
                        <a:pt x="737" y="8"/>
                      </a:lnTo>
                      <a:lnTo>
                        <a:pt x="759" y="0"/>
                      </a:lnTo>
                      <a:lnTo>
                        <a:pt x="790" y="79"/>
                      </a:lnTo>
                      <a:lnTo>
                        <a:pt x="816" y="97"/>
                      </a:lnTo>
                      <a:lnTo>
                        <a:pt x="834" y="167"/>
                      </a:lnTo>
                      <a:lnTo>
                        <a:pt x="865" y="264"/>
                      </a:lnTo>
                      <a:lnTo>
                        <a:pt x="909" y="291"/>
                      </a:lnTo>
                      <a:lnTo>
                        <a:pt x="966" y="366"/>
                      </a:lnTo>
                      <a:lnTo>
                        <a:pt x="975" y="401"/>
                      </a:lnTo>
                      <a:lnTo>
                        <a:pt x="1024" y="445"/>
                      </a:lnTo>
                      <a:lnTo>
                        <a:pt x="1037" y="525"/>
                      </a:lnTo>
                      <a:lnTo>
                        <a:pt x="1037" y="587"/>
                      </a:lnTo>
                      <a:lnTo>
                        <a:pt x="1024" y="684"/>
                      </a:lnTo>
                      <a:lnTo>
                        <a:pt x="975" y="746"/>
                      </a:lnTo>
                      <a:lnTo>
                        <a:pt x="957" y="825"/>
                      </a:lnTo>
                      <a:lnTo>
                        <a:pt x="957" y="891"/>
                      </a:lnTo>
                      <a:lnTo>
                        <a:pt x="909" y="904"/>
                      </a:lnTo>
                      <a:lnTo>
                        <a:pt x="865" y="94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5216400" y="2362320"/>
                  <a:ext cx="27360" cy="41760"/>
                </a:xfrm>
                <a:custGeom>
                  <a:avLst/>
                  <a:gdLst/>
                  <a:ahLst/>
                  <a:rect l="0" t="0" r="r" b="b"/>
                  <a:pathLst>
                    <a:path w="76" h="116">
                      <a:moveTo>
                        <a:pt x="40" y="103"/>
                      </a:moveTo>
                      <a:lnTo>
                        <a:pt x="13" y="84"/>
                      </a:lnTo>
                      <a:lnTo>
                        <a:pt x="13" y="67"/>
                      </a:lnTo>
                      <a:lnTo>
                        <a:pt x="13" y="49"/>
                      </a:lnTo>
                      <a:lnTo>
                        <a:pt x="8" y="31"/>
                      </a:lnTo>
                      <a:lnTo>
                        <a:pt x="0" y="0"/>
                      </a:lnTo>
                      <a:lnTo>
                        <a:pt x="13" y="0"/>
                      </a:lnTo>
                      <a:lnTo>
                        <a:pt x="40" y="17"/>
                      </a:lnTo>
                      <a:lnTo>
                        <a:pt x="53" y="13"/>
                      </a:lnTo>
                      <a:lnTo>
                        <a:pt x="59" y="13"/>
                      </a:lnTo>
                      <a:lnTo>
                        <a:pt x="76" y="0"/>
                      </a:lnTo>
                      <a:lnTo>
                        <a:pt x="76" y="49"/>
                      </a:lnTo>
                      <a:lnTo>
                        <a:pt x="68" y="67"/>
                      </a:lnTo>
                      <a:lnTo>
                        <a:pt x="59" y="84"/>
                      </a:lnTo>
                      <a:lnTo>
                        <a:pt x="59" y="99"/>
                      </a:lnTo>
                      <a:lnTo>
                        <a:pt x="53" y="103"/>
                      </a:lnTo>
                      <a:lnTo>
                        <a:pt x="53" y="116"/>
                      </a:lnTo>
                      <a:lnTo>
                        <a:pt x="40" y="103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-3240" bIns="-3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3909960" y="1960560"/>
                  <a:ext cx="39960" cy="167040"/>
                </a:xfrm>
                <a:custGeom>
                  <a:avLst/>
                  <a:gdLst/>
                  <a:ahLst/>
                  <a:rect l="0" t="0" r="r" b="b"/>
                  <a:pathLst>
                    <a:path w="111" h="464">
                      <a:moveTo>
                        <a:pt x="13" y="163"/>
                      </a:moveTo>
                      <a:lnTo>
                        <a:pt x="58" y="123"/>
                      </a:lnTo>
                      <a:lnTo>
                        <a:pt x="89" y="0"/>
                      </a:lnTo>
                      <a:lnTo>
                        <a:pt x="111" y="185"/>
                      </a:lnTo>
                      <a:lnTo>
                        <a:pt x="75" y="415"/>
                      </a:lnTo>
                      <a:lnTo>
                        <a:pt x="0" y="464"/>
                      </a:lnTo>
                      <a:lnTo>
                        <a:pt x="0" y="353"/>
                      </a:lnTo>
                      <a:lnTo>
                        <a:pt x="22" y="283"/>
                      </a:lnTo>
                      <a:lnTo>
                        <a:pt x="13" y="163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2" name=""/>
          <p:cNvSpPr txBox="1"/>
          <p:nvPr/>
        </p:nvSpPr>
        <p:spPr>
          <a:xfrm>
            <a:off x="609480" y="1371600"/>
            <a:ext cx="7848720" cy="29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1996 Frontiers in</a:t>
            </a:r>
            <a:br>
              <a:rPr sz="4800"/>
            </a:br>
            <a:r>
              <a:rPr b="1" lang="en-US" sz="4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Education Conference</a:t>
            </a:r>
            <a:br>
              <a:rPr sz="4800"/>
            </a:br>
            <a:r>
              <a:rPr b="1" lang="en-US" sz="4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12:30-2pm, Nov. 7, 1996</a:t>
            </a:r>
            <a:br>
              <a:rPr sz="4800"/>
            </a:br>
            <a:r>
              <a:rPr b="1" lang="en-US" sz="4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alt Lake City, Utah</a:t>
            </a:r>
            <a:br>
              <a:rPr sz="1800"/>
            </a:b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3048120"/>
            <a:ext cx="85345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Future Role of Publishers in the New Educational Dynamic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705040" y="4694400"/>
            <a:ext cx="3797280" cy="20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PANEL CHAI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Edward A. Fo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fox@vt.ed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http://fox.cs.vt.ed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85800" y="28584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PANELIST  STATEMENTS: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har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211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S University of Virgi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 years at John Wiley and S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books, software - undergrad Eng. / 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active media: Thermodynamics, Fluid Mechanics, Circuits, Dynam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-based custom publis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ey College Division homep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85800" y="28584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NT  SURVEY: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Office / Home  Connectiv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1962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M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Base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thernet or token r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D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ound 28.8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ow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85800" y="28584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NT  SURVEY: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uthors o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1962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book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ap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media coursewar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ula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active tutorial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 world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685800" y="28584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NT  SURVEY: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ompetenc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1962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n a WWW sit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d process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entation tool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horing tool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hor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Bo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85800" y="28584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NT  SURVEY: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WW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18097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me pag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cture not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signments?  (solutions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izes?  (solutions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# links (0, 1-10, 11-25, 26-50, 51-100, 100+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 universiti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shers? industr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85800" y="28584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NT  SURVEY: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Reading Materials for Cour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762120" y="211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ical reports / research repor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urnal or magazine articl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spaper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cyclopedia?  other reference work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book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 3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 6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 9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85800" y="28584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NT  SURVEY: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Reuse (besides texts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cture not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 demos or presenta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b guid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f-study uni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iz questions / test bank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ula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active tutorial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 WWW material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685800" y="28584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NT  SURVEY: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Packaging Pre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85800" y="2343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1440"/>
              </a:spcAft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 vs. WWW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1440"/>
              </a:spcAft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individuals vs. for lab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1440"/>
              </a:spcAft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 course? per year? for program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1440"/>
              </a:spcAft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t purchase? subscrip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85800" y="28584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PREPARED  QUESTIONS: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ot a Profitable Busin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0880" y="20383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ity: Since publishing interactive media for college courses is not generally a profitable business, should commercial publishers stop developing interactive medi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28584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PREPARED  QUESTIONS: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low Adoption of New Med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1906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8587"/>
              </a:spcBef>
              <a:spcAft>
                <a:spcPts val="961"/>
              </a:spcAft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ise: Why have most instructors been slow to adopt new media courseware material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spcAft>
                <a:spcPts val="961"/>
              </a:spcAft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d: Why have publishers moved so slowly into electronic publish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2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OUT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961"/>
              </a:spcAft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ing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961"/>
              </a:spcAft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nt Surve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961"/>
              </a:spcAft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pared Ques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961"/>
              </a:spcAft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dience Ques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961"/>
              </a:spcAft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clus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685800" y="28584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PREPARED  QUESTIONS: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80880" y="1886040"/>
            <a:ext cx="8077320" cy="41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slie: What are the primary objectives of electronic publish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publis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administra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instru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stud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: How do publishers and faculty react to the increasing role of the student in choosing their own learning material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85800" y="28584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PREPARED  QUESTIONS: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Value / Char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80880" y="1886040"/>
            <a:ext cx="807732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ise: To seem economically worthwhile to students, must interactive courseware contain a “value-added” componen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ve tools or application sof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 usable in other courses / for other purpo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slie: What is a reasonable charge for a multimedia product / book / CD / on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a stud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a lab licen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85800" y="28584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PREPARED  QUESTIONS: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ollabor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80880" y="20383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slie: How can publishers facilitate and encourage collab. among teams of educational multimedia developer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oss-discipl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oss-univers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d: Are there examples / stories                   (of success / failure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d: What roles are best played by each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85800" y="28584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PREPARED  QUESTIONS: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WW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80880" y="20383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d: Will WWW wipe out current publisher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d:  How will copyright law have to change to make electronic publishing work on WWW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d: What IPR protection is needed for WWW distribution to be trusted by publisher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ap charges for electronic commerc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ermarking? cryptolop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85800" y="28584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PREPARED  QUESTIONS: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extbook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80880" y="20383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d:  Will textbooks recede in importanc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) students buy subscrip’s to all publisher wo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) students buy large items (CD-ROM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) students buy small items (modul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d: Will there be a shift from text to multimedia?   Will we continue with both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85800" y="28584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PREPARED  QUESTIONS: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pecialty Servi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838080" y="2419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2401"/>
              </a:spcAft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: What is the role of custom publish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2401"/>
              </a:spcAft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d: Will there be a shift from objects to services?  to student-centered suppor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85800" y="28584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PREPARED  QUESTIONS: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Engineer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762120" y="2419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2160"/>
              </a:spcAft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: How should publishers treat the special characteristics of the engineering field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2160"/>
              </a:spcAft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: How should publishers address the expanding engineering knowledge bas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85800" y="28584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PREPARED  QUESTIONS: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tance Lear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80880" y="20383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2160"/>
              </a:spcAft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d: How will publishers fit into distance / distributed learn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2160"/>
              </a:spcAft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d: Will publishers provide support / help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2160"/>
              </a:spcAft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d: Will there be a shift to direct sales? Electronic direct sal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28584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PREPARED  QUESTIONS: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gital Librar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22669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2401"/>
              </a:spcAft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d: What will be the impact of digital libraries in the futur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d: What should be the role of publishers? universities?  associations?  governme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85800" y="28584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PREPARED  QUESTIONS: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Long Ter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228600" y="20383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720"/>
              </a:spcAft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d: Why not make standard practice for books be to “retire” them onto WWW?  Let authors buy back for $1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241"/>
              </a:spcAft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d: How can we make multimedia material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t for ye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n ever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d: What is / will be the role of standard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28584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OPENING: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Why am I Up Her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spaper Automation Study (1970), I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 (1986) -&gt; VA Discs 1,2,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M Press DB &amp; Electronic Publ. (1987-9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cumentary (1990) “Interactive Digital Video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unded ACM Multimedia and DL Conf. Se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st WWW CS Repository   http://ei.cs.vt.edu (100K hits/week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KP Book Series: Multimedia Info. &amp;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85800" y="2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UDIENCE  QUES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85800" y="2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ONCLUS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28584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OPENING: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gital Librar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20383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CR Licklider (1965) “Libraries of the Future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VISION (ACM, IEEE-CS; 1991), E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book on Digital Libraries (1993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SF/ARPA/NASA DL Initiative (1994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ed CS Tech Report Library (1995) http://www.ncstrl.org (please join!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ional DL of Theses and Dissertations http://etd.vt.edu/etd/   (please join!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28584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OPENING: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cope of 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1886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als: Teaching, Learning, Pedag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les: Authors, Universities, R&amp;D Labs, Associations, Commercial Publishers, (Digital) Libraries, Bookstores, Stud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laboration: Produce/Consume, Co-design, Prototype/Commercial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$: Copyright, IPR, Econom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: Now, Paradigm Shifts, Arch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28584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OPENING: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elivery  / 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85800" y="16574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o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urn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gaz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p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W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648320" y="16574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yper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med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ypermed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a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2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PANELIS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1657440"/>
            <a:ext cx="7772400" cy="418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ison Wesley Longman:                 Denise Descoteaux  (Senior Producer, Interactive Engineering Produc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WS Publishing:                                   Leslie Bondaryk  (Manager,         Technology Developme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ey:                                                 Charity Robey  (Executive Editor, Engineering &amp; Computer Scie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85800" y="28584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PANELIST  STATEMENTS: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eni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85800" y="2038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 years in publis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desk Col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media Engineering Dynamics    (author Kurt Gramoll): New Media Magazine Bronze Envision Aw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ics companion product this mon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vPhys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28584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PANELIST  STATEMENTS: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Lesli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1657440"/>
            <a:ext cx="7772400" cy="442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E: BS MIT, MS UC Santa Barba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 years with educational materi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years w. MathSoft (Mathcad), Schaums Interactive Outline Series w. McGraw-Hi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culus Modules On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WS Multimedia Approach Se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ectronics Workben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d, Thomson Publishing Center of Excellence in Web Tools for Instr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nformation Systems</dc:creator>
  <dc:description/>
  <dc:language>en-US</dc:language>
  <cp:lastModifiedBy>Information Systems</cp:lastModifiedBy>
  <cp:revision>0</cp:revision>
  <dc:subject/>
  <dc:title>NSF CISE EI (Educational Innovation) PIs Meeting November 5-7, 1996 Salt Lake City, Utah </dc:title>
</cp:coreProperties>
</file>