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FD93B4C-7E6F-482B-A0E1-CBE2866D12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4367160"/>
            <a:ext cx="9131400" cy="2478240"/>
            <a:chOff x="0" y="4367160"/>
            <a:chExt cx="9131400" cy="2478240"/>
          </a:xfrm>
        </p:grpSpPr>
        <p:sp>
          <p:nvSpPr>
            <p:cNvPr id="1" name=""/>
            <p:cNvSpPr/>
            <p:nvPr/>
          </p:nvSpPr>
          <p:spPr>
            <a:xfrm>
              <a:off x="0" y="6477120"/>
              <a:ext cx="9131400" cy="3682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7f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077240" y="4367160"/>
              <a:ext cx="1887480" cy="2262600"/>
              <a:chOff x="7077240" y="4367160"/>
              <a:chExt cx="1887480" cy="2262600"/>
            </a:xfrm>
          </p:grpSpPr>
          <p:sp>
            <p:nvSpPr>
              <p:cNvPr id="3" name=""/>
              <p:cNvSpPr/>
              <p:nvPr/>
            </p:nvSpPr>
            <p:spPr>
              <a:xfrm>
                <a:off x="7324560" y="4429080"/>
                <a:ext cx="1640160" cy="2019600"/>
              </a:xfrm>
              <a:custGeom>
                <a:avLst/>
                <a:gdLst/>
                <a:ahLst/>
                <a:rect l="0" t="0" r="r" b="b"/>
                <a:pathLst>
                  <a:path w="4556" h="5610">
                    <a:moveTo>
                      <a:pt x="2567" y="0"/>
                    </a:moveTo>
                    <a:lnTo>
                      <a:pt x="2849" y="101"/>
                    </a:lnTo>
                    <a:lnTo>
                      <a:pt x="3118" y="246"/>
                    </a:lnTo>
                    <a:lnTo>
                      <a:pt x="3374" y="405"/>
                    </a:lnTo>
                    <a:lnTo>
                      <a:pt x="3608" y="590"/>
                    </a:lnTo>
                    <a:lnTo>
                      <a:pt x="3819" y="811"/>
                    </a:lnTo>
                    <a:lnTo>
                      <a:pt x="4005" y="1045"/>
                    </a:lnTo>
                    <a:lnTo>
                      <a:pt x="4163" y="1296"/>
                    </a:lnTo>
                    <a:lnTo>
                      <a:pt x="4309" y="1556"/>
                    </a:lnTo>
                    <a:lnTo>
                      <a:pt x="4410" y="1838"/>
                    </a:lnTo>
                    <a:lnTo>
                      <a:pt x="4490" y="2129"/>
                    </a:lnTo>
                    <a:lnTo>
                      <a:pt x="4543" y="2425"/>
                    </a:lnTo>
                    <a:lnTo>
                      <a:pt x="4556" y="2729"/>
                    </a:lnTo>
                    <a:lnTo>
                      <a:pt x="4543" y="3034"/>
                    </a:lnTo>
                    <a:lnTo>
                      <a:pt x="4490" y="3334"/>
                    </a:lnTo>
                    <a:lnTo>
                      <a:pt x="4410" y="3621"/>
                    </a:lnTo>
                    <a:lnTo>
                      <a:pt x="4309" y="3899"/>
                    </a:lnTo>
                    <a:lnTo>
                      <a:pt x="4163" y="4163"/>
                    </a:lnTo>
                    <a:lnTo>
                      <a:pt x="4005" y="4423"/>
                    </a:lnTo>
                    <a:lnTo>
                      <a:pt x="3819" y="4653"/>
                    </a:lnTo>
                    <a:lnTo>
                      <a:pt x="3608" y="4873"/>
                    </a:lnTo>
                    <a:lnTo>
                      <a:pt x="3374" y="5063"/>
                    </a:lnTo>
                    <a:lnTo>
                      <a:pt x="3118" y="5217"/>
                    </a:lnTo>
                    <a:lnTo>
                      <a:pt x="2849" y="5358"/>
                    </a:lnTo>
                    <a:lnTo>
                      <a:pt x="2567" y="5464"/>
                    </a:lnTo>
                    <a:lnTo>
                      <a:pt x="2280" y="5544"/>
                    </a:lnTo>
                    <a:lnTo>
                      <a:pt x="1984" y="5596"/>
                    </a:lnTo>
                    <a:lnTo>
                      <a:pt x="1684" y="5610"/>
                    </a:lnTo>
                    <a:lnTo>
                      <a:pt x="1380" y="5596"/>
                    </a:lnTo>
                    <a:lnTo>
                      <a:pt x="1084" y="5544"/>
                    </a:lnTo>
                    <a:lnTo>
                      <a:pt x="793" y="5464"/>
                    </a:lnTo>
                    <a:lnTo>
                      <a:pt x="520" y="5358"/>
                    </a:lnTo>
                    <a:lnTo>
                      <a:pt x="251" y="5217"/>
                    </a:lnTo>
                    <a:lnTo>
                      <a:pt x="0" y="5063"/>
                    </a:lnTo>
                    <a:lnTo>
                      <a:pt x="158" y="4829"/>
                    </a:lnTo>
                    <a:lnTo>
                      <a:pt x="392" y="4979"/>
                    </a:lnTo>
                    <a:lnTo>
                      <a:pt x="635" y="5098"/>
                    </a:lnTo>
                    <a:lnTo>
                      <a:pt x="886" y="5200"/>
                    </a:lnTo>
                    <a:lnTo>
                      <a:pt x="1150" y="5270"/>
                    </a:lnTo>
                    <a:lnTo>
                      <a:pt x="1411" y="5310"/>
                    </a:lnTo>
                    <a:lnTo>
                      <a:pt x="1684" y="5327"/>
                    </a:lnTo>
                    <a:lnTo>
                      <a:pt x="1953" y="5310"/>
                    </a:lnTo>
                    <a:lnTo>
                      <a:pt x="2222" y="5270"/>
                    </a:lnTo>
                    <a:lnTo>
                      <a:pt x="2483" y="5200"/>
                    </a:lnTo>
                    <a:lnTo>
                      <a:pt x="2739" y="5098"/>
                    </a:lnTo>
                    <a:lnTo>
                      <a:pt x="2977" y="4979"/>
                    </a:lnTo>
                    <a:lnTo>
                      <a:pt x="3206" y="4829"/>
                    </a:lnTo>
                    <a:lnTo>
                      <a:pt x="3418" y="4662"/>
                    </a:lnTo>
                    <a:lnTo>
                      <a:pt x="3608" y="4468"/>
                    </a:lnTo>
                    <a:lnTo>
                      <a:pt x="3780" y="4256"/>
                    </a:lnTo>
                    <a:lnTo>
                      <a:pt x="3925" y="4027"/>
                    </a:lnTo>
                    <a:lnTo>
                      <a:pt x="4053" y="3784"/>
                    </a:lnTo>
                    <a:lnTo>
                      <a:pt x="4150" y="3537"/>
                    </a:lnTo>
                    <a:lnTo>
                      <a:pt x="4216" y="3273"/>
                    </a:lnTo>
                    <a:lnTo>
                      <a:pt x="4256" y="2999"/>
                    </a:lnTo>
                    <a:lnTo>
                      <a:pt x="4274" y="2729"/>
                    </a:lnTo>
                    <a:lnTo>
                      <a:pt x="4256" y="2456"/>
                    </a:lnTo>
                    <a:lnTo>
                      <a:pt x="4216" y="2187"/>
                    </a:lnTo>
                    <a:lnTo>
                      <a:pt x="4150" y="1927"/>
                    </a:lnTo>
                    <a:lnTo>
                      <a:pt x="4053" y="1680"/>
                    </a:lnTo>
                    <a:lnTo>
                      <a:pt x="3925" y="1433"/>
                    </a:lnTo>
                    <a:lnTo>
                      <a:pt x="3780" y="1203"/>
                    </a:lnTo>
                    <a:lnTo>
                      <a:pt x="3608" y="992"/>
                    </a:lnTo>
                    <a:lnTo>
                      <a:pt x="3418" y="802"/>
                    </a:lnTo>
                    <a:lnTo>
                      <a:pt x="3206" y="635"/>
                    </a:lnTo>
                    <a:lnTo>
                      <a:pt x="2977" y="485"/>
                    </a:lnTo>
                    <a:lnTo>
                      <a:pt x="2739" y="357"/>
                    </a:lnTo>
                    <a:lnTo>
                      <a:pt x="2483" y="268"/>
                    </a:lnTo>
                    <a:lnTo>
                      <a:pt x="2492" y="246"/>
                    </a:lnTo>
                    <a:lnTo>
                      <a:pt x="256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V="1">
                <a:off x="7364520" y="6132600"/>
                <a:ext cx="163440" cy="295200"/>
              </a:xfrm>
              <a:prstGeom prst="line">
                <a:avLst/>
              </a:prstGeom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V="1">
                <a:off x="8271000" y="4562640"/>
                <a:ext cx="56880" cy="112680"/>
              </a:xfrm>
              <a:prstGeom prst="line">
                <a:avLst/>
              </a:prstGeom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5080" bIns="55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V="1">
                <a:off x="8366040" y="4367160"/>
                <a:ext cx="57240" cy="112680"/>
              </a:xfrm>
              <a:prstGeom prst="line">
                <a:avLst/>
              </a:prstGeom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5080" bIns="55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545240" y="6456240"/>
                <a:ext cx="957600" cy="173520"/>
              </a:xfrm>
              <a:custGeom>
                <a:avLst/>
                <a:gdLst/>
                <a:ahLst/>
                <a:rect l="0" t="0" r="r" b="b"/>
                <a:pathLst>
                  <a:path w="2660" h="482">
                    <a:moveTo>
                      <a:pt x="8" y="309"/>
                    </a:moveTo>
                    <a:lnTo>
                      <a:pt x="61" y="252"/>
                    </a:lnTo>
                    <a:lnTo>
                      <a:pt x="136" y="203"/>
                    </a:lnTo>
                    <a:lnTo>
                      <a:pt x="277" y="133"/>
                    </a:lnTo>
                    <a:lnTo>
                      <a:pt x="440" y="92"/>
                    </a:lnTo>
                    <a:lnTo>
                      <a:pt x="590" y="57"/>
                    </a:lnTo>
                    <a:lnTo>
                      <a:pt x="798" y="26"/>
                    </a:lnTo>
                    <a:lnTo>
                      <a:pt x="992" y="8"/>
                    </a:lnTo>
                    <a:lnTo>
                      <a:pt x="1221" y="0"/>
                    </a:lnTo>
                    <a:lnTo>
                      <a:pt x="1500" y="0"/>
                    </a:lnTo>
                    <a:lnTo>
                      <a:pt x="1795" y="17"/>
                    </a:lnTo>
                    <a:lnTo>
                      <a:pt x="1998" y="44"/>
                    </a:lnTo>
                    <a:lnTo>
                      <a:pt x="2214" y="83"/>
                    </a:lnTo>
                    <a:lnTo>
                      <a:pt x="2421" y="146"/>
                    </a:lnTo>
                    <a:lnTo>
                      <a:pt x="2527" y="208"/>
                    </a:lnTo>
                    <a:lnTo>
                      <a:pt x="2593" y="256"/>
                    </a:lnTo>
                    <a:lnTo>
                      <a:pt x="2660" y="340"/>
                    </a:lnTo>
                    <a:lnTo>
                      <a:pt x="2549" y="385"/>
                    </a:lnTo>
                    <a:lnTo>
                      <a:pt x="2364" y="420"/>
                    </a:lnTo>
                    <a:lnTo>
                      <a:pt x="2139" y="447"/>
                    </a:lnTo>
                    <a:lnTo>
                      <a:pt x="1923" y="469"/>
                    </a:lnTo>
                    <a:lnTo>
                      <a:pt x="1663" y="478"/>
                    </a:lnTo>
                    <a:lnTo>
                      <a:pt x="1381" y="482"/>
                    </a:lnTo>
                    <a:lnTo>
                      <a:pt x="1111" y="482"/>
                    </a:lnTo>
                    <a:lnTo>
                      <a:pt x="829" y="478"/>
                    </a:lnTo>
                    <a:lnTo>
                      <a:pt x="515" y="451"/>
                    </a:lnTo>
                    <a:lnTo>
                      <a:pt x="268" y="425"/>
                    </a:lnTo>
                    <a:lnTo>
                      <a:pt x="61" y="381"/>
                    </a:lnTo>
                    <a:lnTo>
                      <a:pt x="0" y="344"/>
                    </a:lnTo>
                    <a:lnTo>
                      <a:pt x="8" y="30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077240" y="4570560"/>
                <a:ext cx="1704960" cy="1703520"/>
              </a:xfrm>
              <a:prstGeom prst="ellipse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" name=""/>
              <p:cNvGrpSpPr/>
              <p:nvPr/>
            </p:nvGrpSpPr>
            <p:grpSpPr>
              <a:xfrm>
                <a:off x="7077240" y="4748040"/>
                <a:ext cx="1584720" cy="1264320"/>
                <a:chOff x="7077240" y="4748040"/>
                <a:chExt cx="1584720" cy="1264320"/>
              </a:xfrm>
            </p:grpSpPr>
            <p:sp>
              <p:nvSpPr>
                <p:cNvPr id="10" name=""/>
                <p:cNvSpPr/>
                <p:nvPr/>
              </p:nvSpPr>
              <p:spPr>
                <a:xfrm>
                  <a:off x="7300800" y="5211720"/>
                  <a:ext cx="0" cy="25200"/>
                </a:xfrm>
                <a:custGeom>
                  <a:avLst/>
                  <a:gdLst/>
                  <a:ahLst/>
                  <a:rect l="0" t="0" r="r" b="b"/>
                  <a:pathLst>
                    <a:path w="0" h="70">
                      <a:moveTo>
                        <a:pt x="0" y="0"/>
                      </a:moveTo>
                      <a:lnTo>
                        <a:pt x="0" y="70"/>
                      </a:lnTo>
                      <a:lnTo>
                        <a:pt x="0" y="2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7327800" y="52466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0"/>
                      </a:moveTo>
                      <a:lnTo>
                        <a:pt x="72" y="0"/>
                      </a:lnTo>
                      <a:lnTo>
                        <a:pt x="72" y="7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7419960" y="5199120"/>
                  <a:ext cx="57600" cy="54360"/>
                </a:xfrm>
                <a:custGeom>
                  <a:avLst/>
                  <a:gdLst/>
                  <a:ahLst/>
                  <a:rect l="0" t="0" r="r" b="b"/>
                  <a:pathLst>
                    <a:path w="160" h="151">
                      <a:moveTo>
                        <a:pt x="160" y="0"/>
                      </a:moveTo>
                      <a:lnTo>
                        <a:pt x="98" y="0"/>
                      </a:lnTo>
                      <a:lnTo>
                        <a:pt x="62" y="40"/>
                      </a:lnTo>
                      <a:lnTo>
                        <a:pt x="39" y="40"/>
                      </a:lnTo>
                      <a:lnTo>
                        <a:pt x="22" y="58"/>
                      </a:lnTo>
                      <a:lnTo>
                        <a:pt x="0" y="58"/>
                      </a:lnTo>
                      <a:lnTo>
                        <a:pt x="0" y="111"/>
                      </a:lnTo>
                      <a:lnTo>
                        <a:pt x="35" y="151"/>
                      </a:lnTo>
                      <a:lnTo>
                        <a:pt x="129" y="151"/>
                      </a:lnTo>
                      <a:lnTo>
                        <a:pt x="160" y="111"/>
                      </a:lnTo>
                      <a:lnTo>
                        <a:pt x="16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077240" y="5243400"/>
                  <a:ext cx="513000" cy="668520"/>
                </a:xfrm>
                <a:custGeom>
                  <a:avLst/>
                  <a:gdLst/>
                  <a:ahLst/>
                  <a:rect l="0" t="0" r="r" b="b"/>
                  <a:pathLst>
                    <a:path w="1425" h="1857">
                      <a:moveTo>
                        <a:pt x="335" y="0"/>
                      </a:moveTo>
                      <a:lnTo>
                        <a:pt x="313" y="48"/>
                      </a:lnTo>
                      <a:lnTo>
                        <a:pt x="198" y="145"/>
                      </a:lnTo>
                      <a:lnTo>
                        <a:pt x="176" y="233"/>
                      </a:lnTo>
                      <a:lnTo>
                        <a:pt x="92" y="299"/>
                      </a:lnTo>
                      <a:lnTo>
                        <a:pt x="35" y="423"/>
                      </a:lnTo>
                      <a:lnTo>
                        <a:pt x="35" y="502"/>
                      </a:lnTo>
                      <a:lnTo>
                        <a:pt x="0" y="635"/>
                      </a:lnTo>
                      <a:lnTo>
                        <a:pt x="48" y="692"/>
                      </a:lnTo>
                      <a:lnTo>
                        <a:pt x="176" y="859"/>
                      </a:lnTo>
                      <a:lnTo>
                        <a:pt x="211" y="837"/>
                      </a:lnTo>
                      <a:lnTo>
                        <a:pt x="436" y="837"/>
                      </a:lnTo>
                      <a:lnTo>
                        <a:pt x="542" y="877"/>
                      </a:lnTo>
                      <a:lnTo>
                        <a:pt x="533" y="1010"/>
                      </a:lnTo>
                      <a:lnTo>
                        <a:pt x="608" y="1182"/>
                      </a:lnTo>
                      <a:lnTo>
                        <a:pt x="604" y="1231"/>
                      </a:lnTo>
                      <a:lnTo>
                        <a:pt x="635" y="1284"/>
                      </a:lnTo>
                      <a:lnTo>
                        <a:pt x="586" y="1407"/>
                      </a:lnTo>
                      <a:lnTo>
                        <a:pt x="643" y="1562"/>
                      </a:lnTo>
                      <a:lnTo>
                        <a:pt x="674" y="1685"/>
                      </a:lnTo>
                      <a:lnTo>
                        <a:pt x="715" y="1760"/>
                      </a:lnTo>
                      <a:lnTo>
                        <a:pt x="755" y="1857"/>
                      </a:lnTo>
                      <a:lnTo>
                        <a:pt x="830" y="1844"/>
                      </a:lnTo>
                      <a:lnTo>
                        <a:pt x="953" y="1773"/>
                      </a:lnTo>
                      <a:lnTo>
                        <a:pt x="1010" y="1685"/>
                      </a:lnTo>
                      <a:lnTo>
                        <a:pt x="1006" y="1628"/>
                      </a:lnTo>
                      <a:lnTo>
                        <a:pt x="1081" y="1584"/>
                      </a:lnTo>
                      <a:lnTo>
                        <a:pt x="1068" y="1500"/>
                      </a:lnTo>
                      <a:lnTo>
                        <a:pt x="1178" y="1368"/>
                      </a:lnTo>
                      <a:lnTo>
                        <a:pt x="1196" y="1257"/>
                      </a:lnTo>
                      <a:lnTo>
                        <a:pt x="1165" y="1222"/>
                      </a:lnTo>
                      <a:lnTo>
                        <a:pt x="1178" y="1178"/>
                      </a:lnTo>
                      <a:lnTo>
                        <a:pt x="1151" y="1138"/>
                      </a:lnTo>
                      <a:lnTo>
                        <a:pt x="1235" y="1032"/>
                      </a:lnTo>
                      <a:lnTo>
                        <a:pt x="1235" y="979"/>
                      </a:lnTo>
                      <a:lnTo>
                        <a:pt x="1350" y="890"/>
                      </a:lnTo>
                      <a:lnTo>
                        <a:pt x="1425" y="652"/>
                      </a:lnTo>
                      <a:lnTo>
                        <a:pt x="1319" y="714"/>
                      </a:lnTo>
                      <a:lnTo>
                        <a:pt x="1226" y="687"/>
                      </a:lnTo>
                      <a:lnTo>
                        <a:pt x="1240" y="630"/>
                      </a:lnTo>
                      <a:lnTo>
                        <a:pt x="1147" y="568"/>
                      </a:lnTo>
                      <a:lnTo>
                        <a:pt x="1103" y="414"/>
                      </a:lnTo>
                      <a:lnTo>
                        <a:pt x="1015" y="291"/>
                      </a:lnTo>
                      <a:lnTo>
                        <a:pt x="1015" y="207"/>
                      </a:lnTo>
                      <a:lnTo>
                        <a:pt x="966" y="202"/>
                      </a:lnTo>
                      <a:lnTo>
                        <a:pt x="935" y="216"/>
                      </a:lnTo>
                      <a:lnTo>
                        <a:pt x="803" y="167"/>
                      </a:lnTo>
                      <a:lnTo>
                        <a:pt x="768" y="202"/>
                      </a:lnTo>
                      <a:lnTo>
                        <a:pt x="737" y="246"/>
                      </a:lnTo>
                      <a:lnTo>
                        <a:pt x="665" y="167"/>
                      </a:lnTo>
                      <a:lnTo>
                        <a:pt x="595" y="145"/>
                      </a:lnTo>
                      <a:lnTo>
                        <a:pt x="590" y="44"/>
                      </a:lnTo>
                      <a:lnTo>
                        <a:pt x="489" y="61"/>
                      </a:lnTo>
                      <a:lnTo>
                        <a:pt x="423" y="39"/>
                      </a:lnTo>
                      <a:lnTo>
                        <a:pt x="335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8263080" y="5410080"/>
                  <a:ext cx="25920" cy="32040"/>
                </a:xfrm>
                <a:custGeom>
                  <a:avLst/>
                  <a:gdLst/>
                  <a:ahLst/>
                  <a:rect l="0" t="0" r="r" b="b"/>
                  <a:pathLst>
                    <a:path w="72" h="89">
                      <a:moveTo>
                        <a:pt x="31" y="0"/>
                      </a:moveTo>
                      <a:lnTo>
                        <a:pt x="40" y="22"/>
                      </a:lnTo>
                      <a:lnTo>
                        <a:pt x="31" y="45"/>
                      </a:lnTo>
                      <a:lnTo>
                        <a:pt x="31" y="62"/>
                      </a:lnTo>
                      <a:lnTo>
                        <a:pt x="72" y="75"/>
                      </a:lnTo>
                      <a:lnTo>
                        <a:pt x="72" y="89"/>
                      </a:lnTo>
                      <a:lnTo>
                        <a:pt x="40" y="75"/>
                      </a:lnTo>
                      <a:lnTo>
                        <a:pt x="13" y="89"/>
                      </a:lnTo>
                      <a:lnTo>
                        <a:pt x="0" y="75"/>
                      </a:lnTo>
                      <a:lnTo>
                        <a:pt x="13" y="62"/>
                      </a:lnTo>
                      <a:lnTo>
                        <a:pt x="0" y="45"/>
                      </a:lnTo>
                      <a:lnTo>
                        <a:pt x="13" y="8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8166240" y="5549760"/>
                  <a:ext cx="76680" cy="109800"/>
                </a:xfrm>
                <a:custGeom>
                  <a:avLst/>
                  <a:gdLst/>
                  <a:ahLst/>
                  <a:rect l="0" t="0" r="r" b="b"/>
                  <a:pathLst>
                    <a:path w="213" h="305">
                      <a:moveTo>
                        <a:pt x="0" y="149"/>
                      </a:moveTo>
                      <a:lnTo>
                        <a:pt x="75" y="149"/>
                      </a:lnTo>
                      <a:lnTo>
                        <a:pt x="165" y="0"/>
                      </a:lnTo>
                      <a:lnTo>
                        <a:pt x="213" y="88"/>
                      </a:lnTo>
                      <a:lnTo>
                        <a:pt x="173" y="305"/>
                      </a:lnTo>
                      <a:lnTo>
                        <a:pt x="13" y="252"/>
                      </a:lnTo>
                      <a:lnTo>
                        <a:pt x="0" y="14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8319960" y="5592600"/>
                  <a:ext cx="132120" cy="105120"/>
                </a:xfrm>
                <a:custGeom>
                  <a:avLst/>
                  <a:gdLst/>
                  <a:ahLst/>
                  <a:rect l="0" t="0" r="r" b="b"/>
                  <a:pathLst>
                    <a:path w="367" h="292">
                      <a:moveTo>
                        <a:pt x="22" y="66"/>
                      </a:moveTo>
                      <a:lnTo>
                        <a:pt x="0" y="0"/>
                      </a:lnTo>
                      <a:lnTo>
                        <a:pt x="119" y="26"/>
                      </a:lnTo>
                      <a:lnTo>
                        <a:pt x="296" y="97"/>
                      </a:lnTo>
                      <a:lnTo>
                        <a:pt x="296" y="150"/>
                      </a:lnTo>
                      <a:lnTo>
                        <a:pt x="367" y="292"/>
                      </a:lnTo>
                      <a:lnTo>
                        <a:pt x="230" y="159"/>
                      </a:lnTo>
                      <a:lnTo>
                        <a:pt x="136" y="168"/>
                      </a:lnTo>
                      <a:lnTo>
                        <a:pt x="22" y="6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8572680" y="5810400"/>
                  <a:ext cx="89280" cy="114840"/>
                </a:xfrm>
                <a:custGeom>
                  <a:avLst/>
                  <a:gdLst/>
                  <a:ahLst/>
                  <a:rect l="0" t="0" r="r" b="b"/>
                  <a:pathLst>
                    <a:path w="248" h="319">
                      <a:moveTo>
                        <a:pt x="150" y="0"/>
                      </a:moveTo>
                      <a:lnTo>
                        <a:pt x="248" y="93"/>
                      </a:lnTo>
                      <a:lnTo>
                        <a:pt x="48" y="319"/>
                      </a:lnTo>
                      <a:lnTo>
                        <a:pt x="0" y="266"/>
                      </a:lnTo>
                      <a:lnTo>
                        <a:pt x="142" y="124"/>
                      </a:lnTo>
                      <a:lnTo>
                        <a:pt x="15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7236000" y="5027760"/>
                  <a:ext cx="44640" cy="74880"/>
                </a:xfrm>
                <a:custGeom>
                  <a:avLst/>
                  <a:gdLst/>
                  <a:ahLst/>
                  <a:rect l="0" t="0" r="r" b="b"/>
                  <a:pathLst>
                    <a:path w="124" h="208">
                      <a:moveTo>
                        <a:pt x="124" y="159"/>
                      </a:moveTo>
                      <a:lnTo>
                        <a:pt x="89" y="137"/>
                      </a:lnTo>
                      <a:lnTo>
                        <a:pt x="89" y="44"/>
                      </a:lnTo>
                      <a:lnTo>
                        <a:pt x="106" y="22"/>
                      </a:lnTo>
                      <a:lnTo>
                        <a:pt x="75" y="22"/>
                      </a:lnTo>
                      <a:lnTo>
                        <a:pt x="93" y="0"/>
                      </a:lnTo>
                      <a:lnTo>
                        <a:pt x="71" y="0"/>
                      </a:lnTo>
                      <a:lnTo>
                        <a:pt x="44" y="26"/>
                      </a:lnTo>
                      <a:lnTo>
                        <a:pt x="44" y="83"/>
                      </a:lnTo>
                      <a:lnTo>
                        <a:pt x="57" y="97"/>
                      </a:lnTo>
                      <a:lnTo>
                        <a:pt x="57" y="124"/>
                      </a:lnTo>
                      <a:lnTo>
                        <a:pt x="48" y="124"/>
                      </a:lnTo>
                      <a:lnTo>
                        <a:pt x="26" y="146"/>
                      </a:lnTo>
                      <a:lnTo>
                        <a:pt x="26" y="168"/>
                      </a:lnTo>
                      <a:lnTo>
                        <a:pt x="0" y="208"/>
                      </a:lnTo>
                      <a:lnTo>
                        <a:pt x="93" y="208"/>
                      </a:lnTo>
                      <a:lnTo>
                        <a:pt x="124" y="15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7221600" y="50529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59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45" y="0"/>
                      </a:lnTo>
                      <a:lnTo>
                        <a:pt x="0" y="45"/>
                      </a:lnTo>
                      <a:lnTo>
                        <a:pt x="0" y="72"/>
                      </a:lnTo>
                      <a:lnTo>
                        <a:pt x="40" y="72"/>
                      </a:lnTo>
                      <a:lnTo>
                        <a:pt x="59" y="49"/>
                      </a:lnTo>
                      <a:lnTo>
                        <a:pt x="59" y="2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7186680" y="5008680"/>
                  <a:ext cx="290880" cy="244800"/>
                </a:xfrm>
                <a:custGeom>
                  <a:avLst/>
                  <a:gdLst/>
                  <a:ahLst/>
                  <a:rect l="0" t="0" r="r" b="b"/>
                  <a:pathLst>
                    <a:path w="808" h="680">
                      <a:moveTo>
                        <a:pt x="530" y="0"/>
                      </a:moveTo>
                      <a:lnTo>
                        <a:pt x="530" y="44"/>
                      </a:lnTo>
                      <a:lnTo>
                        <a:pt x="547" y="61"/>
                      </a:lnTo>
                      <a:lnTo>
                        <a:pt x="637" y="61"/>
                      </a:lnTo>
                      <a:lnTo>
                        <a:pt x="637" y="88"/>
                      </a:lnTo>
                      <a:lnTo>
                        <a:pt x="569" y="88"/>
                      </a:lnTo>
                      <a:lnTo>
                        <a:pt x="569" y="163"/>
                      </a:lnTo>
                      <a:lnTo>
                        <a:pt x="543" y="127"/>
                      </a:lnTo>
                      <a:lnTo>
                        <a:pt x="543" y="176"/>
                      </a:lnTo>
                      <a:lnTo>
                        <a:pt x="503" y="220"/>
                      </a:lnTo>
                      <a:lnTo>
                        <a:pt x="481" y="194"/>
                      </a:lnTo>
                      <a:lnTo>
                        <a:pt x="441" y="224"/>
                      </a:lnTo>
                      <a:lnTo>
                        <a:pt x="437" y="216"/>
                      </a:lnTo>
                      <a:lnTo>
                        <a:pt x="389" y="216"/>
                      </a:lnTo>
                      <a:lnTo>
                        <a:pt x="415" y="185"/>
                      </a:lnTo>
                      <a:lnTo>
                        <a:pt x="415" y="171"/>
                      </a:lnTo>
                      <a:lnTo>
                        <a:pt x="389" y="149"/>
                      </a:lnTo>
                      <a:lnTo>
                        <a:pt x="389" y="114"/>
                      </a:lnTo>
                      <a:lnTo>
                        <a:pt x="358" y="149"/>
                      </a:lnTo>
                      <a:lnTo>
                        <a:pt x="358" y="216"/>
                      </a:lnTo>
                      <a:lnTo>
                        <a:pt x="322" y="216"/>
                      </a:lnTo>
                      <a:lnTo>
                        <a:pt x="274" y="264"/>
                      </a:lnTo>
                      <a:lnTo>
                        <a:pt x="256" y="264"/>
                      </a:lnTo>
                      <a:lnTo>
                        <a:pt x="230" y="295"/>
                      </a:lnTo>
                      <a:lnTo>
                        <a:pt x="132" y="295"/>
                      </a:lnTo>
                      <a:lnTo>
                        <a:pt x="167" y="339"/>
                      </a:lnTo>
                      <a:lnTo>
                        <a:pt x="167" y="411"/>
                      </a:lnTo>
                      <a:lnTo>
                        <a:pt x="132" y="450"/>
                      </a:lnTo>
                      <a:lnTo>
                        <a:pt x="97" y="411"/>
                      </a:lnTo>
                      <a:lnTo>
                        <a:pt x="22" y="411"/>
                      </a:lnTo>
                      <a:lnTo>
                        <a:pt x="22" y="459"/>
                      </a:lnTo>
                      <a:lnTo>
                        <a:pt x="0" y="490"/>
                      </a:lnTo>
                      <a:lnTo>
                        <a:pt x="0" y="556"/>
                      </a:lnTo>
                      <a:lnTo>
                        <a:pt x="44" y="609"/>
                      </a:lnTo>
                      <a:lnTo>
                        <a:pt x="114" y="609"/>
                      </a:lnTo>
                      <a:lnTo>
                        <a:pt x="221" y="481"/>
                      </a:lnTo>
                      <a:lnTo>
                        <a:pt x="318" y="481"/>
                      </a:lnTo>
                      <a:lnTo>
                        <a:pt x="331" y="455"/>
                      </a:lnTo>
                      <a:lnTo>
                        <a:pt x="353" y="481"/>
                      </a:lnTo>
                      <a:lnTo>
                        <a:pt x="349" y="508"/>
                      </a:lnTo>
                      <a:lnTo>
                        <a:pt x="437" y="596"/>
                      </a:lnTo>
                      <a:lnTo>
                        <a:pt x="437" y="631"/>
                      </a:lnTo>
                      <a:lnTo>
                        <a:pt x="459" y="618"/>
                      </a:lnTo>
                      <a:lnTo>
                        <a:pt x="446" y="596"/>
                      </a:lnTo>
                      <a:lnTo>
                        <a:pt x="459" y="583"/>
                      </a:lnTo>
                      <a:lnTo>
                        <a:pt x="472" y="596"/>
                      </a:lnTo>
                      <a:lnTo>
                        <a:pt x="481" y="591"/>
                      </a:lnTo>
                      <a:lnTo>
                        <a:pt x="389" y="477"/>
                      </a:lnTo>
                      <a:lnTo>
                        <a:pt x="389" y="437"/>
                      </a:lnTo>
                      <a:lnTo>
                        <a:pt x="415" y="437"/>
                      </a:lnTo>
                      <a:lnTo>
                        <a:pt x="415" y="459"/>
                      </a:lnTo>
                      <a:lnTo>
                        <a:pt x="503" y="561"/>
                      </a:lnTo>
                      <a:lnTo>
                        <a:pt x="503" y="591"/>
                      </a:lnTo>
                      <a:lnTo>
                        <a:pt x="543" y="636"/>
                      </a:lnTo>
                      <a:lnTo>
                        <a:pt x="534" y="644"/>
                      </a:lnTo>
                      <a:lnTo>
                        <a:pt x="561" y="680"/>
                      </a:lnTo>
                      <a:lnTo>
                        <a:pt x="605" y="631"/>
                      </a:lnTo>
                      <a:lnTo>
                        <a:pt x="578" y="600"/>
                      </a:lnTo>
                      <a:lnTo>
                        <a:pt x="605" y="574"/>
                      </a:lnTo>
                      <a:lnTo>
                        <a:pt x="637" y="574"/>
                      </a:lnTo>
                      <a:lnTo>
                        <a:pt x="654" y="556"/>
                      </a:lnTo>
                      <a:lnTo>
                        <a:pt x="676" y="556"/>
                      </a:lnTo>
                      <a:lnTo>
                        <a:pt x="650" y="516"/>
                      </a:lnTo>
                      <a:lnTo>
                        <a:pt x="663" y="499"/>
                      </a:lnTo>
                      <a:lnTo>
                        <a:pt x="663" y="433"/>
                      </a:lnTo>
                      <a:lnTo>
                        <a:pt x="694" y="397"/>
                      </a:lnTo>
                      <a:lnTo>
                        <a:pt x="707" y="411"/>
                      </a:lnTo>
                      <a:lnTo>
                        <a:pt x="734" y="411"/>
                      </a:lnTo>
                      <a:lnTo>
                        <a:pt x="720" y="428"/>
                      </a:lnTo>
                      <a:lnTo>
                        <a:pt x="747" y="455"/>
                      </a:lnTo>
                      <a:lnTo>
                        <a:pt x="760" y="433"/>
                      </a:lnTo>
                      <a:lnTo>
                        <a:pt x="782" y="433"/>
                      </a:lnTo>
                      <a:lnTo>
                        <a:pt x="782" y="419"/>
                      </a:lnTo>
                      <a:lnTo>
                        <a:pt x="773" y="419"/>
                      </a:lnTo>
                      <a:lnTo>
                        <a:pt x="756" y="411"/>
                      </a:lnTo>
                      <a:lnTo>
                        <a:pt x="795" y="358"/>
                      </a:lnTo>
                      <a:lnTo>
                        <a:pt x="795" y="433"/>
                      </a:lnTo>
                      <a:lnTo>
                        <a:pt x="808" y="433"/>
                      </a:lnTo>
                      <a:lnTo>
                        <a:pt x="808" y="0"/>
                      </a:lnTo>
                      <a:lnTo>
                        <a:pt x="53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7310520" y="4748040"/>
                  <a:ext cx="1240200" cy="876600"/>
                </a:xfrm>
                <a:custGeom>
                  <a:avLst/>
                  <a:gdLst/>
                  <a:ahLst/>
                  <a:rect l="0" t="0" r="r" b="b"/>
                  <a:pathLst>
                    <a:path w="3445" h="2435">
                      <a:moveTo>
                        <a:pt x="0" y="714"/>
                      </a:moveTo>
                      <a:lnTo>
                        <a:pt x="97" y="639"/>
                      </a:lnTo>
                      <a:lnTo>
                        <a:pt x="194" y="493"/>
                      </a:lnTo>
                      <a:lnTo>
                        <a:pt x="313" y="423"/>
                      </a:lnTo>
                      <a:lnTo>
                        <a:pt x="432" y="507"/>
                      </a:lnTo>
                      <a:lnTo>
                        <a:pt x="445" y="573"/>
                      </a:lnTo>
                      <a:lnTo>
                        <a:pt x="418" y="573"/>
                      </a:lnTo>
                      <a:lnTo>
                        <a:pt x="370" y="564"/>
                      </a:lnTo>
                      <a:lnTo>
                        <a:pt x="432" y="639"/>
                      </a:lnTo>
                      <a:lnTo>
                        <a:pt x="683" y="542"/>
                      </a:lnTo>
                      <a:lnTo>
                        <a:pt x="648" y="471"/>
                      </a:lnTo>
                      <a:lnTo>
                        <a:pt x="758" y="348"/>
                      </a:lnTo>
                      <a:lnTo>
                        <a:pt x="829" y="348"/>
                      </a:lnTo>
                      <a:lnTo>
                        <a:pt x="758" y="392"/>
                      </a:lnTo>
                      <a:lnTo>
                        <a:pt x="705" y="480"/>
                      </a:lnTo>
                      <a:lnTo>
                        <a:pt x="705" y="542"/>
                      </a:lnTo>
                      <a:lnTo>
                        <a:pt x="806" y="608"/>
                      </a:lnTo>
                      <a:lnTo>
                        <a:pt x="953" y="418"/>
                      </a:lnTo>
                      <a:lnTo>
                        <a:pt x="1456" y="198"/>
                      </a:lnTo>
                      <a:lnTo>
                        <a:pt x="1456" y="70"/>
                      </a:lnTo>
                      <a:lnTo>
                        <a:pt x="1685" y="22"/>
                      </a:lnTo>
                      <a:lnTo>
                        <a:pt x="1817" y="88"/>
                      </a:lnTo>
                      <a:lnTo>
                        <a:pt x="2122" y="0"/>
                      </a:lnTo>
                      <a:lnTo>
                        <a:pt x="2219" y="44"/>
                      </a:lnTo>
                      <a:lnTo>
                        <a:pt x="2421" y="268"/>
                      </a:lnTo>
                      <a:lnTo>
                        <a:pt x="2656" y="224"/>
                      </a:lnTo>
                      <a:lnTo>
                        <a:pt x="2802" y="304"/>
                      </a:lnTo>
                      <a:lnTo>
                        <a:pt x="3168" y="286"/>
                      </a:lnTo>
                      <a:lnTo>
                        <a:pt x="3445" y="370"/>
                      </a:lnTo>
                      <a:lnTo>
                        <a:pt x="3419" y="493"/>
                      </a:lnTo>
                      <a:lnTo>
                        <a:pt x="3185" y="573"/>
                      </a:lnTo>
                      <a:lnTo>
                        <a:pt x="3225" y="652"/>
                      </a:lnTo>
                      <a:lnTo>
                        <a:pt x="3124" y="696"/>
                      </a:lnTo>
                      <a:lnTo>
                        <a:pt x="3119" y="855"/>
                      </a:lnTo>
                      <a:lnTo>
                        <a:pt x="3027" y="961"/>
                      </a:lnTo>
                      <a:lnTo>
                        <a:pt x="2991" y="864"/>
                      </a:lnTo>
                      <a:lnTo>
                        <a:pt x="3040" y="771"/>
                      </a:lnTo>
                      <a:lnTo>
                        <a:pt x="3031" y="582"/>
                      </a:lnTo>
                      <a:lnTo>
                        <a:pt x="2938" y="679"/>
                      </a:lnTo>
                      <a:lnTo>
                        <a:pt x="2868" y="732"/>
                      </a:lnTo>
                      <a:lnTo>
                        <a:pt x="2797" y="648"/>
                      </a:lnTo>
                      <a:lnTo>
                        <a:pt x="2749" y="864"/>
                      </a:lnTo>
                      <a:lnTo>
                        <a:pt x="2802" y="864"/>
                      </a:lnTo>
                      <a:lnTo>
                        <a:pt x="2788" y="1005"/>
                      </a:lnTo>
                      <a:lnTo>
                        <a:pt x="2727" y="1159"/>
                      </a:lnTo>
                      <a:lnTo>
                        <a:pt x="2647" y="1218"/>
                      </a:lnTo>
                      <a:lnTo>
                        <a:pt x="2713" y="1319"/>
                      </a:lnTo>
                      <a:lnTo>
                        <a:pt x="2669" y="1390"/>
                      </a:lnTo>
                      <a:lnTo>
                        <a:pt x="2656" y="1328"/>
                      </a:lnTo>
                      <a:lnTo>
                        <a:pt x="2656" y="1306"/>
                      </a:lnTo>
                      <a:lnTo>
                        <a:pt x="2603" y="1271"/>
                      </a:lnTo>
                      <a:lnTo>
                        <a:pt x="2523" y="1319"/>
                      </a:lnTo>
                      <a:lnTo>
                        <a:pt x="2594" y="1487"/>
                      </a:lnTo>
                      <a:lnTo>
                        <a:pt x="2621" y="1570"/>
                      </a:lnTo>
                      <a:lnTo>
                        <a:pt x="2532" y="1800"/>
                      </a:lnTo>
                      <a:lnTo>
                        <a:pt x="2377" y="1866"/>
                      </a:lnTo>
                      <a:lnTo>
                        <a:pt x="2245" y="1853"/>
                      </a:lnTo>
                      <a:lnTo>
                        <a:pt x="2311" y="1950"/>
                      </a:lnTo>
                      <a:lnTo>
                        <a:pt x="2316" y="2082"/>
                      </a:lnTo>
                      <a:lnTo>
                        <a:pt x="2223" y="2236"/>
                      </a:lnTo>
                      <a:lnTo>
                        <a:pt x="2117" y="2152"/>
                      </a:lnTo>
                      <a:lnTo>
                        <a:pt x="2104" y="2241"/>
                      </a:lnTo>
                      <a:lnTo>
                        <a:pt x="2183" y="2320"/>
                      </a:lnTo>
                      <a:lnTo>
                        <a:pt x="2249" y="2435"/>
                      </a:lnTo>
                      <a:lnTo>
                        <a:pt x="2139" y="2364"/>
                      </a:lnTo>
                      <a:lnTo>
                        <a:pt x="2007" y="1980"/>
                      </a:lnTo>
                      <a:lnTo>
                        <a:pt x="1844" y="1879"/>
                      </a:lnTo>
                      <a:lnTo>
                        <a:pt x="1725" y="1888"/>
                      </a:lnTo>
                      <a:lnTo>
                        <a:pt x="1570" y="2104"/>
                      </a:lnTo>
                      <a:lnTo>
                        <a:pt x="1592" y="2183"/>
                      </a:lnTo>
                      <a:lnTo>
                        <a:pt x="1539" y="2338"/>
                      </a:lnTo>
                      <a:lnTo>
                        <a:pt x="1491" y="2338"/>
                      </a:lnTo>
                      <a:lnTo>
                        <a:pt x="1315" y="2016"/>
                      </a:lnTo>
                      <a:lnTo>
                        <a:pt x="1315" y="1875"/>
                      </a:lnTo>
                      <a:lnTo>
                        <a:pt x="1279" y="1928"/>
                      </a:lnTo>
                      <a:lnTo>
                        <a:pt x="1178" y="1923"/>
                      </a:lnTo>
                      <a:lnTo>
                        <a:pt x="1218" y="1835"/>
                      </a:lnTo>
                      <a:lnTo>
                        <a:pt x="1063" y="1725"/>
                      </a:lnTo>
                      <a:lnTo>
                        <a:pt x="869" y="1725"/>
                      </a:lnTo>
                      <a:lnTo>
                        <a:pt x="705" y="1614"/>
                      </a:lnTo>
                      <a:lnTo>
                        <a:pt x="692" y="1725"/>
                      </a:lnTo>
                      <a:lnTo>
                        <a:pt x="829" y="1826"/>
                      </a:lnTo>
                      <a:lnTo>
                        <a:pt x="878" y="1826"/>
                      </a:lnTo>
                      <a:lnTo>
                        <a:pt x="736" y="1963"/>
                      </a:lnTo>
                      <a:lnTo>
                        <a:pt x="599" y="1994"/>
                      </a:lnTo>
                      <a:lnTo>
                        <a:pt x="599" y="1914"/>
                      </a:lnTo>
                      <a:lnTo>
                        <a:pt x="401" y="1641"/>
                      </a:lnTo>
                      <a:lnTo>
                        <a:pt x="374" y="1566"/>
                      </a:lnTo>
                      <a:lnTo>
                        <a:pt x="480" y="1478"/>
                      </a:lnTo>
                      <a:lnTo>
                        <a:pt x="467" y="1368"/>
                      </a:lnTo>
                      <a:lnTo>
                        <a:pt x="467" y="1244"/>
                      </a:lnTo>
                      <a:lnTo>
                        <a:pt x="524" y="1218"/>
                      </a:lnTo>
                      <a:lnTo>
                        <a:pt x="467" y="1159"/>
                      </a:lnTo>
                      <a:lnTo>
                        <a:pt x="467" y="714"/>
                      </a:lnTo>
                      <a:lnTo>
                        <a:pt x="189" y="714"/>
                      </a:lnTo>
                      <a:lnTo>
                        <a:pt x="268" y="608"/>
                      </a:lnTo>
                      <a:lnTo>
                        <a:pt x="264" y="573"/>
                      </a:lnTo>
                      <a:lnTo>
                        <a:pt x="171" y="661"/>
                      </a:lnTo>
                      <a:lnTo>
                        <a:pt x="141" y="714"/>
                      </a:lnTo>
                      <a:lnTo>
                        <a:pt x="0" y="71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8288280" y="5106960"/>
                  <a:ext cx="106560" cy="178200"/>
                </a:xfrm>
                <a:custGeom>
                  <a:avLst/>
                  <a:gdLst/>
                  <a:ahLst/>
                  <a:rect l="0" t="0" r="r" b="b"/>
                  <a:pathLst>
                    <a:path w="296" h="495">
                      <a:moveTo>
                        <a:pt x="199" y="0"/>
                      </a:moveTo>
                      <a:lnTo>
                        <a:pt x="199" y="61"/>
                      </a:lnTo>
                      <a:lnTo>
                        <a:pt x="172" y="101"/>
                      </a:lnTo>
                      <a:lnTo>
                        <a:pt x="181" y="168"/>
                      </a:lnTo>
                      <a:lnTo>
                        <a:pt x="145" y="256"/>
                      </a:lnTo>
                      <a:lnTo>
                        <a:pt x="97" y="340"/>
                      </a:lnTo>
                      <a:lnTo>
                        <a:pt x="22" y="394"/>
                      </a:lnTo>
                      <a:lnTo>
                        <a:pt x="0" y="487"/>
                      </a:lnTo>
                      <a:lnTo>
                        <a:pt x="30" y="495"/>
                      </a:lnTo>
                      <a:lnTo>
                        <a:pt x="30" y="407"/>
                      </a:lnTo>
                      <a:lnTo>
                        <a:pt x="136" y="403"/>
                      </a:lnTo>
                      <a:lnTo>
                        <a:pt x="217" y="344"/>
                      </a:lnTo>
                      <a:lnTo>
                        <a:pt x="217" y="225"/>
                      </a:lnTo>
                      <a:lnTo>
                        <a:pt x="243" y="181"/>
                      </a:lnTo>
                      <a:lnTo>
                        <a:pt x="203" y="105"/>
                      </a:lnTo>
                      <a:lnTo>
                        <a:pt x="261" y="83"/>
                      </a:lnTo>
                      <a:lnTo>
                        <a:pt x="296" y="22"/>
                      </a:lnTo>
                      <a:lnTo>
                        <a:pt x="217" y="30"/>
                      </a:lnTo>
                      <a:lnTo>
                        <a:pt x="199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7885080" y="5584680"/>
                  <a:ext cx="25920" cy="39960"/>
                </a:xfrm>
                <a:custGeom>
                  <a:avLst/>
                  <a:gdLst/>
                  <a:ahLst/>
                  <a:rect l="0" t="0" r="r" b="b"/>
                  <a:pathLst>
                    <a:path w="72" h="111">
                      <a:moveTo>
                        <a:pt x="36" y="0"/>
                      </a:moveTo>
                      <a:lnTo>
                        <a:pt x="0" y="48"/>
                      </a:lnTo>
                      <a:lnTo>
                        <a:pt x="23" y="111"/>
                      </a:lnTo>
                      <a:lnTo>
                        <a:pt x="72" y="67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8047080" y="5627520"/>
                  <a:ext cx="249480" cy="106560"/>
                </a:xfrm>
                <a:custGeom>
                  <a:avLst/>
                  <a:gdLst/>
                  <a:ahLst/>
                  <a:rect l="0" t="0" r="r" b="b"/>
                  <a:pathLst>
                    <a:path w="693" h="296">
                      <a:moveTo>
                        <a:pt x="0" y="0"/>
                      </a:moveTo>
                      <a:lnTo>
                        <a:pt x="101" y="22"/>
                      </a:lnTo>
                      <a:lnTo>
                        <a:pt x="255" y="127"/>
                      </a:lnTo>
                      <a:lnTo>
                        <a:pt x="233" y="190"/>
                      </a:lnTo>
                      <a:lnTo>
                        <a:pt x="362" y="243"/>
                      </a:lnTo>
                      <a:lnTo>
                        <a:pt x="693" y="243"/>
                      </a:lnTo>
                      <a:lnTo>
                        <a:pt x="330" y="296"/>
                      </a:lnTo>
                      <a:lnTo>
                        <a:pt x="233" y="190"/>
                      </a:lnTo>
                      <a:lnTo>
                        <a:pt x="141" y="1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8247240" y="5716440"/>
                  <a:ext cx="267120" cy="251280"/>
                </a:xfrm>
                <a:custGeom>
                  <a:avLst/>
                  <a:gdLst/>
                  <a:ahLst/>
                  <a:rect l="0" t="0" r="r" b="b"/>
                  <a:pathLst>
                    <a:path w="742" h="698">
                      <a:moveTo>
                        <a:pt x="619" y="681"/>
                      </a:moveTo>
                      <a:lnTo>
                        <a:pt x="597" y="685"/>
                      </a:lnTo>
                      <a:lnTo>
                        <a:pt x="584" y="698"/>
                      </a:lnTo>
                      <a:lnTo>
                        <a:pt x="562" y="672"/>
                      </a:lnTo>
                      <a:lnTo>
                        <a:pt x="494" y="641"/>
                      </a:lnTo>
                      <a:lnTo>
                        <a:pt x="486" y="592"/>
                      </a:lnTo>
                      <a:lnTo>
                        <a:pt x="464" y="575"/>
                      </a:lnTo>
                      <a:lnTo>
                        <a:pt x="406" y="575"/>
                      </a:lnTo>
                      <a:lnTo>
                        <a:pt x="406" y="539"/>
                      </a:lnTo>
                      <a:lnTo>
                        <a:pt x="389" y="526"/>
                      </a:lnTo>
                      <a:lnTo>
                        <a:pt x="384" y="494"/>
                      </a:lnTo>
                      <a:lnTo>
                        <a:pt x="344" y="490"/>
                      </a:lnTo>
                      <a:lnTo>
                        <a:pt x="309" y="481"/>
                      </a:lnTo>
                      <a:lnTo>
                        <a:pt x="274" y="490"/>
                      </a:lnTo>
                      <a:lnTo>
                        <a:pt x="274" y="494"/>
                      </a:lnTo>
                      <a:lnTo>
                        <a:pt x="195" y="521"/>
                      </a:lnTo>
                      <a:lnTo>
                        <a:pt x="195" y="535"/>
                      </a:lnTo>
                      <a:lnTo>
                        <a:pt x="123" y="535"/>
                      </a:lnTo>
                      <a:lnTo>
                        <a:pt x="88" y="557"/>
                      </a:lnTo>
                      <a:lnTo>
                        <a:pt x="44" y="535"/>
                      </a:lnTo>
                      <a:lnTo>
                        <a:pt x="44" y="526"/>
                      </a:lnTo>
                      <a:lnTo>
                        <a:pt x="44" y="481"/>
                      </a:lnTo>
                      <a:lnTo>
                        <a:pt x="30" y="437"/>
                      </a:lnTo>
                      <a:lnTo>
                        <a:pt x="13" y="402"/>
                      </a:lnTo>
                      <a:lnTo>
                        <a:pt x="22" y="371"/>
                      </a:lnTo>
                      <a:lnTo>
                        <a:pt x="8" y="358"/>
                      </a:lnTo>
                      <a:lnTo>
                        <a:pt x="0" y="292"/>
                      </a:lnTo>
                      <a:lnTo>
                        <a:pt x="8" y="247"/>
                      </a:lnTo>
                      <a:lnTo>
                        <a:pt x="48" y="212"/>
                      </a:lnTo>
                      <a:lnTo>
                        <a:pt x="136" y="190"/>
                      </a:lnTo>
                      <a:lnTo>
                        <a:pt x="158" y="158"/>
                      </a:lnTo>
                      <a:lnTo>
                        <a:pt x="149" y="127"/>
                      </a:lnTo>
                      <a:lnTo>
                        <a:pt x="171" y="119"/>
                      </a:lnTo>
                      <a:lnTo>
                        <a:pt x="176" y="132"/>
                      </a:lnTo>
                      <a:lnTo>
                        <a:pt x="186" y="110"/>
                      </a:lnTo>
                      <a:lnTo>
                        <a:pt x="243" y="66"/>
                      </a:lnTo>
                      <a:lnTo>
                        <a:pt x="274" y="88"/>
                      </a:lnTo>
                      <a:lnTo>
                        <a:pt x="309" y="74"/>
                      </a:lnTo>
                      <a:lnTo>
                        <a:pt x="318" y="39"/>
                      </a:lnTo>
                      <a:lnTo>
                        <a:pt x="353" y="30"/>
                      </a:lnTo>
                      <a:lnTo>
                        <a:pt x="344" y="4"/>
                      </a:lnTo>
                      <a:lnTo>
                        <a:pt x="393" y="22"/>
                      </a:lnTo>
                      <a:lnTo>
                        <a:pt x="433" y="13"/>
                      </a:lnTo>
                      <a:lnTo>
                        <a:pt x="455" y="105"/>
                      </a:lnTo>
                      <a:lnTo>
                        <a:pt x="486" y="132"/>
                      </a:lnTo>
                      <a:lnTo>
                        <a:pt x="512" y="132"/>
                      </a:lnTo>
                      <a:lnTo>
                        <a:pt x="525" y="74"/>
                      </a:lnTo>
                      <a:lnTo>
                        <a:pt x="516" y="48"/>
                      </a:lnTo>
                      <a:lnTo>
                        <a:pt x="525" y="4"/>
                      </a:lnTo>
                      <a:lnTo>
                        <a:pt x="538" y="0"/>
                      </a:lnTo>
                      <a:lnTo>
                        <a:pt x="562" y="52"/>
                      </a:lnTo>
                      <a:lnTo>
                        <a:pt x="584" y="66"/>
                      </a:lnTo>
                      <a:lnTo>
                        <a:pt x="597" y="119"/>
                      </a:lnTo>
                      <a:lnTo>
                        <a:pt x="619" y="190"/>
                      </a:lnTo>
                      <a:lnTo>
                        <a:pt x="650" y="208"/>
                      </a:lnTo>
                      <a:lnTo>
                        <a:pt x="689" y="261"/>
                      </a:lnTo>
                      <a:lnTo>
                        <a:pt x="694" y="287"/>
                      </a:lnTo>
                      <a:lnTo>
                        <a:pt x="729" y="318"/>
                      </a:lnTo>
                      <a:lnTo>
                        <a:pt x="742" y="375"/>
                      </a:lnTo>
                      <a:lnTo>
                        <a:pt x="742" y="419"/>
                      </a:lnTo>
                      <a:lnTo>
                        <a:pt x="729" y="490"/>
                      </a:lnTo>
                      <a:lnTo>
                        <a:pt x="694" y="535"/>
                      </a:lnTo>
                      <a:lnTo>
                        <a:pt x="685" y="592"/>
                      </a:lnTo>
                      <a:lnTo>
                        <a:pt x="685" y="641"/>
                      </a:lnTo>
                      <a:lnTo>
                        <a:pt x="650" y="650"/>
                      </a:lnTo>
                      <a:lnTo>
                        <a:pt x="619" y="68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8461440" y="5981760"/>
                  <a:ext cx="25920" cy="30600"/>
                </a:xfrm>
                <a:custGeom>
                  <a:avLst/>
                  <a:gdLst/>
                  <a:ahLst/>
                  <a:rect l="0" t="0" r="r" b="b"/>
                  <a:pathLst>
                    <a:path w="72" h="85">
                      <a:moveTo>
                        <a:pt x="36" y="72"/>
                      </a:moveTo>
                      <a:lnTo>
                        <a:pt x="8" y="58"/>
                      </a:lnTo>
                      <a:lnTo>
                        <a:pt x="8" y="45"/>
                      </a:lnTo>
                      <a:lnTo>
                        <a:pt x="8" y="36"/>
                      </a:lnTo>
                      <a:lnTo>
                        <a:pt x="4" y="23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36" y="8"/>
                      </a:lnTo>
                      <a:lnTo>
                        <a:pt x="49" y="8"/>
                      </a:lnTo>
                      <a:lnTo>
                        <a:pt x="53" y="8"/>
                      </a:lnTo>
                      <a:lnTo>
                        <a:pt x="72" y="0"/>
                      </a:lnTo>
                      <a:lnTo>
                        <a:pt x="72" y="36"/>
                      </a:lnTo>
                      <a:lnTo>
                        <a:pt x="63" y="45"/>
                      </a:lnTo>
                      <a:lnTo>
                        <a:pt x="53" y="58"/>
                      </a:lnTo>
                      <a:lnTo>
                        <a:pt x="53" y="72"/>
                      </a:lnTo>
                      <a:lnTo>
                        <a:pt x="49" y="72"/>
                      </a:lnTo>
                      <a:lnTo>
                        <a:pt x="49" y="85"/>
                      </a:lnTo>
                      <a:lnTo>
                        <a:pt x="36" y="72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7523280" y="5694480"/>
                  <a:ext cx="28800" cy="119520"/>
                </a:xfrm>
                <a:custGeom>
                  <a:avLst/>
                  <a:gdLst/>
                  <a:ahLst/>
                  <a:rect l="0" t="0" r="r" b="b"/>
                  <a:pathLst>
                    <a:path w="80" h="332">
                      <a:moveTo>
                        <a:pt x="8" y="115"/>
                      </a:moveTo>
                      <a:lnTo>
                        <a:pt x="39" y="89"/>
                      </a:lnTo>
                      <a:lnTo>
                        <a:pt x="62" y="0"/>
                      </a:lnTo>
                      <a:lnTo>
                        <a:pt x="80" y="133"/>
                      </a:lnTo>
                      <a:lnTo>
                        <a:pt x="53" y="297"/>
                      </a:lnTo>
                      <a:lnTo>
                        <a:pt x="0" y="332"/>
                      </a:lnTo>
                      <a:lnTo>
                        <a:pt x="0" y="253"/>
                      </a:lnTo>
                      <a:lnTo>
                        <a:pt x="13" y="199"/>
                      </a:lnTo>
                      <a:lnTo>
                        <a:pt x="8" y="115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4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8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8.wmf"/><Relationship Id="rId5" Type="http://schemas.openxmlformats.org/officeDocument/2006/relationships/image" Target="../media/image11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4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10.wmf"/><Relationship Id="rId4" Type="http://schemas.openxmlformats.org/officeDocument/2006/relationships/image" Target="../media/image12.wmf"/><Relationship Id="rId5" Type="http://schemas.openxmlformats.org/officeDocument/2006/relationships/image" Target="../media/image5.wmf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38160">
            <a:solidFill>
              <a:srgbClr val="00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09480" y="1600200"/>
            <a:ext cx="777240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Joining the Networked Digital Library of Theses and Dissertations (NDLTD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cccc"/>
                </a:solidFill>
                <a:latin typeface="Times New Roman"/>
                <a:ea typeface="Times New Roman"/>
              </a:rPr>
              <a:t>ETD Project T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ginia Tech, Blacksburg, 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ndltd.org    etd@vt.ed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69960" y="198360"/>
            <a:ext cx="78868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he Worldwide ETD Initiative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27040" y="150840"/>
            <a:ext cx="68389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dent Gets Committee Signatur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Submits ET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228600" y="1905120"/>
            <a:ext cx="7848720" cy="4800600"/>
          </a:xfrm>
          <a:prstGeom prst="line">
            <a:avLst/>
          </a:prstGeom>
          <a:ln w="38160">
            <a:solidFill>
              <a:srgbClr val="00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685800" y="2057400"/>
            <a:ext cx="2905200" cy="2165400"/>
            <a:chOff x="685800" y="2057400"/>
            <a:chExt cx="2905200" cy="2165400"/>
          </a:xfrm>
        </p:grpSpPr>
        <p:pic>
          <p:nvPicPr>
            <p:cNvPr id="253" name="" descr=""/>
            <p:cNvPicPr/>
            <p:nvPr/>
          </p:nvPicPr>
          <p:blipFill>
            <a:blip r:embed="rId1"/>
            <a:stretch/>
          </p:blipFill>
          <p:spPr>
            <a:xfrm>
              <a:off x="685800" y="2057400"/>
              <a:ext cx="2171520" cy="15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" descr=""/>
            <p:cNvPicPr/>
            <p:nvPr/>
          </p:nvPicPr>
          <p:blipFill>
            <a:blip r:embed="rId2"/>
            <a:stretch/>
          </p:blipFill>
          <p:spPr>
            <a:xfrm>
              <a:off x="2314440" y="2987640"/>
              <a:ext cx="1130400" cy="12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 txBox="1"/>
            <p:nvPr/>
          </p:nvSpPr>
          <p:spPr>
            <a:xfrm>
              <a:off x="2525760" y="3427560"/>
              <a:ext cx="10652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igne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3809880" y="5105520"/>
            <a:ext cx="1523880" cy="990720"/>
          </a:xfrm>
          <a:prstGeom prst="rect">
            <a:avLst/>
          </a:prstGeom>
          <a:solidFill>
            <a:srgbClr val="9999ff"/>
          </a:solidFill>
          <a:ln w="12600">
            <a:solidFill>
              <a:srgbClr val="9999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895560" y="4038480"/>
            <a:ext cx="4484880" cy="2079720"/>
            <a:chOff x="3895560" y="4038480"/>
            <a:chExt cx="4484880" cy="2079720"/>
          </a:xfrm>
        </p:grpSpPr>
        <p:grpSp>
          <p:nvGrpSpPr>
            <p:cNvPr id="258" name=""/>
            <p:cNvGrpSpPr/>
            <p:nvPr/>
          </p:nvGrpSpPr>
          <p:grpSpPr>
            <a:xfrm>
              <a:off x="3895560" y="4038480"/>
              <a:ext cx="4131000" cy="1943280"/>
              <a:chOff x="3895560" y="4038480"/>
              <a:chExt cx="4131000" cy="1943280"/>
            </a:xfrm>
          </p:grpSpPr>
          <p:pic>
            <p:nvPicPr>
              <p:cNvPr id="25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895560" y="4533840"/>
                <a:ext cx="1380960" cy="1447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329520" y="4076640"/>
                <a:ext cx="1697040" cy="1633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925880" y="4038480"/>
                <a:ext cx="1779480" cy="1927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62" name=""/>
            <p:cNvSpPr txBox="1"/>
            <p:nvPr/>
          </p:nvSpPr>
          <p:spPr>
            <a:xfrm>
              <a:off x="6562800" y="5661000"/>
              <a:ext cx="18176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rad Schoo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99960" y="150840"/>
            <a:ext cx="625320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duate School Approves ET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dent is Graduat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28600" y="1905120"/>
            <a:ext cx="7848720" cy="4800600"/>
          </a:xfrm>
          <a:prstGeom prst="line">
            <a:avLst/>
          </a:prstGeom>
          <a:ln w="38160">
            <a:solidFill>
              <a:srgbClr val="00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533520" y="2362320"/>
            <a:ext cx="1808280" cy="1814400"/>
          </a:xfrm>
          <a:prstGeom prst="rect">
            <a:avLst/>
          </a:prstGeom>
          <a:ln w="0">
            <a:noFill/>
          </a:ln>
        </p:spPr>
      </p:pic>
      <p:grpSp>
        <p:nvGrpSpPr>
          <p:cNvPr id="268" name=""/>
          <p:cNvGrpSpPr/>
          <p:nvPr/>
        </p:nvGrpSpPr>
        <p:grpSpPr>
          <a:xfrm>
            <a:off x="5516640" y="3403440"/>
            <a:ext cx="2086200" cy="2921040"/>
            <a:chOff x="5516640" y="3403440"/>
            <a:chExt cx="2086200" cy="2921040"/>
          </a:xfrm>
        </p:grpSpPr>
        <p:grpSp>
          <p:nvGrpSpPr>
            <p:cNvPr id="269" name=""/>
            <p:cNvGrpSpPr/>
            <p:nvPr/>
          </p:nvGrpSpPr>
          <p:grpSpPr>
            <a:xfrm>
              <a:off x="5516640" y="3403440"/>
              <a:ext cx="2027160" cy="2921040"/>
              <a:chOff x="5516640" y="3403440"/>
              <a:chExt cx="2027160" cy="2921040"/>
            </a:xfrm>
          </p:grpSpPr>
          <p:grpSp>
            <p:nvGrpSpPr>
              <p:cNvPr id="270" name=""/>
              <p:cNvGrpSpPr/>
              <p:nvPr/>
            </p:nvGrpSpPr>
            <p:grpSpPr>
              <a:xfrm>
                <a:off x="5516640" y="3403440"/>
                <a:ext cx="1828800" cy="2692440"/>
                <a:chOff x="5516640" y="3403440"/>
                <a:chExt cx="1828800" cy="2692440"/>
              </a:xfrm>
            </p:grpSpPr>
            <p:pic>
              <p:nvPicPr>
                <p:cNvPr id="27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516640" y="3851280"/>
                  <a:ext cx="1828800" cy="224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72" name=""/>
                <p:cNvSpPr/>
                <p:nvPr/>
              </p:nvSpPr>
              <p:spPr>
                <a:xfrm>
                  <a:off x="6134040" y="3403440"/>
                  <a:ext cx="625320" cy="9586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5958000" y="3778200"/>
                  <a:ext cx="578880" cy="983160"/>
                </a:xfrm>
                <a:custGeom>
                  <a:avLst/>
                  <a:gdLst/>
                  <a:ahLst/>
                  <a:rect l="0" t="0" r="r" b="b"/>
                  <a:pathLst>
                    <a:path fill="none" w="1608" h="2731">
                      <a:moveTo>
                        <a:pt x="1608" y="0"/>
                      </a:moveTo>
                      <a:lnTo>
                        <a:pt x="1608" y="0"/>
                      </a:lnTo>
                      <a:cubicBezTo>
                        <a:pt x="1326" y="0"/>
                        <a:pt x="1048" y="126"/>
                        <a:pt x="804" y="366"/>
                      </a:cubicBezTo>
                      <a:cubicBezTo>
                        <a:pt x="560" y="606"/>
                        <a:pt x="357" y="950"/>
                        <a:pt x="215" y="1366"/>
                      </a:cubicBezTo>
                      <a:cubicBezTo>
                        <a:pt x="74" y="1781"/>
                        <a:pt x="0" y="2252"/>
                        <a:pt x="0" y="2731"/>
                      </a:cubicBezTo>
                    </a:path>
                  </a:pathLst>
                </a:custGeom>
                <a:ln w="25560">
                  <a:solidFill>
                    <a:srgbClr val="ffff99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6081840" y="3797280"/>
                  <a:ext cx="455040" cy="867960"/>
                </a:xfrm>
                <a:custGeom>
                  <a:avLst/>
                  <a:gdLst/>
                  <a:ahLst/>
                  <a:rect l="0" t="0" r="r" b="b"/>
                  <a:pathLst>
                    <a:path fill="none" w="1264" h="2411">
                      <a:moveTo>
                        <a:pt x="1264" y="0"/>
                      </a:moveTo>
                      <a:lnTo>
                        <a:pt x="1264" y="0"/>
                      </a:lnTo>
                      <a:cubicBezTo>
                        <a:pt x="1042" y="0"/>
                        <a:pt x="824" y="111"/>
                        <a:pt x="632" y="323"/>
                      </a:cubicBezTo>
                      <a:cubicBezTo>
                        <a:pt x="440" y="535"/>
                        <a:pt x="280" y="839"/>
                        <a:pt x="169" y="1206"/>
                      </a:cubicBezTo>
                      <a:cubicBezTo>
                        <a:pt x="58" y="1572"/>
                        <a:pt x="0" y="1988"/>
                        <a:pt x="0" y="2411"/>
                      </a:cubicBezTo>
                    </a:path>
                  </a:pathLst>
                </a:custGeom>
                <a:ln w="25560">
                  <a:solidFill>
                    <a:srgbClr val="ffff99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6175440" y="3778200"/>
                  <a:ext cx="387000" cy="887760"/>
                </a:xfrm>
                <a:custGeom>
                  <a:avLst/>
                  <a:gdLst/>
                  <a:ahLst/>
                  <a:rect l="0" t="0" r="r" b="b"/>
                  <a:pathLst>
                    <a:path fill="none" w="1075" h="2466">
                      <a:moveTo>
                        <a:pt x="1075" y="0"/>
                      </a:moveTo>
                      <a:lnTo>
                        <a:pt x="1075" y="0"/>
                      </a:lnTo>
                      <a:cubicBezTo>
                        <a:pt x="886" y="0"/>
                        <a:pt x="701" y="114"/>
                        <a:pt x="537" y="330"/>
                      </a:cubicBezTo>
                      <a:cubicBezTo>
                        <a:pt x="374" y="547"/>
                        <a:pt x="238" y="858"/>
                        <a:pt x="144" y="1233"/>
                      </a:cubicBezTo>
                      <a:cubicBezTo>
                        <a:pt x="50" y="1608"/>
                        <a:pt x="0" y="2033"/>
                        <a:pt x="0" y="2466"/>
                      </a:cubicBezTo>
                    </a:path>
                  </a:pathLst>
                </a:custGeom>
                <a:ln w="25560">
                  <a:solidFill>
                    <a:srgbClr val="ffff99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6" name=""/>
              <p:cNvSpPr/>
              <p:nvPr/>
            </p:nvSpPr>
            <p:spPr>
              <a:xfrm>
                <a:off x="6205680" y="5005440"/>
                <a:ext cx="542880" cy="1108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7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672240" y="5452920"/>
                <a:ext cx="871560" cy="871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78" name=""/>
            <p:cNvSpPr txBox="1"/>
            <p:nvPr/>
          </p:nvSpPr>
          <p:spPr>
            <a:xfrm>
              <a:off x="6689880" y="5546880"/>
              <a:ext cx="9129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h.D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2266920" y="1859040"/>
            <a:ext cx="2076480" cy="179856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5"/>
          <a:stretch/>
        </p:blipFill>
        <p:spPr>
          <a:xfrm>
            <a:off x="2514600" y="3657600"/>
            <a:ext cx="6634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1219320"/>
            <a:ext cx="8534880" cy="5258160"/>
          </a:xfrm>
          <a:custGeom>
            <a:avLst/>
            <a:gdLst/>
            <a:ahLst/>
            <a:rect l="0" t="0" r="r" b="b"/>
            <a:pathLst>
              <a:path w="23708" h="14606">
                <a:moveTo>
                  <a:pt x="11854" y="0"/>
                </a:moveTo>
                <a:lnTo>
                  <a:pt x="13039" y="4177"/>
                </a:lnTo>
                <a:lnTo>
                  <a:pt x="17698" y="1022"/>
                </a:lnTo>
                <a:lnTo>
                  <a:pt x="15552" y="4994"/>
                </a:lnTo>
                <a:lnTo>
                  <a:pt x="22167" y="3665"/>
                </a:lnTo>
                <a:lnTo>
                  <a:pt x="17036" y="6521"/>
                </a:lnTo>
                <a:lnTo>
                  <a:pt x="23708" y="7302"/>
                </a:lnTo>
                <a:lnTo>
                  <a:pt x="17036" y="8084"/>
                </a:lnTo>
                <a:lnTo>
                  <a:pt x="22167" y="10954"/>
                </a:lnTo>
                <a:lnTo>
                  <a:pt x="15547" y="9721"/>
                </a:lnTo>
                <a:lnTo>
                  <a:pt x="17698" y="13655"/>
                </a:lnTo>
                <a:lnTo>
                  <a:pt x="13229" y="10496"/>
                </a:lnTo>
                <a:lnTo>
                  <a:pt x="11735" y="14606"/>
                </a:lnTo>
                <a:lnTo>
                  <a:pt x="10431" y="10496"/>
                </a:lnTo>
                <a:lnTo>
                  <a:pt x="5953" y="13656"/>
                </a:lnTo>
                <a:lnTo>
                  <a:pt x="8103" y="9679"/>
                </a:lnTo>
                <a:lnTo>
                  <a:pt x="1493" y="11005"/>
                </a:lnTo>
                <a:lnTo>
                  <a:pt x="6615" y="8150"/>
                </a:lnTo>
                <a:lnTo>
                  <a:pt x="0" y="7332"/>
                </a:lnTo>
                <a:lnTo>
                  <a:pt x="6615" y="6521"/>
                </a:lnTo>
                <a:lnTo>
                  <a:pt x="1493" y="3667"/>
                </a:lnTo>
                <a:lnTo>
                  <a:pt x="8103" y="4991"/>
                </a:lnTo>
                <a:lnTo>
                  <a:pt x="5953" y="1007"/>
                </a:lnTo>
                <a:lnTo>
                  <a:pt x="10420" y="4177"/>
                </a:lnTo>
                <a:lnTo>
                  <a:pt x="11854" y="0"/>
                </a:lnTo>
                <a:close/>
              </a:path>
            </a:pathLst>
          </a:custGeom>
          <a:solidFill>
            <a:srgbClr val="9999ff"/>
          </a:solidFill>
          <a:ln w="12600">
            <a:solidFill>
              <a:srgbClr val="9999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65040" y="227160"/>
            <a:ext cx="77137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brary Catalogs ETD and New Stud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ve Access to the New Resear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3449520" y="2941560"/>
            <a:ext cx="1682640" cy="108432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1573200" y="3017880"/>
            <a:ext cx="2162160" cy="1747800"/>
          </a:xfrm>
          <a:prstGeom prst="rect">
            <a:avLst/>
          </a:prstGeom>
          <a:ln w="0">
            <a:noFill/>
          </a:ln>
        </p:spPr>
      </p:pic>
      <p:grpSp>
        <p:nvGrpSpPr>
          <p:cNvPr id="287" name=""/>
          <p:cNvGrpSpPr/>
          <p:nvPr/>
        </p:nvGrpSpPr>
        <p:grpSpPr>
          <a:xfrm>
            <a:off x="5437080" y="1646280"/>
            <a:ext cx="1219320" cy="3540240"/>
            <a:chOff x="5437080" y="1646280"/>
            <a:chExt cx="1219320" cy="3540240"/>
          </a:xfrm>
        </p:grpSpPr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5437080" y="1646280"/>
              <a:ext cx="1166760" cy="11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" descr=""/>
            <p:cNvPicPr/>
            <p:nvPr/>
          </p:nvPicPr>
          <p:blipFill>
            <a:blip r:embed="rId4"/>
            <a:stretch/>
          </p:blipFill>
          <p:spPr>
            <a:xfrm>
              <a:off x="5437080" y="2894040"/>
              <a:ext cx="1219320" cy="114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" descr=""/>
            <p:cNvPicPr/>
            <p:nvPr/>
          </p:nvPicPr>
          <p:blipFill>
            <a:blip r:embed="rId5"/>
            <a:stretch/>
          </p:blipFill>
          <p:spPr>
            <a:xfrm>
              <a:off x="5437080" y="4160880"/>
              <a:ext cx="1085760" cy="1025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"/>
          <p:cNvSpPr txBox="1"/>
          <p:nvPr/>
        </p:nvSpPr>
        <p:spPr>
          <a:xfrm>
            <a:off x="3440160" y="3230640"/>
            <a:ext cx="10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W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992240" y="4754520"/>
            <a:ext cx="1251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DLT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831960" y="27936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Arial"/>
              </a:rPr>
              <a:t>Status of the Local Proj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990720" y="1501920"/>
            <a:ext cx="78930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ved by university governance Spring 1996; required starting 1/1/97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mission &amp; access software in plac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mission workshops for students (and faculty) occur oft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culty training as part of Faculty Development Initiati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152280" y="304920"/>
            <a:ext cx="8915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Arial"/>
              </a:rPr>
              <a:t>Universities that have Expressed Interest in the Proj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04920" y="1752480"/>
            <a:ext cx="430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lege of W &amp; 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ke Univ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orge Mason 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ssissippi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klahoma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nn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land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419720" y="182880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. U. Muni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as A&amp;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as Womens U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. AZ, CO, MI,   PA, Umea (Swede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shington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st Virginia Univ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141720" y="5913360"/>
            <a:ext cx="45435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cccc"/>
                </a:solidFill>
                <a:latin typeface="Times New Roman"/>
                <a:ea typeface="Times New Roman"/>
              </a:rPr>
              <a:t>CIC Considering Jo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0"/>
            <a:ext cx="78487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Arial"/>
              </a:rPr>
              <a:t>Universities (to be) Visited by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Arial"/>
              </a:rPr>
              <a:t>Virginia Tech Staf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685800" y="1523880"/>
            <a:ext cx="3733920" cy="472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bu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M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umb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orida Inst. Te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orgia Te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Nat’l Lib. Canad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York 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hio State 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ce Univ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tgers Univ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 Jose State 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724280" y="1523880"/>
            <a:ext cx="4038480" cy="472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ford Univ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. Alaba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. Al. Birmingh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. CA Berkel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. CA Santa Barb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. Central Flori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. Dela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. Ill. Urbana 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. NC Charlot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. Ut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. Waterlo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. Wisc. Madi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609480" y="266760"/>
            <a:ext cx="807732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Arial"/>
              </a:rPr>
              <a:t>Universities Officially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Arial"/>
              </a:rPr>
              <a:t>Part of NDLT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533520" y="1523880"/>
            <a:ext cx="8185320" cy="472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emson Univer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ordia Univer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higan Te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al Postgraduate Sch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th Carolina State Univer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hodes University (South Afric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chester Institute of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ity of Georg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ity of South Flori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ity of Tennessee: Knoxville, Memp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ity of Virginia (Bachelor’s thes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nderbilt Univer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990720" y="1522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Arial"/>
              </a:rPr>
              <a:t>Who are the sponsors and cooperator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523880" y="1447920"/>
            <a:ext cx="6141960" cy="44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obe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or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GS, CSGS, CN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B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CL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RA, SOLI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M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 Dept. of Education (FIPS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How does this relate to UMI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87 UMI workshop to explore ET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letter for US Dept. of Ed. proposa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eering and technical committee memb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Quest Direct pilot of scanning works started 1/1/9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laborating 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pting author submis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dards (e.g., representa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gital library approach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657440"/>
            <a:ext cx="8001000" cy="424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BM DL: donated equipment, technical support, powerful IPR (see TOIS, D-Lib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39.50 / DL protocol: university libraries with catalogs of freely shared MARC records that point to archival copies; OCLC SiteSearch software/data/assi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nst / NCSTRL: CS depts., DARPA, NSF, CNRI, Cornell, UVA- www.ncstrl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mpus: WWW + search engine + arch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38160">
            <a:solidFill>
              <a:srgbClr val="00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752480"/>
            <a:ext cx="813420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800" spc="-1" strike="noStrike">
                <a:solidFill>
                  <a:srgbClr val="00cccc"/>
                </a:solidFill>
                <a:latin typeface="Arial"/>
                <a:ea typeface="Arial"/>
              </a:rPr>
              <a:t>PIs:</a:t>
            </a:r>
            <a:br>
              <a:rPr sz="1800"/>
            </a:br>
            <a:r>
              <a:rPr b="1" lang="en-US" sz="2800" spc="-1" strike="noStrike">
                <a:solidFill>
                  <a:srgbClr val="ffff99"/>
                </a:solidFill>
                <a:latin typeface="Arial"/>
                <a:ea typeface="Arial"/>
              </a:rPr>
              <a:t>Ed Fox - Computer Science (fox@vt.edu)</a:t>
            </a:r>
            <a:br>
              <a:rPr sz="2800"/>
            </a:br>
            <a:r>
              <a:rPr b="1" lang="en-US" sz="2800" spc="-1" strike="noStrike">
                <a:solidFill>
                  <a:srgbClr val="ffff99"/>
                </a:solidFill>
                <a:latin typeface="Arial"/>
                <a:ea typeface="Arial"/>
              </a:rPr>
              <a:t>John Eaton - Graduate School (eaton@vt.edu)</a:t>
            </a:r>
            <a:br>
              <a:rPr sz="2800"/>
            </a:br>
            <a:r>
              <a:rPr b="1" lang="en-US" sz="2800" spc="-1" strike="noStrike">
                <a:solidFill>
                  <a:srgbClr val="ffff99"/>
                </a:solidFill>
                <a:latin typeface="Arial"/>
                <a:ea typeface="Arial"/>
              </a:rPr>
              <a:t>Gail McMillan - Library (gailmac@vt.edu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cccc"/>
                </a:solidFill>
                <a:latin typeface="Arial"/>
                <a:ea typeface="Arial"/>
              </a:rPr>
              <a:t>GRAs:</a:t>
            </a:r>
            <a:br>
              <a:rPr sz="1800"/>
            </a:br>
            <a:r>
              <a:rPr b="1" lang="en-US" sz="2800" spc="-1" strike="noStrike">
                <a:solidFill>
                  <a:srgbClr val="ffff99"/>
                </a:solidFill>
                <a:latin typeface="Arial"/>
                <a:ea typeface="Arial"/>
              </a:rPr>
              <a:t>Neill Kipp - Computer Science</a:t>
            </a:r>
            <a:br>
              <a:rPr sz="2800"/>
            </a:br>
            <a:r>
              <a:rPr b="1" lang="en-US" sz="2800" spc="-1" strike="noStrike">
                <a:solidFill>
                  <a:srgbClr val="ffff99"/>
                </a:solidFill>
                <a:latin typeface="Arial"/>
                <a:ea typeface="Arial"/>
              </a:rPr>
              <a:t>Paul Mather - Computer Science</a:t>
            </a:r>
            <a:br>
              <a:rPr sz="2800"/>
            </a:br>
            <a:r>
              <a:rPr b="1" lang="en-US" sz="2800" spc="-1" strike="noStrike">
                <a:solidFill>
                  <a:srgbClr val="ffff99"/>
                </a:solidFill>
                <a:latin typeface="Arial"/>
                <a:ea typeface="Arial"/>
              </a:rPr>
              <a:t>Tim McGonigle - Psychology</a:t>
            </a:r>
            <a:br>
              <a:rPr sz="2800"/>
            </a:br>
            <a:br>
              <a:rPr sz="2800"/>
            </a:br>
            <a:br>
              <a:rPr sz="1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898720" y="309600"/>
            <a:ext cx="34988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5400" spc="-1" strike="noStrike">
                <a:solidFill>
                  <a:srgbClr val="ffff99"/>
                </a:solidFill>
                <a:latin typeface="Arial"/>
                <a:ea typeface="Arial"/>
              </a:rPr>
              <a:t>ETD Team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85800" y="1522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Arial"/>
              </a:rPr>
              <a:t>Access Approach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762120" y="15238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MI and/or OCLC centralized servi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buted service: Dienst, Z39.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onal services (e.g., CIC, MEL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 servers with browse, sear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local catalogs to local arch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a handles &amp; PURLs in MARC rec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09480" y="304920"/>
            <a:ext cx="784872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Arial"/>
              </a:rPr>
              <a:t>Why might your university want to be involv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811080" y="1930320"/>
            <a:ext cx="757728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improve graduate education / better prepare your stud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unlock university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save money for students and for the university / improve workfl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build an important digital library supported by SURA, FIP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990720" y="26676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Arial"/>
              </a:rPr>
              <a:t>How can your university get involv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1192320" y="1568520"/>
            <a:ext cx="7534440" cy="436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 planning/implementation te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00cccc"/>
                </a:solidFill>
                <a:latin typeface="Times New Roman"/>
                <a:ea typeface="Times New Roman"/>
              </a:rPr>
              <a:t>Graduate Sch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00cccc"/>
                </a:solidFill>
                <a:latin typeface="Times New Roman"/>
                <a:ea typeface="Times New Roman"/>
              </a:rPr>
              <a:t>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00cccc"/>
                </a:solidFill>
                <a:latin typeface="Times New Roman"/>
                <a:ea typeface="Times New Roman"/>
              </a:rPr>
              <a:t>Computing / Information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00cccc"/>
                </a:solidFill>
                <a:latin typeface="Times New Roman"/>
                <a:ea typeface="Times New Roman"/>
              </a:rPr>
              <a:t>Institutional Research / Educ. Te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d us letter, give us contact nam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apt Virginia Tech 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00cccc"/>
                </a:solidFill>
                <a:latin typeface="Times New Roman"/>
                <a:ea typeface="Times New Roman"/>
              </a:rPr>
              <a:t>Build interest and consens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00cccc"/>
                </a:solidFill>
                <a:latin typeface="Times New Roman"/>
                <a:ea typeface="Times New Roman"/>
              </a:rPr>
              <a:t>Start trial / allow optional submi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4208400" y="1671480"/>
            <a:ext cx="1389240" cy="3000240"/>
          </a:xfrm>
          <a:prstGeom prst="rect">
            <a:avLst/>
          </a:prstGeom>
          <a:ln w="0">
            <a:noFill/>
          </a:ln>
        </p:spPr>
      </p:pic>
      <p:grpSp>
        <p:nvGrpSpPr>
          <p:cNvPr id="397" name=""/>
          <p:cNvGrpSpPr/>
          <p:nvPr/>
        </p:nvGrpSpPr>
        <p:grpSpPr>
          <a:xfrm>
            <a:off x="330120" y="3687840"/>
            <a:ext cx="3602160" cy="2597040"/>
            <a:chOff x="330120" y="3687840"/>
            <a:chExt cx="3602160" cy="2597040"/>
          </a:xfrm>
        </p:grpSpPr>
        <p:sp>
          <p:nvSpPr>
            <p:cNvPr id="398" name=""/>
            <p:cNvSpPr/>
            <p:nvPr/>
          </p:nvSpPr>
          <p:spPr>
            <a:xfrm>
              <a:off x="330120" y="3687840"/>
              <a:ext cx="3599280" cy="2223000"/>
            </a:xfrm>
            <a:custGeom>
              <a:avLst/>
              <a:gdLst/>
              <a:ahLst/>
              <a:rect l="0" t="0" r="r" b="b"/>
              <a:pathLst>
                <a:path w="9998" h="6175">
                  <a:moveTo>
                    <a:pt x="4999" y="0"/>
                  </a:moveTo>
                  <a:lnTo>
                    <a:pt x="5499" y="1766"/>
                  </a:lnTo>
                  <a:lnTo>
                    <a:pt x="7463" y="432"/>
                  </a:lnTo>
                  <a:lnTo>
                    <a:pt x="6558" y="2112"/>
                  </a:lnTo>
                  <a:lnTo>
                    <a:pt x="9349" y="1550"/>
                  </a:lnTo>
                  <a:lnTo>
                    <a:pt x="7184" y="2757"/>
                  </a:lnTo>
                  <a:lnTo>
                    <a:pt x="9998" y="3087"/>
                  </a:lnTo>
                  <a:lnTo>
                    <a:pt x="7184" y="3418"/>
                  </a:lnTo>
                  <a:lnTo>
                    <a:pt x="9349" y="4632"/>
                  </a:lnTo>
                  <a:lnTo>
                    <a:pt x="6556" y="4110"/>
                  </a:lnTo>
                  <a:lnTo>
                    <a:pt x="7463" y="5773"/>
                  </a:lnTo>
                  <a:lnTo>
                    <a:pt x="5579" y="4437"/>
                  </a:lnTo>
                  <a:lnTo>
                    <a:pt x="4949" y="6175"/>
                  </a:lnTo>
                  <a:lnTo>
                    <a:pt x="4399" y="4437"/>
                  </a:lnTo>
                  <a:lnTo>
                    <a:pt x="2511" y="5774"/>
                  </a:lnTo>
                  <a:lnTo>
                    <a:pt x="3417" y="4092"/>
                  </a:lnTo>
                  <a:lnTo>
                    <a:pt x="629" y="4653"/>
                  </a:lnTo>
                  <a:lnTo>
                    <a:pt x="2790" y="3445"/>
                  </a:lnTo>
                  <a:lnTo>
                    <a:pt x="0" y="3100"/>
                  </a:lnTo>
                  <a:lnTo>
                    <a:pt x="2790" y="2757"/>
                  </a:lnTo>
                  <a:lnTo>
                    <a:pt x="629" y="1551"/>
                  </a:lnTo>
                  <a:lnTo>
                    <a:pt x="3417" y="2111"/>
                  </a:lnTo>
                  <a:lnTo>
                    <a:pt x="2511" y="425"/>
                  </a:lnTo>
                  <a:lnTo>
                    <a:pt x="4394" y="1766"/>
                  </a:lnTo>
                  <a:lnTo>
                    <a:pt x="4999" y="0"/>
                  </a:ln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9" name="" descr=""/>
            <p:cNvPicPr/>
            <p:nvPr/>
          </p:nvPicPr>
          <p:blipFill>
            <a:blip r:embed="rId2"/>
            <a:stretch/>
          </p:blipFill>
          <p:spPr>
            <a:xfrm>
              <a:off x="1200240" y="3733920"/>
              <a:ext cx="1893960" cy="17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 txBox="1"/>
            <p:nvPr/>
          </p:nvSpPr>
          <p:spPr>
            <a:xfrm>
              <a:off x="1201680" y="5827680"/>
              <a:ext cx="963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edi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01" name="" descr=""/>
            <p:cNvPicPr/>
            <p:nvPr/>
          </p:nvPicPr>
          <p:blipFill>
            <a:blip r:embed="rId3"/>
            <a:stretch/>
          </p:blipFill>
          <p:spPr>
            <a:xfrm>
              <a:off x="3024360" y="5299200"/>
              <a:ext cx="907920" cy="663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2" name=""/>
          <p:cNvGrpSpPr/>
          <p:nvPr/>
        </p:nvGrpSpPr>
        <p:grpSpPr>
          <a:xfrm>
            <a:off x="1081080" y="1335240"/>
            <a:ext cx="2843280" cy="2214360"/>
            <a:chOff x="1081080" y="1335240"/>
            <a:chExt cx="2843280" cy="2214360"/>
          </a:xfrm>
        </p:grpSpPr>
        <p:pic>
          <p:nvPicPr>
            <p:cNvPr id="403" name="" descr=""/>
            <p:cNvPicPr/>
            <p:nvPr/>
          </p:nvPicPr>
          <p:blipFill>
            <a:blip r:embed="rId4"/>
            <a:stretch/>
          </p:blipFill>
          <p:spPr>
            <a:xfrm>
              <a:off x="1168560" y="1335240"/>
              <a:ext cx="158436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 txBox="1"/>
            <p:nvPr/>
          </p:nvSpPr>
          <p:spPr>
            <a:xfrm>
              <a:off x="1081080" y="2727360"/>
              <a:ext cx="284328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TD Web Sit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http://www.ndltd.org/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5" name=""/>
          <p:cNvSpPr txBox="1"/>
          <p:nvPr/>
        </p:nvSpPr>
        <p:spPr>
          <a:xfrm>
            <a:off x="212760" y="243000"/>
            <a:ext cx="632952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TDs Got Your Interest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6386400" y="1494000"/>
            <a:ext cx="2427120" cy="2693880"/>
            <a:chOff x="6386400" y="1494000"/>
            <a:chExt cx="2427120" cy="2693880"/>
          </a:xfrm>
        </p:grpSpPr>
        <p:sp>
          <p:nvSpPr>
            <p:cNvPr id="407" name=""/>
            <p:cNvSpPr txBox="1"/>
            <p:nvPr/>
          </p:nvSpPr>
          <p:spPr>
            <a:xfrm>
              <a:off x="6386400" y="3730680"/>
              <a:ext cx="2427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raduate Studen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8" name=""/>
            <p:cNvGrpSpPr/>
            <p:nvPr/>
          </p:nvGrpSpPr>
          <p:grpSpPr>
            <a:xfrm>
              <a:off x="6761160" y="1494000"/>
              <a:ext cx="1336680" cy="2071440"/>
              <a:chOff x="6761160" y="1494000"/>
              <a:chExt cx="1336680" cy="2071440"/>
            </a:xfrm>
          </p:grpSpPr>
          <p:pic>
            <p:nvPicPr>
              <p:cNvPr id="40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761160" y="1838160"/>
                <a:ext cx="1336680" cy="172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0" name=""/>
              <p:cNvSpPr/>
              <p:nvPr/>
            </p:nvSpPr>
            <p:spPr>
              <a:xfrm>
                <a:off x="7211880" y="1494000"/>
                <a:ext cx="457200" cy="7383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083360" y="1781280"/>
                <a:ext cx="423360" cy="756720"/>
              </a:xfrm>
              <a:custGeom>
                <a:avLst/>
                <a:gdLst/>
                <a:ahLst/>
                <a:rect l="0" t="0" r="r" b="b"/>
                <a:pathLst>
                  <a:path fill="none" w="1176" h="2102">
                    <a:moveTo>
                      <a:pt x="1176" y="0"/>
                    </a:moveTo>
                    <a:lnTo>
                      <a:pt x="1176" y="0"/>
                    </a:lnTo>
                    <a:cubicBezTo>
                      <a:pt x="970" y="0"/>
                      <a:pt x="767" y="97"/>
                      <a:pt x="588" y="282"/>
                    </a:cubicBezTo>
                    <a:cubicBezTo>
                      <a:pt x="409" y="466"/>
                      <a:pt x="261" y="731"/>
                      <a:pt x="158" y="1051"/>
                    </a:cubicBezTo>
                    <a:cubicBezTo>
                      <a:pt x="54" y="1371"/>
                      <a:pt x="0" y="1733"/>
                      <a:pt x="0" y="2102"/>
                    </a:cubicBezTo>
                  </a:path>
                </a:pathLst>
              </a:custGeom>
              <a:ln w="25560">
                <a:solidFill>
                  <a:srgbClr val="ffff99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174080" y="1795320"/>
                <a:ext cx="333000" cy="668520"/>
              </a:xfrm>
              <a:custGeom>
                <a:avLst/>
                <a:gdLst/>
                <a:ahLst/>
                <a:rect l="0" t="0" r="r" b="b"/>
                <a:pathLst>
                  <a:path fill="none" w="925" h="1857">
                    <a:moveTo>
                      <a:pt x="925" y="0"/>
                    </a:moveTo>
                    <a:lnTo>
                      <a:pt x="925" y="0"/>
                    </a:lnTo>
                    <a:cubicBezTo>
                      <a:pt x="763" y="0"/>
                      <a:pt x="603" y="86"/>
                      <a:pt x="462" y="249"/>
                    </a:cubicBezTo>
                    <a:cubicBezTo>
                      <a:pt x="322" y="412"/>
                      <a:pt x="205" y="646"/>
                      <a:pt x="124" y="929"/>
                    </a:cubicBezTo>
                    <a:cubicBezTo>
                      <a:pt x="43" y="1211"/>
                      <a:pt x="0" y="1531"/>
                      <a:pt x="0" y="1857"/>
                    </a:cubicBezTo>
                  </a:path>
                </a:pathLst>
              </a:custGeom>
              <a:ln w="25560">
                <a:solidFill>
                  <a:srgbClr val="ffff99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242120" y="1781280"/>
                <a:ext cx="282960" cy="683640"/>
              </a:xfrm>
              <a:custGeom>
                <a:avLst/>
                <a:gdLst/>
                <a:ahLst/>
                <a:rect l="0" t="0" r="r" b="b"/>
                <a:pathLst>
                  <a:path fill="none" w="786" h="1899">
                    <a:moveTo>
                      <a:pt x="786" y="0"/>
                    </a:moveTo>
                    <a:lnTo>
                      <a:pt x="786" y="0"/>
                    </a:lnTo>
                    <a:cubicBezTo>
                      <a:pt x="648" y="0"/>
                      <a:pt x="512" y="88"/>
                      <a:pt x="393" y="254"/>
                    </a:cubicBezTo>
                    <a:cubicBezTo>
                      <a:pt x="274" y="421"/>
                      <a:pt x="174" y="661"/>
                      <a:pt x="105" y="950"/>
                    </a:cubicBezTo>
                    <a:cubicBezTo>
                      <a:pt x="36" y="1238"/>
                      <a:pt x="0" y="1566"/>
                      <a:pt x="0" y="1899"/>
                    </a:cubicBezTo>
                  </a:path>
                </a:pathLst>
              </a:custGeom>
              <a:ln w="25560">
                <a:solidFill>
                  <a:srgbClr val="ffff99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4" name=""/>
            <p:cNvSpPr/>
            <p:nvPr/>
          </p:nvSpPr>
          <p:spPr>
            <a:xfrm>
              <a:off x="7264440" y="2725560"/>
              <a:ext cx="396720" cy="8539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15" name="" descr=""/>
            <p:cNvPicPr/>
            <p:nvPr/>
          </p:nvPicPr>
          <p:blipFill>
            <a:blip r:embed="rId6"/>
            <a:stretch/>
          </p:blipFill>
          <p:spPr>
            <a:xfrm>
              <a:off x="7605720" y="3070080"/>
              <a:ext cx="636480" cy="671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36440" y="244440"/>
            <a:ext cx="675180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ct Our Project Tea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3162240" y="2451240"/>
            <a:ext cx="2817720" cy="256536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2"/>
          <a:stretch/>
        </p:blipFill>
        <p:spPr>
          <a:xfrm>
            <a:off x="457200" y="1336680"/>
            <a:ext cx="1573200" cy="1482840"/>
          </a:xfrm>
          <a:prstGeom prst="rect">
            <a:avLst/>
          </a:prstGeom>
          <a:ln w="0">
            <a:noFill/>
          </a:ln>
        </p:spPr>
      </p:pic>
      <p:grpSp>
        <p:nvGrpSpPr>
          <p:cNvPr id="421" name=""/>
          <p:cNvGrpSpPr/>
          <p:nvPr/>
        </p:nvGrpSpPr>
        <p:grpSpPr>
          <a:xfrm>
            <a:off x="212760" y="2066760"/>
            <a:ext cx="2589480" cy="2092320"/>
            <a:chOff x="212760" y="2066760"/>
            <a:chExt cx="2589480" cy="2092320"/>
          </a:xfrm>
        </p:grpSpPr>
        <p:pic>
          <p:nvPicPr>
            <p:cNvPr id="422" name="" descr=""/>
            <p:cNvPicPr/>
            <p:nvPr/>
          </p:nvPicPr>
          <p:blipFill>
            <a:blip r:embed="rId3"/>
            <a:stretch/>
          </p:blipFill>
          <p:spPr>
            <a:xfrm>
              <a:off x="1133640" y="2066760"/>
              <a:ext cx="1668600" cy="13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 txBox="1"/>
            <p:nvPr/>
          </p:nvSpPr>
          <p:spPr>
            <a:xfrm>
              <a:off x="212760" y="3336840"/>
              <a:ext cx="194616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-mai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td@ndltd.org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527040" y="4724280"/>
            <a:ext cx="1673280" cy="1432080"/>
            <a:chOff x="527040" y="4724280"/>
            <a:chExt cx="1673280" cy="1432080"/>
          </a:xfrm>
        </p:grpSpPr>
        <p:pic>
          <p:nvPicPr>
            <p:cNvPr id="425" name="" descr=""/>
            <p:cNvPicPr/>
            <p:nvPr/>
          </p:nvPicPr>
          <p:blipFill>
            <a:blip r:embed="rId4"/>
            <a:stretch/>
          </p:blipFill>
          <p:spPr>
            <a:xfrm>
              <a:off x="527040" y="4724280"/>
              <a:ext cx="16588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 txBox="1"/>
            <p:nvPr/>
          </p:nvSpPr>
          <p:spPr>
            <a:xfrm>
              <a:off x="669960" y="5699160"/>
              <a:ext cx="15303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hone Cal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6477120" y="3733920"/>
            <a:ext cx="2134080" cy="2514960"/>
          </a:xfrm>
          <a:custGeom>
            <a:avLst/>
            <a:gdLst/>
            <a:ahLst/>
            <a:rect l="0" t="0" r="r" b="b"/>
            <a:pathLst>
              <a:path w="5928" h="6986">
                <a:moveTo>
                  <a:pt x="2964" y="0"/>
                </a:moveTo>
                <a:lnTo>
                  <a:pt x="3260" y="1997"/>
                </a:lnTo>
                <a:lnTo>
                  <a:pt x="4425" y="488"/>
                </a:lnTo>
                <a:lnTo>
                  <a:pt x="3888" y="2388"/>
                </a:lnTo>
                <a:lnTo>
                  <a:pt x="5543" y="1753"/>
                </a:lnTo>
                <a:lnTo>
                  <a:pt x="4259" y="3118"/>
                </a:lnTo>
                <a:lnTo>
                  <a:pt x="5928" y="3492"/>
                </a:lnTo>
                <a:lnTo>
                  <a:pt x="4259" y="3867"/>
                </a:lnTo>
                <a:lnTo>
                  <a:pt x="5543" y="5239"/>
                </a:lnTo>
                <a:lnTo>
                  <a:pt x="3887" y="4650"/>
                </a:lnTo>
                <a:lnTo>
                  <a:pt x="4425" y="6531"/>
                </a:lnTo>
                <a:lnTo>
                  <a:pt x="3308" y="5020"/>
                </a:lnTo>
                <a:lnTo>
                  <a:pt x="2934" y="6986"/>
                </a:lnTo>
                <a:lnTo>
                  <a:pt x="2608" y="5020"/>
                </a:lnTo>
                <a:lnTo>
                  <a:pt x="1489" y="6531"/>
                </a:lnTo>
                <a:lnTo>
                  <a:pt x="2026" y="4629"/>
                </a:lnTo>
                <a:lnTo>
                  <a:pt x="373" y="5264"/>
                </a:lnTo>
                <a:lnTo>
                  <a:pt x="1654" y="3898"/>
                </a:lnTo>
                <a:lnTo>
                  <a:pt x="0" y="3507"/>
                </a:lnTo>
                <a:lnTo>
                  <a:pt x="1654" y="3118"/>
                </a:lnTo>
                <a:lnTo>
                  <a:pt x="373" y="1753"/>
                </a:lnTo>
                <a:lnTo>
                  <a:pt x="2026" y="2387"/>
                </a:lnTo>
                <a:lnTo>
                  <a:pt x="1489" y="481"/>
                </a:lnTo>
                <a:lnTo>
                  <a:pt x="2605" y="1997"/>
                </a:lnTo>
                <a:lnTo>
                  <a:pt x="2964" y="0"/>
                </a:lnTo>
                <a:close/>
              </a:path>
            </a:pathLst>
          </a:custGeom>
          <a:solidFill>
            <a:srgbClr val="9999ff"/>
          </a:solidFill>
          <a:ln w="12600">
            <a:solidFill>
              <a:srgbClr val="9999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6004080" y="4027320"/>
            <a:ext cx="2225520" cy="1979640"/>
            <a:chOff x="6004080" y="4027320"/>
            <a:chExt cx="2225520" cy="1979640"/>
          </a:xfrm>
        </p:grpSpPr>
        <p:pic>
          <p:nvPicPr>
            <p:cNvPr id="429" name="" descr=""/>
            <p:cNvPicPr/>
            <p:nvPr/>
          </p:nvPicPr>
          <p:blipFill>
            <a:blip r:embed="rId5"/>
            <a:stretch/>
          </p:blipFill>
          <p:spPr>
            <a:xfrm>
              <a:off x="7115040" y="4027320"/>
              <a:ext cx="1114560" cy="19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 txBox="1"/>
            <p:nvPr/>
          </p:nvSpPr>
          <p:spPr>
            <a:xfrm>
              <a:off x="6004080" y="5470560"/>
              <a:ext cx="7761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Visi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6550200" y="1755720"/>
            <a:ext cx="1523880" cy="838440"/>
            <a:chOff x="6550200" y="1755720"/>
            <a:chExt cx="1523880" cy="838440"/>
          </a:xfrm>
        </p:grpSpPr>
        <p:sp>
          <p:nvSpPr>
            <p:cNvPr id="432" name=""/>
            <p:cNvSpPr/>
            <p:nvPr/>
          </p:nvSpPr>
          <p:spPr>
            <a:xfrm>
              <a:off x="6550200" y="1755720"/>
              <a:ext cx="1523880" cy="8380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854760" y="2060640"/>
              <a:ext cx="228600" cy="228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540560" y="2060640"/>
              <a:ext cx="228600" cy="228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550200" y="2517840"/>
              <a:ext cx="1523880" cy="763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"/>
          <p:cNvSpPr txBox="1"/>
          <p:nvPr/>
        </p:nvSpPr>
        <p:spPr>
          <a:xfrm>
            <a:off x="6537240" y="2666880"/>
            <a:ext cx="1614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 Ta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230040" y="243000"/>
            <a:ext cx="792180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vene Local Planning Group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2230560" y="2079720"/>
            <a:ext cx="4683240" cy="3452760"/>
            <a:chOff x="2230560" y="2079720"/>
            <a:chExt cx="4683240" cy="3452760"/>
          </a:xfrm>
        </p:grpSpPr>
        <p:pic>
          <p:nvPicPr>
            <p:cNvPr id="441" name="" descr=""/>
            <p:cNvPicPr/>
            <p:nvPr/>
          </p:nvPicPr>
          <p:blipFill>
            <a:blip r:embed="rId1"/>
            <a:stretch/>
          </p:blipFill>
          <p:spPr>
            <a:xfrm>
              <a:off x="2230560" y="2090880"/>
              <a:ext cx="4683240" cy="344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"/>
            <p:cNvSpPr txBox="1"/>
            <p:nvPr/>
          </p:nvSpPr>
          <p:spPr>
            <a:xfrm>
              <a:off x="3740040" y="2079720"/>
              <a:ext cx="87480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ffff99"/>
                  </a:solidFill>
                  <a:latin typeface="Times New Roman"/>
                  <a:ea typeface="Times New Roman"/>
                </a:rPr>
                <a:t>ET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228600" y="1752480"/>
            <a:ext cx="8381880" cy="4876920"/>
          </a:xfrm>
          <a:prstGeom prst="line">
            <a:avLst/>
          </a:prstGeom>
          <a:ln w="38160">
            <a:solidFill>
              <a:srgbClr val="00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441360" y="168120"/>
            <a:ext cx="763416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in NDLTD: Get a 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610160" y="3379680"/>
            <a:ext cx="1676880" cy="914760"/>
          </a:xfrm>
          <a:custGeom>
            <a:avLst/>
            <a:gdLst/>
            <a:ahLst/>
            <a:rect l="0" t="0" r="r" b="b"/>
            <a:pathLst>
              <a:path w="4658" h="2541">
                <a:moveTo>
                  <a:pt x="0" y="845"/>
                </a:moveTo>
                <a:lnTo>
                  <a:pt x="0" y="1692"/>
                </a:lnTo>
                <a:lnTo>
                  <a:pt x="3260" y="1692"/>
                </a:lnTo>
                <a:lnTo>
                  <a:pt x="3260" y="2541"/>
                </a:lnTo>
                <a:lnTo>
                  <a:pt x="4658" y="1271"/>
                </a:lnTo>
                <a:lnTo>
                  <a:pt x="3260" y="0"/>
                </a:lnTo>
                <a:lnTo>
                  <a:pt x="3260" y="845"/>
                </a:lnTo>
                <a:lnTo>
                  <a:pt x="0" y="845"/>
                </a:lnTo>
                <a:close/>
              </a:path>
            </a:pathLst>
          </a:custGeom>
          <a:solidFill>
            <a:srgbClr val="66ccff"/>
          </a:solidFill>
          <a:ln w="152280">
            <a:solidFill>
              <a:srgbClr val="000000"/>
            </a:solidFill>
            <a:round/>
          </a:ln>
        </p:spPr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2039760" y="1523880"/>
            <a:ext cx="1600200" cy="1905120"/>
            <a:chOff x="2039760" y="1523880"/>
            <a:chExt cx="1600200" cy="1905120"/>
          </a:xfrm>
        </p:grpSpPr>
        <p:sp>
          <p:nvSpPr>
            <p:cNvPr id="449" name=""/>
            <p:cNvSpPr/>
            <p:nvPr/>
          </p:nvSpPr>
          <p:spPr>
            <a:xfrm>
              <a:off x="2039760" y="1523880"/>
              <a:ext cx="1600200" cy="1905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 txBox="1"/>
            <p:nvPr/>
          </p:nvSpPr>
          <p:spPr>
            <a:xfrm>
              <a:off x="2179800" y="1862280"/>
              <a:ext cx="1297080" cy="415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E JO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457200" y="2806560"/>
            <a:ext cx="1523880" cy="124308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577800" y="4397400"/>
            <a:ext cx="1835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ned Let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6705720" y="4267080"/>
            <a:ext cx="2090880" cy="2038320"/>
            <a:chOff x="6705720" y="4267080"/>
            <a:chExt cx="2090880" cy="2038320"/>
          </a:xfrm>
        </p:grpSpPr>
        <p:sp>
          <p:nvSpPr>
            <p:cNvPr id="454" name=""/>
            <p:cNvSpPr/>
            <p:nvPr/>
          </p:nvSpPr>
          <p:spPr>
            <a:xfrm>
              <a:off x="6705720" y="4267080"/>
              <a:ext cx="2090880" cy="2038320"/>
            </a:xfrm>
            <a:prstGeom prst="ellipse">
              <a:avLst/>
            </a:prstGeom>
            <a:gradFill rotWithShape="0">
              <a:gsLst>
                <a:gs pos="0">
                  <a:srgbClr val="47b26b"/>
                </a:gs>
                <a:gs pos="100000">
                  <a:srgbClr val="66ff99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402680" y="4924440"/>
              <a:ext cx="784080" cy="763560"/>
            </a:xfrm>
            <a:prstGeom prst="ellipse">
              <a:avLst/>
            </a:prstGeom>
            <a:solidFill>
              <a:srgbClr val="66cc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513560" y="5030640"/>
              <a:ext cx="522360" cy="50976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7" name=""/>
          <p:cNvSpPr txBox="1"/>
          <p:nvPr/>
        </p:nvSpPr>
        <p:spPr>
          <a:xfrm>
            <a:off x="4944960" y="5873760"/>
            <a:ext cx="2071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TD CD-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60440" y="195120"/>
            <a:ext cx="2030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12840" y="216000"/>
            <a:ext cx="53830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d Your ETD Sit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1660680" y="4575240"/>
            <a:ext cx="1144440" cy="69048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781200" y="3540240"/>
            <a:ext cx="1284120" cy="120960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 txBox="1"/>
          <p:nvPr/>
        </p:nvSpPr>
        <p:spPr>
          <a:xfrm>
            <a:off x="789120" y="5321160"/>
            <a:ext cx="2021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gital Libr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6343560" y="1136520"/>
            <a:ext cx="1504800" cy="2075040"/>
            <a:chOff x="6343560" y="1136520"/>
            <a:chExt cx="1504800" cy="2075040"/>
          </a:xfrm>
        </p:grpSpPr>
        <p:pic>
          <p:nvPicPr>
            <p:cNvPr id="466" name="" descr=""/>
            <p:cNvPicPr/>
            <p:nvPr/>
          </p:nvPicPr>
          <p:blipFill>
            <a:blip r:embed="rId3"/>
            <a:stretch/>
          </p:blipFill>
          <p:spPr>
            <a:xfrm>
              <a:off x="6343560" y="1136520"/>
              <a:ext cx="1504800" cy="15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"/>
            <p:cNvSpPr txBox="1"/>
            <p:nvPr/>
          </p:nvSpPr>
          <p:spPr>
            <a:xfrm>
              <a:off x="6523200" y="2754360"/>
              <a:ext cx="1149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olici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5202360" y="3755880"/>
            <a:ext cx="2689200" cy="1863720"/>
            <a:chOff x="5202360" y="3755880"/>
            <a:chExt cx="2689200" cy="1863720"/>
          </a:xfrm>
        </p:grpSpPr>
        <p:sp>
          <p:nvSpPr>
            <p:cNvPr id="469" name=""/>
            <p:cNvSpPr txBox="1"/>
            <p:nvPr/>
          </p:nvSpPr>
          <p:spPr>
            <a:xfrm>
              <a:off x="5202360" y="5162400"/>
              <a:ext cx="26892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spection/Approva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70" name="" descr=""/>
            <p:cNvPicPr/>
            <p:nvPr/>
          </p:nvPicPr>
          <p:blipFill>
            <a:blip r:embed="rId4"/>
            <a:stretch/>
          </p:blipFill>
          <p:spPr>
            <a:xfrm>
              <a:off x="5843520" y="3755880"/>
              <a:ext cx="957240" cy="1319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1" name=""/>
          <p:cNvGrpSpPr/>
          <p:nvPr/>
        </p:nvGrpSpPr>
        <p:grpSpPr>
          <a:xfrm>
            <a:off x="568440" y="1079640"/>
            <a:ext cx="2587680" cy="2044440"/>
            <a:chOff x="568440" y="1079640"/>
            <a:chExt cx="2587680" cy="2044440"/>
          </a:xfrm>
        </p:grpSpPr>
        <p:grpSp>
          <p:nvGrpSpPr>
            <p:cNvPr id="472" name=""/>
            <p:cNvGrpSpPr/>
            <p:nvPr/>
          </p:nvGrpSpPr>
          <p:grpSpPr>
            <a:xfrm>
              <a:off x="568440" y="1079640"/>
              <a:ext cx="2587680" cy="2044440"/>
              <a:chOff x="568440" y="1079640"/>
              <a:chExt cx="2587680" cy="2044440"/>
            </a:xfrm>
          </p:grpSpPr>
          <p:pic>
            <p:nvPicPr>
              <p:cNvPr id="47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30160" y="1079640"/>
                <a:ext cx="1790640" cy="156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4" name=""/>
              <p:cNvSpPr txBox="1"/>
              <p:nvPr/>
            </p:nvSpPr>
            <p:spPr>
              <a:xfrm>
                <a:off x="568440" y="2666880"/>
                <a:ext cx="258768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Workshop/Training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5" name=""/>
            <p:cNvSpPr txBox="1"/>
            <p:nvPr/>
          </p:nvSpPr>
          <p:spPr>
            <a:xfrm>
              <a:off x="1719360" y="115416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99"/>
                  </a:solidFill>
                  <a:latin typeface="Times New Roman"/>
                  <a:ea typeface="Times New Roman"/>
                </a:rPr>
                <a:t>ET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681360" y="1865160"/>
            <a:ext cx="1979640" cy="2835360"/>
            <a:chOff x="3681360" y="1865160"/>
            <a:chExt cx="1979640" cy="2835360"/>
          </a:xfrm>
        </p:grpSpPr>
        <p:grpSp>
          <p:nvGrpSpPr>
            <p:cNvPr id="477" name=""/>
            <p:cNvGrpSpPr/>
            <p:nvPr/>
          </p:nvGrpSpPr>
          <p:grpSpPr>
            <a:xfrm>
              <a:off x="3681360" y="1865160"/>
              <a:ext cx="1979640" cy="2835360"/>
              <a:chOff x="3681360" y="1865160"/>
              <a:chExt cx="1979640" cy="2835360"/>
            </a:xfrm>
          </p:grpSpPr>
          <p:pic>
            <p:nvPicPr>
              <p:cNvPr id="47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681360" y="1865160"/>
                <a:ext cx="1979640" cy="283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9" name=""/>
              <p:cNvSpPr/>
              <p:nvPr/>
            </p:nvSpPr>
            <p:spPr>
              <a:xfrm>
                <a:off x="4737240" y="2112840"/>
                <a:ext cx="515880" cy="65880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0" name=""/>
            <p:cNvSpPr txBox="1"/>
            <p:nvPr/>
          </p:nvSpPr>
          <p:spPr>
            <a:xfrm>
              <a:off x="4726080" y="207504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T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762120" y="19044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Arial"/>
              </a:rPr>
              <a:t>Level 0 Involv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83808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WW site, local public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istance provided as requested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ail, phone, listserv(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obe Acrobat in booksto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mission allow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chive/access through Virginia  Tech, OCLC, and/or UM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457200" y="114480"/>
            <a:ext cx="83059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Arial"/>
              </a:rPr>
              <a:t>Level 1 Involvement = Level 0 +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304920" y="16002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 our software, change practices in graduate school and libr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in stud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d grass roots supp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00cccc"/>
                </a:solidFill>
                <a:latin typeface="Times New Roman"/>
                <a:ea typeface="Times New Roman"/>
              </a:rPr>
              <a:t>Advisory committee: representative? exper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00cccc"/>
                </a:solidFill>
                <a:latin typeface="Times New Roman"/>
                <a:ea typeface="Times New Roman"/>
              </a:rPr>
              <a:t>Champions to spread by word of mou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00cccc"/>
                </a:solidFill>
                <a:latin typeface="Times New Roman"/>
                <a:ea typeface="Times New Roman"/>
              </a:rPr>
              <a:t>Approval: Senates, Commissions, Deans, Stu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00cccc"/>
                </a:solidFill>
                <a:latin typeface="Times New Roman"/>
                <a:ea typeface="Times New Roman"/>
              </a:rPr>
              <a:t>Publicity to reach commun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914400" y="381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Arial"/>
              </a:rPr>
              <a:t>What led to today’s meeting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523880"/>
            <a:ext cx="84582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87 mtg in Ann Arbor: UMI, VT,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2 mtg in Washington: CNI, CGS, UMI, VT and 10 universities with 3 reps e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3 mtg in Atlanta to start Monticello Electronic Library (MEL): SURA, SOLI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4 mtg in Blacksburg re ETD pro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6 funding by SURA and US Dept. of Education (FIPSE) for regional, national projects (NDLT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57200" y="114480"/>
            <a:ext cx="83059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Arial"/>
              </a:rPr>
              <a:t>Level 2 Involvement = Level 1 +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04920" y="1600200"/>
            <a:ext cx="8686800" cy="42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 electronic submis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ck laborator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unch evaluation pro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 servers: search, UR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ve firm arrangement with UMI and/or OCLC regarding archival servi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ARC records, with URNs pointing to archive co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1060560" y="20304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Arial"/>
              </a:rPr>
              <a:t>Available to Help Oth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1143000" y="1523880"/>
            <a:ext cx="789300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WW site with all you might ne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submission system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dent guidelines, style sheets, training materials, FAQs, press inf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GML DTD for ETD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GML to HTML (web generator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TeX, Word templates, convert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media educ. materials, Videotap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457200" y="1144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Arial"/>
              </a:rPr>
              <a:t>VT  Support  Off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7200" y="1676520"/>
            <a:ext cx="84582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, documentation, tech supp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ail, listservs (etd-l@listserv.vt.edu,       -eval, -grad, -library, -technical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ations: Adobe, Microsof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aluation: instruments, analy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ossible temporary storage / archiving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Aid -  in setting up a national          service and archiv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Relationship with publish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ern of faculty and students that still wish to publish books or journal arti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lution: give students, faculty choices on access and when to change access cond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lution: by case, work with publishers and publisher associ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A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ome statements from publish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sevier: the two genre do not confli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AAS: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cien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ants first pub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book publishers: different market, manuscript significantly rework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cenario 1: Patent/Propriet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dent work cannot be released since plans to file a pat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ity holds till can be filed - work is “locked up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cenario 2: Unrelat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dent has no history of, or plans for, publishing related to ET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cenario 3: Hold par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parts (chapters, figures) relate to published works or works to be submit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ose are secured for campus-only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685800" y="28584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cenario 4: Delay till after pub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work relates to a publication, so the ETD is made accessible on campus on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the relationship is not strong, then the ETD is released only after the journal publication has appeared, plus say 3 mont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685800" y="28584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cenario 5: Point to electronic journal artic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685800" y="1657440"/>
            <a:ext cx="7772400" cy="418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art of an ETD relates closely to a published wor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“normal” version of the ETD is released on campus, with credit to the copyright owner on the first page of each part that rela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“public” version of the ETD has each part, that relates to a published or to-be published work, replaced by a ptr/link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703520"/>
            <a:ext cx="8458200" cy="410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ding universities to revitalize grad educ., publishing and IPR efforts: to help improve the availability and content of theses and dissert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ucating ALL future scholars so they can publish electronically and effectively use digital libraries (i.e., are Information Literate and can be more expressiv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914400" y="34308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Arial"/>
              </a:rPr>
              <a:t>What are we doing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Future 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685800" y="1657440"/>
            <a:ext cx="7772400" cy="424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ing with publishers to increase level of access as much as 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operability tests among univers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dy with collection that emerges, to improve information retrieval, browsing, interface, and other types of user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aluation, improving learning experience, spread to worldwide initiative, sustainable support and coord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914400" y="147600"/>
            <a:ext cx="798336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Arial"/>
              </a:rPr>
              <a:t>What are the benefit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209600" y="868320"/>
            <a:ext cx="7461360" cy="497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ve students mone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ve handling, shelf space in librari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d the National Digital Library of Theses and Dissertations: with faster, broader, and less expensive acc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M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CL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brary catalog, local server, and: university consortia, WWW eng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914400" y="147600"/>
            <a:ext cx="798336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Arial"/>
              </a:rPr>
              <a:t>What are the long term goal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838080" y="868320"/>
            <a:ext cx="7832880" cy="479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K US students / year getting grad degrees are exposed / involv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K/yr rich hypermedia ETDs that may turn into electronic portfoli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matic increase in knowledge sharing: lit. reviews, bibliographies, 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felong access for students: browse, search, prior searches, citation link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066680" y="16344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  <a:ea typeface="Arial"/>
              </a:rPr>
              <a:t>How are ETDs being done at Virginia Tec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096920" y="1125360"/>
            <a:ext cx="7772400" cy="41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ed using standard word processing packages as PDF fi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00cccc"/>
                </a:solidFill>
                <a:latin typeface="Times New Roman"/>
                <a:ea typeface="Times New Roman"/>
              </a:rPr>
              <a:t>LaTeX class, outline fo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00cccc"/>
                </a:solidFill>
                <a:latin typeface="Times New Roman"/>
                <a:ea typeface="Times New Roman"/>
              </a:rPr>
              <a:t>Word template, PDFwri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iewed by the Graduate Schoo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taloged and  archived by the libr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wnloaded by UMI from serv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689200" y="1339920"/>
            <a:ext cx="2833560" cy="38973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1168560" y="4006800"/>
            <a:ext cx="1073160" cy="15112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743040" y="1568520"/>
            <a:ext cx="1808280" cy="109224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5943600" y="3429000"/>
            <a:ext cx="2209680" cy="1066680"/>
          </a:xfrm>
          <a:prstGeom prst="rect">
            <a:avLst/>
          </a:prstGeom>
          <a:solidFill>
            <a:srgbClr val="9999ff"/>
          </a:solidFill>
          <a:ln w="12600">
            <a:solidFill>
              <a:srgbClr val="9999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6138720" y="2635200"/>
            <a:ext cx="1897200" cy="1787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7186680" y="2379600"/>
            <a:ext cx="1092240" cy="4158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DLT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356080" y="4630680"/>
            <a:ext cx="3157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uter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974880" y="5958000"/>
            <a:ext cx="14875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30360" y="2755800"/>
            <a:ext cx="15858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ter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73040" y="334800"/>
            <a:ext cx="81979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dent Prepares Thesis or Dissert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98440" y="334800"/>
            <a:ext cx="74912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dent Defends and Finalizes ET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527040" y="1828800"/>
            <a:ext cx="2597040" cy="2425680"/>
            <a:chOff x="527040" y="1828800"/>
            <a:chExt cx="2597040" cy="24256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527040" y="1828800"/>
              <a:ext cx="2597040" cy="24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 txBox="1"/>
            <p:nvPr/>
          </p:nvSpPr>
          <p:spPr>
            <a:xfrm>
              <a:off x="1539720" y="1947960"/>
              <a:ext cx="15303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My Thesi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5334120" y="4572000"/>
            <a:ext cx="3048120" cy="1143000"/>
          </a:xfrm>
          <a:prstGeom prst="rect">
            <a:avLst/>
          </a:prstGeom>
          <a:solidFill>
            <a:srgbClr val="9999ff"/>
          </a:solidFill>
          <a:ln w="12600">
            <a:solidFill>
              <a:srgbClr val="9999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685800" y="1905120"/>
            <a:ext cx="7391520" cy="4495680"/>
          </a:xfrm>
          <a:prstGeom prst="line">
            <a:avLst/>
          </a:prstGeom>
          <a:ln w="38160">
            <a:solidFill>
              <a:srgbClr val="00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5343480" y="3657600"/>
            <a:ext cx="2960640" cy="2616120"/>
            <a:chOff x="5343480" y="3657600"/>
            <a:chExt cx="2960640" cy="2616120"/>
          </a:xfrm>
        </p:grpSpPr>
        <p:pic>
          <p:nvPicPr>
            <p:cNvPr id="244" name="" descr=""/>
            <p:cNvPicPr/>
            <p:nvPr/>
          </p:nvPicPr>
          <p:blipFill>
            <a:blip r:embed="rId2"/>
            <a:stretch/>
          </p:blipFill>
          <p:spPr>
            <a:xfrm>
              <a:off x="6624720" y="5487840"/>
              <a:ext cx="130032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5343480" y="3657600"/>
              <a:ext cx="2139840" cy="20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" descr=""/>
            <p:cNvPicPr/>
            <p:nvPr/>
          </p:nvPicPr>
          <p:blipFill>
            <a:blip r:embed="rId4"/>
            <a:stretch/>
          </p:blipFill>
          <p:spPr>
            <a:xfrm>
              <a:off x="7608960" y="4343400"/>
              <a:ext cx="6951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 txBox="1"/>
            <p:nvPr/>
          </p:nvSpPr>
          <p:spPr>
            <a:xfrm>
              <a:off x="6537240" y="4221000"/>
              <a:ext cx="70632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ET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ULTIMEDIA LAB</dc:creator>
  <dc:description/>
  <dc:language>en-US</dc:language>
  <cp:lastModifiedBy>MULTIMEDIA LAB</cp:lastModifiedBy>
  <cp:revision>0</cp:revision>
  <dc:subject/>
  <dc:title>National Digital Library of Theses and Dissertations</dc:title>
</cp:coreProperties>
</file>