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7"/>
                  </a:lnTo>
                  <a:lnTo>
                    <a:pt x="0" y="657"/>
                  </a:lnTo>
                  <a:lnTo>
                    <a:pt x="0" y="1309"/>
                  </a:lnTo>
                  <a:lnTo>
                    <a:pt x="2171" y="1309"/>
                  </a:lnTo>
                  <a:lnTo>
                    <a:pt x="2171" y="1966"/>
                  </a:lnTo>
                  <a:lnTo>
                    <a:pt x="0" y="1966"/>
                  </a:lnTo>
                  <a:lnTo>
                    <a:pt x="0" y="2623"/>
                  </a:lnTo>
                  <a:lnTo>
                    <a:pt x="2171" y="2623"/>
                  </a:lnTo>
                  <a:lnTo>
                    <a:pt x="2171" y="3276"/>
                  </a:lnTo>
                  <a:lnTo>
                    <a:pt x="0" y="3276"/>
                  </a:lnTo>
                  <a:lnTo>
                    <a:pt x="0" y="3933"/>
                  </a:lnTo>
                  <a:lnTo>
                    <a:pt x="2171" y="3933"/>
                  </a:lnTo>
                  <a:lnTo>
                    <a:pt x="2171" y="4590"/>
                  </a:lnTo>
                  <a:lnTo>
                    <a:pt x="0" y="4590"/>
                  </a:lnTo>
                  <a:lnTo>
                    <a:pt x="0" y="5248"/>
                  </a:lnTo>
                  <a:lnTo>
                    <a:pt x="2171" y="5248"/>
                  </a:lnTo>
                  <a:lnTo>
                    <a:pt x="2171" y="5901"/>
                  </a:lnTo>
                  <a:lnTo>
                    <a:pt x="0" y="5901"/>
                  </a:lnTo>
                  <a:lnTo>
                    <a:pt x="0" y="6558"/>
                  </a:lnTo>
                  <a:lnTo>
                    <a:pt x="2171" y="6558"/>
                  </a:lnTo>
                  <a:lnTo>
                    <a:pt x="2171" y="7215"/>
                  </a:lnTo>
                  <a:lnTo>
                    <a:pt x="0" y="7215"/>
                  </a:lnTo>
                  <a:lnTo>
                    <a:pt x="0" y="7867"/>
                  </a:lnTo>
                  <a:lnTo>
                    <a:pt x="2171" y="7867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2"/>
                  </a:lnTo>
                  <a:lnTo>
                    <a:pt x="2171" y="9182"/>
                  </a:lnTo>
                  <a:lnTo>
                    <a:pt x="2171" y="9834"/>
                  </a:lnTo>
                  <a:lnTo>
                    <a:pt x="0" y="9834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8"/>
                  </a:lnTo>
                  <a:lnTo>
                    <a:pt x="0" y="11148"/>
                  </a:lnTo>
                  <a:lnTo>
                    <a:pt x="0" y="11801"/>
                  </a:lnTo>
                  <a:lnTo>
                    <a:pt x="2171" y="11801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5"/>
                  </a:lnTo>
                  <a:lnTo>
                    <a:pt x="2171" y="13115"/>
                  </a:lnTo>
                  <a:lnTo>
                    <a:pt x="2171" y="13768"/>
                  </a:lnTo>
                  <a:lnTo>
                    <a:pt x="0" y="13768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3"/>
                  </a:lnTo>
                  <a:lnTo>
                    <a:pt x="0" y="15083"/>
                  </a:lnTo>
                  <a:lnTo>
                    <a:pt x="0" y="15740"/>
                  </a:lnTo>
                  <a:lnTo>
                    <a:pt x="2171" y="15740"/>
                  </a:lnTo>
                  <a:lnTo>
                    <a:pt x="2171" y="16392"/>
                  </a:lnTo>
                  <a:lnTo>
                    <a:pt x="0" y="16392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7"/>
                  </a:lnTo>
                  <a:lnTo>
                    <a:pt x="0" y="17707"/>
                  </a:lnTo>
                  <a:lnTo>
                    <a:pt x="0" y="18359"/>
                  </a:lnTo>
                  <a:lnTo>
                    <a:pt x="2171" y="18359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2286000"/>
            <a:ext cx="7772400" cy="36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URA Board meeting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ctober 9, 1996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1440" y="5165640"/>
            <a:ext cx="20066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39760" y="3222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is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2600" y="1413000"/>
            <a:ext cx="7666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 is implementing a start-up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RA/SOLINET Monticello Electronic Library will include theses and disser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concept will be extended to the National Digital Library of Theses and Disser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44600" y="202572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improve graduat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save money for students and for the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assist extending SURA’s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23920" y="378000"/>
            <a:ext cx="77724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TD Contributors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d Fox - Computer Scien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John Eaton - Graduate School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Gail McMillan - Library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eill Kipp - Computer Scien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85920" y="23893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ing computer-based technology to improve the content and availabilit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39760" y="1792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 more creative in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the knowledge contained in TDs is widely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learn to use digital libraries and publish electron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96920" y="13539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TD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duced using standard word processing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ivered as portable document format (PDF)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ed by the Gradu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aloged and  archived by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ed by UMI from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85920" y="1249200"/>
            <a:ext cx="7461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imination of the hard copy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ve shelf space in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t into the electronic library of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70000" y="17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20880" y="988920"/>
            <a:ext cx="8031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theses submitted 1990 to 94, the combined avg circulation per copy is 2.24/y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dissertations submitted 90 to 94 the  combined avg circulation per copy is 3.2/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July and August 1996, there were 1190 inquiries to the 50 ETD abstracts and 324 inquiries to the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iversities Participating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58920" y="1557360"/>
            <a:ext cx="65152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bu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mso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ssissippi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North Carolina at Charl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nderbilt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12840" y="2793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tatus of the 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11320" y="739800"/>
            <a:ext cx="7772400" cy="48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roved by university governance for implementation in Spring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bmission software is now in place at 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bmission workshops for students and faculty are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50 ETDs have been submitted b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project is being expanded to other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11360" y="1965240"/>
            <a:ext cx="5154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rginia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SGS/C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d F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versity Micro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b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rgs</cp:lastModifiedBy>
  <cp:revision>0</cp:revision>
  <dc:subject/>
  <dc:title>ELECTRONIC THESES AND DISSERTATIONS (ETDS)</dc:title>
</cp:coreProperties>
</file>