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781560" cy="6845760"/>
            <a:chOff x="0" y="0"/>
            <a:chExt cx="781560" cy="68457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8120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781560" cy="6845760"/>
            </a:xfrm>
            <a:custGeom>
              <a:avLst/>
              <a:gdLst/>
              <a:ahLst/>
              <a:rect l="0" t="0" r="r" b="b"/>
              <a:pathLst>
                <a:path fill="none" w="2171" h="19016">
                  <a:moveTo>
                    <a:pt x="0" y="0"/>
                  </a:moveTo>
                  <a:lnTo>
                    <a:pt x="0" y="19016"/>
                  </a:lnTo>
                  <a:lnTo>
                    <a:pt x="724" y="19016"/>
                  </a:lnTo>
                  <a:lnTo>
                    <a:pt x="724" y="0"/>
                  </a:lnTo>
                  <a:lnTo>
                    <a:pt x="1447" y="0"/>
                  </a:lnTo>
                  <a:lnTo>
                    <a:pt x="1447" y="19016"/>
                  </a:lnTo>
                  <a:lnTo>
                    <a:pt x="2171" y="19016"/>
                  </a:lnTo>
                  <a:lnTo>
                    <a:pt x="2171" y="0"/>
                  </a:lnTo>
                  <a:lnTo>
                    <a:pt x="2171" y="657"/>
                  </a:lnTo>
                  <a:lnTo>
                    <a:pt x="0" y="657"/>
                  </a:lnTo>
                  <a:lnTo>
                    <a:pt x="0" y="1309"/>
                  </a:lnTo>
                  <a:lnTo>
                    <a:pt x="2171" y="1309"/>
                  </a:lnTo>
                  <a:lnTo>
                    <a:pt x="2171" y="1966"/>
                  </a:lnTo>
                  <a:lnTo>
                    <a:pt x="0" y="1966"/>
                  </a:lnTo>
                  <a:lnTo>
                    <a:pt x="0" y="2623"/>
                  </a:lnTo>
                  <a:lnTo>
                    <a:pt x="2171" y="2623"/>
                  </a:lnTo>
                  <a:lnTo>
                    <a:pt x="2171" y="3276"/>
                  </a:lnTo>
                  <a:lnTo>
                    <a:pt x="0" y="3276"/>
                  </a:lnTo>
                  <a:lnTo>
                    <a:pt x="0" y="3933"/>
                  </a:lnTo>
                  <a:lnTo>
                    <a:pt x="2171" y="3933"/>
                  </a:lnTo>
                  <a:lnTo>
                    <a:pt x="2171" y="4590"/>
                  </a:lnTo>
                  <a:lnTo>
                    <a:pt x="0" y="4590"/>
                  </a:lnTo>
                  <a:lnTo>
                    <a:pt x="0" y="5248"/>
                  </a:lnTo>
                  <a:lnTo>
                    <a:pt x="2171" y="5248"/>
                  </a:lnTo>
                  <a:lnTo>
                    <a:pt x="2171" y="5901"/>
                  </a:lnTo>
                  <a:lnTo>
                    <a:pt x="0" y="5901"/>
                  </a:lnTo>
                  <a:lnTo>
                    <a:pt x="0" y="6558"/>
                  </a:lnTo>
                  <a:lnTo>
                    <a:pt x="2171" y="6558"/>
                  </a:lnTo>
                  <a:lnTo>
                    <a:pt x="2171" y="7215"/>
                  </a:lnTo>
                  <a:lnTo>
                    <a:pt x="0" y="7215"/>
                  </a:lnTo>
                  <a:lnTo>
                    <a:pt x="0" y="7867"/>
                  </a:lnTo>
                  <a:lnTo>
                    <a:pt x="2171" y="7867"/>
                  </a:lnTo>
                  <a:lnTo>
                    <a:pt x="2171" y="8524"/>
                  </a:lnTo>
                  <a:lnTo>
                    <a:pt x="0" y="8524"/>
                  </a:lnTo>
                  <a:lnTo>
                    <a:pt x="0" y="9182"/>
                  </a:lnTo>
                  <a:lnTo>
                    <a:pt x="2171" y="9182"/>
                  </a:lnTo>
                  <a:lnTo>
                    <a:pt x="2171" y="9834"/>
                  </a:lnTo>
                  <a:lnTo>
                    <a:pt x="0" y="9834"/>
                  </a:lnTo>
                  <a:lnTo>
                    <a:pt x="0" y="10491"/>
                  </a:lnTo>
                  <a:lnTo>
                    <a:pt x="2171" y="10491"/>
                  </a:lnTo>
                  <a:lnTo>
                    <a:pt x="2171" y="11148"/>
                  </a:lnTo>
                  <a:lnTo>
                    <a:pt x="0" y="11148"/>
                  </a:lnTo>
                  <a:lnTo>
                    <a:pt x="0" y="11801"/>
                  </a:lnTo>
                  <a:lnTo>
                    <a:pt x="2171" y="11801"/>
                  </a:lnTo>
                  <a:lnTo>
                    <a:pt x="2171" y="12458"/>
                  </a:lnTo>
                  <a:lnTo>
                    <a:pt x="0" y="12458"/>
                  </a:lnTo>
                  <a:lnTo>
                    <a:pt x="0" y="13115"/>
                  </a:lnTo>
                  <a:lnTo>
                    <a:pt x="2171" y="13115"/>
                  </a:lnTo>
                  <a:lnTo>
                    <a:pt x="2171" y="13768"/>
                  </a:lnTo>
                  <a:lnTo>
                    <a:pt x="0" y="13768"/>
                  </a:lnTo>
                  <a:lnTo>
                    <a:pt x="0" y="14426"/>
                  </a:lnTo>
                  <a:lnTo>
                    <a:pt x="2171" y="14426"/>
                  </a:lnTo>
                  <a:lnTo>
                    <a:pt x="2171" y="15083"/>
                  </a:lnTo>
                  <a:lnTo>
                    <a:pt x="0" y="15083"/>
                  </a:lnTo>
                  <a:lnTo>
                    <a:pt x="0" y="15740"/>
                  </a:lnTo>
                  <a:lnTo>
                    <a:pt x="2171" y="15740"/>
                  </a:lnTo>
                  <a:lnTo>
                    <a:pt x="2171" y="16392"/>
                  </a:lnTo>
                  <a:lnTo>
                    <a:pt x="0" y="16392"/>
                  </a:lnTo>
                  <a:lnTo>
                    <a:pt x="0" y="17049"/>
                  </a:lnTo>
                  <a:lnTo>
                    <a:pt x="2171" y="17049"/>
                  </a:lnTo>
                  <a:lnTo>
                    <a:pt x="2171" y="17707"/>
                  </a:lnTo>
                  <a:lnTo>
                    <a:pt x="0" y="17707"/>
                  </a:lnTo>
                  <a:lnTo>
                    <a:pt x="0" y="18359"/>
                  </a:lnTo>
                  <a:lnTo>
                    <a:pt x="2171" y="18359"/>
                  </a:lnTo>
                  <a:lnTo>
                    <a:pt x="2171" y="19016"/>
                  </a:lnTo>
                  <a:lnTo>
                    <a:pt x="0" y="19016"/>
                  </a:lnTo>
                  <a:lnTo>
                    <a:pt x="0" y="19016"/>
                  </a:lnTo>
                  <a:lnTo>
                    <a:pt x="2171" y="19016"/>
                  </a:lnTo>
                  <a:lnTo>
                    <a:pt x="2171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45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Electronic Theses and Dissertations (ETDs)</a:t>
            </a: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o th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tional Digital Library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ses and Dissertations</a:t>
            </a:r>
            <a:br>
              <a:rPr sz="1800"/>
            </a:br>
            <a:br>
              <a:rPr sz="1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ttp://etd.vt.edu/etd/    etd@vt.edu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ctober 29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05080" y="4923000"/>
            <a:ext cx="4538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64080" y="5470560"/>
            <a:ext cx="20066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26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outhern Universitie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volved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082960" y="1785960"/>
            <a:ext cx="65152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bur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em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issippi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rth Carolina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. North Carolina Charl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nderbilt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66680" y="26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ther Universitie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erested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05120" y="1862280"/>
            <a:ext cx="68454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hio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. of Illinois Urbana-Ch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Pennsyl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Ut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st week - a university in S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41904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11360" y="1965240"/>
            <a:ext cx="51544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Virginia 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SGS/CGS and C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pt. of Ed. (FIP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niversity Micro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B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ob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39760" y="3222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steps toward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182600" y="1488960"/>
            <a:ext cx="76662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orth Carolina State University is implementing a start-up pl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SURA/SOLINET Monticello Electronic Library will include theses and disser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is concept is being extended to the National Digital Library of Theses and Dissertations          (with FIPSE support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66680" y="5716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might your UIUC want to b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68280" y="2406600"/>
            <a:ext cx="753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improve graduate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unlock university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save money for students and for the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build an important digital library that will help others get 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2667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How can UIUC get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92320" y="1568520"/>
            <a:ext cx="7534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lanning/implementation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duat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ing / 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titutional Research / Educ. T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apt Virginia Tech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ralle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interest and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 trial / allow optional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190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some challen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11080" y="1492200"/>
            <a:ext cx="81788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aining students to submit in SG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xplaining importance to publis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nagerial and technical ste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aluating at national scale and over research career of grad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mproving digital library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calability, sustainability, u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391520" y="5775480"/>
            <a:ext cx="14176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123920" y="18288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Is:</a:t>
            </a: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d Fox - Computer Scienc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John Eaton - Graduate School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Gail McMillan - Librar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RAs:</a:t>
            </a: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eill Kipp, Paul Mather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etd.vt.edu/et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365200" y="228600"/>
            <a:ext cx="5481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ETD Contribu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33640" y="177948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ing computer-based technology to help improve the content and availability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ducating future scholars so they can publish electronically and effectively use digital libr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3430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39760" y="1792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are we do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39680" y="16462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students can be more creative and expressive in their schola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the knowledge contained in TDs can be easily and widely acc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students can become information literate and be prepared for a future in the Information 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25360" y="147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09600" y="868320"/>
            <a:ext cx="7461360" cy="43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ve the student money without a significant increase in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ve shelf space in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ild the National Digital Library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ke access to ETDs more rapid and less expen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25360" y="147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the long term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9600" y="868320"/>
            <a:ext cx="746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00K students / year getting grad degrees are exposed /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TDs are rich hypermedia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d education is more effective, students more produ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niversity publishing is revit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owledge, technology transfer are faster and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96920" y="112536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ed using standard word processing packages as PDF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viewed by the Graduate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ataloged and  archived by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ownloaded by UMI from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1284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tatus of the Local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197000"/>
            <a:ext cx="7893000" cy="43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pproved by university governance for implementation in Spring 19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bmission software now in 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bmission workshops for students and faculty occur of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ver 50 ETDs have been subm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ject is being expanded to involve other univer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170000" y="176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How has usage chang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6840" y="1065240"/>
            <a:ext cx="803124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theses submitted 1990-94, the combined avg circulation per copy is 2.24/y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dissertations submitted 1990-94 the  combined avg circulation per copy is 3.2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July-August 1996, there were 1190 inquiries to the 50 ETD abstracts and 324 to full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21284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vailable to Help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197000"/>
            <a:ext cx="78930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WW site with all you might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utomated submission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tudent guidelines, style sheets, training materials, FAQs, PR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GML DTD for ET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GML to HTML (web gener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TeX, Word templates, conve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ultimedia educ.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gs</dc:creator>
  <dc:description/>
  <dc:language>en-US</dc:language>
  <cp:lastModifiedBy>rgs</cp:lastModifiedBy>
  <cp:revision>0</cp:revision>
  <dc:subject/>
  <dc:title>ELECTRONIC THESES AND DISSERTATIONS (ETDS)</dc:title>
</cp:coreProperties>
</file>