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5B24F-D047-4FE5-A287-A5C2B67F1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d3fc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7"/>
                  </a:lnTo>
                  <a:lnTo>
                    <a:pt x="0" y="657"/>
                  </a:lnTo>
                  <a:lnTo>
                    <a:pt x="0" y="1309"/>
                  </a:lnTo>
                  <a:lnTo>
                    <a:pt x="2171" y="1309"/>
                  </a:lnTo>
                  <a:lnTo>
                    <a:pt x="2171" y="1966"/>
                  </a:lnTo>
                  <a:lnTo>
                    <a:pt x="0" y="1966"/>
                  </a:lnTo>
                  <a:lnTo>
                    <a:pt x="0" y="2623"/>
                  </a:lnTo>
                  <a:lnTo>
                    <a:pt x="2171" y="2623"/>
                  </a:lnTo>
                  <a:lnTo>
                    <a:pt x="2171" y="3276"/>
                  </a:lnTo>
                  <a:lnTo>
                    <a:pt x="0" y="3276"/>
                  </a:lnTo>
                  <a:lnTo>
                    <a:pt x="0" y="3933"/>
                  </a:lnTo>
                  <a:lnTo>
                    <a:pt x="2171" y="3933"/>
                  </a:lnTo>
                  <a:lnTo>
                    <a:pt x="2171" y="4590"/>
                  </a:lnTo>
                  <a:lnTo>
                    <a:pt x="0" y="4590"/>
                  </a:lnTo>
                  <a:lnTo>
                    <a:pt x="0" y="5248"/>
                  </a:lnTo>
                  <a:lnTo>
                    <a:pt x="2171" y="5248"/>
                  </a:lnTo>
                  <a:lnTo>
                    <a:pt x="2171" y="5901"/>
                  </a:lnTo>
                  <a:lnTo>
                    <a:pt x="0" y="5901"/>
                  </a:lnTo>
                  <a:lnTo>
                    <a:pt x="0" y="6558"/>
                  </a:lnTo>
                  <a:lnTo>
                    <a:pt x="2171" y="6558"/>
                  </a:lnTo>
                  <a:lnTo>
                    <a:pt x="2171" y="7215"/>
                  </a:lnTo>
                  <a:lnTo>
                    <a:pt x="0" y="7215"/>
                  </a:lnTo>
                  <a:lnTo>
                    <a:pt x="0" y="7867"/>
                  </a:lnTo>
                  <a:lnTo>
                    <a:pt x="2171" y="7867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2"/>
                  </a:lnTo>
                  <a:lnTo>
                    <a:pt x="2171" y="9182"/>
                  </a:lnTo>
                  <a:lnTo>
                    <a:pt x="2171" y="9834"/>
                  </a:lnTo>
                  <a:lnTo>
                    <a:pt x="0" y="9834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8"/>
                  </a:lnTo>
                  <a:lnTo>
                    <a:pt x="0" y="11148"/>
                  </a:lnTo>
                  <a:lnTo>
                    <a:pt x="0" y="11801"/>
                  </a:lnTo>
                  <a:lnTo>
                    <a:pt x="2171" y="11801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5"/>
                  </a:lnTo>
                  <a:lnTo>
                    <a:pt x="2171" y="13115"/>
                  </a:lnTo>
                  <a:lnTo>
                    <a:pt x="2171" y="13768"/>
                  </a:lnTo>
                  <a:lnTo>
                    <a:pt x="0" y="13768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3"/>
                  </a:lnTo>
                  <a:lnTo>
                    <a:pt x="0" y="15083"/>
                  </a:lnTo>
                  <a:lnTo>
                    <a:pt x="0" y="15740"/>
                  </a:lnTo>
                  <a:lnTo>
                    <a:pt x="2171" y="15740"/>
                  </a:lnTo>
                  <a:lnTo>
                    <a:pt x="2171" y="16392"/>
                  </a:lnTo>
                  <a:lnTo>
                    <a:pt x="0" y="16392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7"/>
                  </a:lnTo>
                  <a:lnTo>
                    <a:pt x="0" y="17707"/>
                  </a:lnTo>
                  <a:lnTo>
                    <a:pt x="0" y="18359"/>
                  </a:lnTo>
                  <a:lnTo>
                    <a:pt x="2171" y="18359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286000"/>
            <a:ext cx="7772400" cy="45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o th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tional Digital Library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ses and Dissertations</a:t>
            </a:r>
            <a:br>
              <a:rPr sz="1800"/>
            </a:b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ttp://etd.vt.edu/etd/    etd@vt.edu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ctober 29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64080" y="5470560"/>
            <a:ext cx="20066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outhern Universiti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volv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82960" y="1785960"/>
            <a:ext cx="65152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bu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em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issippi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. North Carolina 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nderbilt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Universiti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erest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862280"/>
            <a:ext cx="68454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hio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. of Illinois Urbana-Ch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Ut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st week - a university in S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41904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11360" y="1965240"/>
            <a:ext cx="5154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irginia 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SGS/CGS and C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pt. of Ed. (FIP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ity Micro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ob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39760" y="3222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steps toward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1488960"/>
            <a:ext cx="7666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 is implementing a start-up pl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SURA/SOLINET Monticello Electronic Library will include theses and disser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is concept is being extended to the National Digital Library of Theses and Dissertations          (with FIPSE support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might your UIUC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8280" y="24066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improve graduat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save money for students and for the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build an important digital library that will help others get 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2667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can UIUC get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92320" y="1568520"/>
            <a:ext cx="7534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lanning/implement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ing /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itutional Research / Educ.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apt Virginia Tech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alle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interest and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trial / allow optional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90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some challe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11080" y="1492200"/>
            <a:ext cx="81788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aining students to submit in SG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plaining importance to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nagerial and technical ste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ng at national scale and over research career of gra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proving digital library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alability, sustainability,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23920" y="18288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d Fox - Computer Scien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John Eaton - Graduate School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Gail McMillan - Libr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eill Kipp, Paul Mather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365200" y="228600"/>
            <a:ext cx="548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TD Contribu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33640" y="177948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ing computer-based technology to help improve the content and availabilit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ducating future scholars so they can publish electronically and effectively use digital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3430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39760" y="1792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 more creative and expressive in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the knowledge contained in TDs can be easily and widely ac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come information literate and be prepared for a future in the Information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9600" y="868320"/>
            <a:ext cx="746136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shelf space in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ild the National Digital Librar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9600" y="868320"/>
            <a:ext cx="746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00K students / year getting grad degrees are exposed /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TDs are rich hypermedia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d education is more effective, students more produ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ity publishing is revit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wledge, technology transfer are faster and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96920" y="11253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ed using standard word processing packages as PDF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iewed by the Graduat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taloged and  archived by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wnloaded by UMI from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197000"/>
            <a:ext cx="789300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pproved by university governance for implementation in Spring 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software now in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workshops for students and faculty occur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ver 50 ETDs have been sub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ject is being expanded to involve other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0000" y="17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6840" y="1065240"/>
            <a:ext cx="803124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theses submitted 1990-94, the combined avg circulation per copy is 2.24/y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dissertations submitted 1990-94 the  combined avg circulation per copy is 3.2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July-August 1996, there were 1190 inquiries to the 50 ETD abstracts and 324 to full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1197000"/>
            <a:ext cx="78930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WW site with all you might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utomated submission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GML DTD for ET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GML to HTML (web gener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TeX, Word templates, conve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ultimedia educ.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rgs</cp:lastModifiedBy>
  <cp:revision>0</cp:revision>
  <dc:subject/>
  <dc:title>ELECTRONIC THESES AND DISSERTATIONS (ETDS)</dc:title>
</cp:coreProperties>
</file>