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781560" cy="6845760"/>
            <a:chOff x="0" y="0"/>
            <a:chExt cx="781560" cy="684576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78120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781560" cy="6845760"/>
            </a:xfrm>
            <a:custGeom>
              <a:avLst/>
              <a:gdLst/>
              <a:ahLst/>
              <a:rect l="0" t="0" r="r" b="b"/>
              <a:pathLst>
                <a:path fill="none" w="2171" h="19016">
                  <a:moveTo>
                    <a:pt x="0" y="0"/>
                  </a:moveTo>
                  <a:lnTo>
                    <a:pt x="0" y="19016"/>
                  </a:lnTo>
                  <a:lnTo>
                    <a:pt x="724" y="19016"/>
                  </a:lnTo>
                  <a:lnTo>
                    <a:pt x="724" y="0"/>
                  </a:lnTo>
                  <a:lnTo>
                    <a:pt x="1447" y="0"/>
                  </a:lnTo>
                  <a:lnTo>
                    <a:pt x="1447" y="19016"/>
                  </a:lnTo>
                  <a:lnTo>
                    <a:pt x="2171" y="19016"/>
                  </a:lnTo>
                  <a:lnTo>
                    <a:pt x="2171" y="0"/>
                  </a:lnTo>
                  <a:lnTo>
                    <a:pt x="2171" y="657"/>
                  </a:lnTo>
                  <a:lnTo>
                    <a:pt x="0" y="657"/>
                  </a:lnTo>
                  <a:lnTo>
                    <a:pt x="0" y="1309"/>
                  </a:lnTo>
                  <a:lnTo>
                    <a:pt x="2171" y="1309"/>
                  </a:lnTo>
                  <a:lnTo>
                    <a:pt x="2171" y="1966"/>
                  </a:lnTo>
                  <a:lnTo>
                    <a:pt x="0" y="1966"/>
                  </a:lnTo>
                  <a:lnTo>
                    <a:pt x="0" y="2623"/>
                  </a:lnTo>
                  <a:lnTo>
                    <a:pt x="2171" y="2623"/>
                  </a:lnTo>
                  <a:lnTo>
                    <a:pt x="2171" y="3276"/>
                  </a:lnTo>
                  <a:lnTo>
                    <a:pt x="0" y="3276"/>
                  </a:lnTo>
                  <a:lnTo>
                    <a:pt x="0" y="3933"/>
                  </a:lnTo>
                  <a:lnTo>
                    <a:pt x="2171" y="3933"/>
                  </a:lnTo>
                  <a:lnTo>
                    <a:pt x="2171" y="4590"/>
                  </a:lnTo>
                  <a:lnTo>
                    <a:pt x="0" y="4590"/>
                  </a:lnTo>
                  <a:lnTo>
                    <a:pt x="0" y="5248"/>
                  </a:lnTo>
                  <a:lnTo>
                    <a:pt x="2171" y="5248"/>
                  </a:lnTo>
                  <a:lnTo>
                    <a:pt x="2171" y="5901"/>
                  </a:lnTo>
                  <a:lnTo>
                    <a:pt x="0" y="5901"/>
                  </a:lnTo>
                  <a:lnTo>
                    <a:pt x="0" y="6558"/>
                  </a:lnTo>
                  <a:lnTo>
                    <a:pt x="2171" y="6558"/>
                  </a:lnTo>
                  <a:lnTo>
                    <a:pt x="2171" y="7215"/>
                  </a:lnTo>
                  <a:lnTo>
                    <a:pt x="0" y="7215"/>
                  </a:lnTo>
                  <a:lnTo>
                    <a:pt x="0" y="7867"/>
                  </a:lnTo>
                  <a:lnTo>
                    <a:pt x="2171" y="7867"/>
                  </a:lnTo>
                  <a:lnTo>
                    <a:pt x="2171" y="8524"/>
                  </a:lnTo>
                  <a:lnTo>
                    <a:pt x="0" y="8524"/>
                  </a:lnTo>
                  <a:lnTo>
                    <a:pt x="0" y="9182"/>
                  </a:lnTo>
                  <a:lnTo>
                    <a:pt x="2171" y="9182"/>
                  </a:lnTo>
                  <a:lnTo>
                    <a:pt x="2171" y="9834"/>
                  </a:lnTo>
                  <a:lnTo>
                    <a:pt x="0" y="9834"/>
                  </a:lnTo>
                  <a:lnTo>
                    <a:pt x="0" y="10491"/>
                  </a:lnTo>
                  <a:lnTo>
                    <a:pt x="2171" y="10491"/>
                  </a:lnTo>
                  <a:lnTo>
                    <a:pt x="2171" y="11148"/>
                  </a:lnTo>
                  <a:lnTo>
                    <a:pt x="0" y="11148"/>
                  </a:lnTo>
                  <a:lnTo>
                    <a:pt x="0" y="11801"/>
                  </a:lnTo>
                  <a:lnTo>
                    <a:pt x="2171" y="11801"/>
                  </a:lnTo>
                  <a:lnTo>
                    <a:pt x="2171" y="12458"/>
                  </a:lnTo>
                  <a:lnTo>
                    <a:pt x="0" y="12458"/>
                  </a:lnTo>
                  <a:lnTo>
                    <a:pt x="0" y="13115"/>
                  </a:lnTo>
                  <a:lnTo>
                    <a:pt x="2171" y="13115"/>
                  </a:lnTo>
                  <a:lnTo>
                    <a:pt x="2171" y="13768"/>
                  </a:lnTo>
                  <a:lnTo>
                    <a:pt x="0" y="13768"/>
                  </a:lnTo>
                  <a:lnTo>
                    <a:pt x="0" y="14426"/>
                  </a:lnTo>
                  <a:lnTo>
                    <a:pt x="2171" y="14426"/>
                  </a:lnTo>
                  <a:lnTo>
                    <a:pt x="2171" y="15083"/>
                  </a:lnTo>
                  <a:lnTo>
                    <a:pt x="0" y="15083"/>
                  </a:lnTo>
                  <a:lnTo>
                    <a:pt x="0" y="15740"/>
                  </a:lnTo>
                  <a:lnTo>
                    <a:pt x="2171" y="15740"/>
                  </a:lnTo>
                  <a:lnTo>
                    <a:pt x="2171" y="16392"/>
                  </a:lnTo>
                  <a:lnTo>
                    <a:pt x="0" y="16392"/>
                  </a:lnTo>
                  <a:lnTo>
                    <a:pt x="0" y="17049"/>
                  </a:lnTo>
                  <a:lnTo>
                    <a:pt x="2171" y="17049"/>
                  </a:lnTo>
                  <a:lnTo>
                    <a:pt x="2171" y="17707"/>
                  </a:lnTo>
                  <a:lnTo>
                    <a:pt x="0" y="17707"/>
                  </a:lnTo>
                  <a:lnTo>
                    <a:pt x="0" y="18359"/>
                  </a:lnTo>
                  <a:lnTo>
                    <a:pt x="2171" y="18359"/>
                  </a:lnTo>
                  <a:lnTo>
                    <a:pt x="2171" y="19016"/>
                  </a:lnTo>
                  <a:lnTo>
                    <a:pt x="0" y="19016"/>
                  </a:lnTo>
                  <a:lnTo>
                    <a:pt x="0" y="19016"/>
                  </a:lnTo>
                  <a:lnTo>
                    <a:pt x="2171" y="19016"/>
                  </a:lnTo>
                  <a:lnTo>
                    <a:pt x="2171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2286000"/>
            <a:ext cx="7772400" cy="45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fafd00"/>
                </a:solidFill>
                <a:latin typeface="Arial"/>
                <a:ea typeface="Arial"/>
              </a:rPr>
              <a:t>Electronic Theses and Dissertations (ETDs)</a:t>
            </a:r>
            <a:br>
              <a:rPr sz="18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nto th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National Digital Library of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ses and Dissertations</a:t>
            </a:r>
            <a:br>
              <a:rPr sz="1800"/>
            </a:br>
            <a:br>
              <a:rPr sz="1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http://etd.vt.edu/etd/    etd@vt.edu</a:t>
            </a:r>
            <a:br>
              <a:rPr sz="3200"/>
            </a:br>
            <a:r>
              <a:rPr b="0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ctober 2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05080" y="4923000"/>
            <a:ext cx="4538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64080" y="5470560"/>
            <a:ext cx="200664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139760" y="3222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at is the fu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182600" y="1641600"/>
            <a:ext cx="7666200" cy="42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North Carolina State University is implementing a start-up pl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SURA/SOLINET Monticello Electronic Library will include theses and dissert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is concept will be extended to the National Digital Library of Theses and Dissert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66680" y="5716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y might your university want to b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268280" y="2406600"/>
            <a:ext cx="753444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 improve graduate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 unlock university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 save money for students and for the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 build an important digital library that will help others get bui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123920" y="18288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PIs:</a:t>
            </a:r>
            <a:br>
              <a:rPr sz="18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Ed Fox - Computer Scienc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John Eaton - Graduate School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 Gail McMillan - Librar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GRAs:</a:t>
            </a:r>
            <a:br>
              <a:rPr sz="18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Neill Kipp, Paul Mather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tp://etd.vt.edu/etd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365200" y="228600"/>
            <a:ext cx="5481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fafd00"/>
                </a:solidFill>
                <a:latin typeface="Arial"/>
                <a:ea typeface="Arial"/>
              </a:rPr>
              <a:t>ETD Contribut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133640" y="1779480"/>
            <a:ext cx="7772400" cy="36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ing computer-based technology to help improve the content and availability of theses and disser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ducating future scholars so they can publish electronically and effectively use digital libr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43000" y="34308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at are W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139760" y="17928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y are we doing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39680" y="164628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 students can be more creative and expressive in their schola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 the knowledge contained in TDs can be easily and widely acc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 students can become information literate and be prepared for a future in the Information 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66680" y="1634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How are ETDs being done at Virginia Te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96920" y="112536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duced using standard word processing packages as PDF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viewed by the Graduate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ataloged and  archived by the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ownloaded by UMI from the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125360" y="1476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at are the benefi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09600" y="868320"/>
            <a:ext cx="7461360" cy="43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ave the student money without a significant increase in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ave shelf space in the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uild the National Digital Library of Theses and Disser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ke access to ETDs more rapid and less expens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170000" y="176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How has usage chang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96840" y="1065240"/>
            <a:ext cx="803124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or Virginia Tech theses submitted 1990-94, the combined avg circulation per copy is 2.24/y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or Virginia Tech dissertations submitted 1990-94 the  combined avg circulation per copy is 3.2/y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or July-August 1996, there were 1190 inquiries to the 50 ETD abstracts and 324 to full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66680" y="26352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niversities Participating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 in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30320" y="1557360"/>
            <a:ext cx="65152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bur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ems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ersity of Geo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ssissippi Stat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rth Carolina Stat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. North Carolina Charl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ersity of Pennsylv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ersity of Virgi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anderbilt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212840" y="27936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Status of the Projec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143000" y="1197000"/>
            <a:ext cx="7893000" cy="43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pproved by university governance for implementation in Spring 19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ubmission software now in 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ubmission workshops for students and faculty occur of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ver 50 ETDs have been submit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project is being expanded to involve other univers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90720" y="41904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o are the sponsors and cooperato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11360" y="1965240"/>
            <a:ext cx="51544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Virginia 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SGS/C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oEd FI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niversity Micro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B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ob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475400" y="5775480"/>
            <a:ext cx="1333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gs</dc:creator>
  <dc:description/>
  <dc:language>en-US</dc:language>
  <cp:lastModifiedBy>rgs</cp:lastModifiedBy>
  <cp:revision>0</cp:revision>
  <dc:subject/>
  <dc:title>ELECTRONIC THESES AND DISSERTATIONS (ETDS)</dc:title>
</cp:coreProperties>
</file>