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81560" cy="6845760"/>
            <a:chOff x="0" y="0"/>
            <a:chExt cx="781560" cy="6845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8120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781560" cy="6845760"/>
            </a:xfrm>
            <a:custGeom>
              <a:avLst/>
              <a:gdLst/>
              <a:ahLst/>
              <a:rect l="0" t="0" r="r" b="b"/>
              <a:pathLst>
                <a:path fill="none" w="2171" h="19016">
                  <a:moveTo>
                    <a:pt x="0" y="0"/>
                  </a:moveTo>
                  <a:lnTo>
                    <a:pt x="0" y="19016"/>
                  </a:lnTo>
                  <a:lnTo>
                    <a:pt x="724" y="19016"/>
                  </a:lnTo>
                  <a:lnTo>
                    <a:pt x="724" y="0"/>
                  </a:lnTo>
                  <a:lnTo>
                    <a:pt x="1447" y="0"/>
                  </a:lnTo>
                  <a:lnTo>
                    <a:pt x="1447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2171" y="657"/>
                  </a:lnTo>
                  <a:lnTo>
                    <a:pt x="0" y="657"/>
                  </a:lnTo>
                  <a:lnTo>
                    <a:pt x="0" y="1309"/>
                  </a:lnTo>
                  <a:lnTo>
                    <a:pt x="2171" y="1309"/>
                  </a:lnTo>
                  <a:lnTo>
                    <a:pt x="2171" y="1966"/>
                  </a:lnTo>
                  <a:lnTo>
                    <a:pt x="0" y="1966"/>
                  </a:lnTo>
                  <a:lnTo>
                    <a:pt x="0" y="2623"/>
                  </a:lnTo>
                  <a:lnTo>
                    <a:pt x="2171" y="2623"/>
                  </a:lnTo>
                  <a:lnTo>
                    <a:pt x="2171" y="3276"/>
                  </a:lnTo>
                  <a:lnTo>
                    <a:pt x="0" y="3276"/>
                  </a:lnTo>
                  <a:lnTo>
                    <a:pt x="0" y="3933"/>
                  </a:lnTo>
                  <a:lnTo>
                    <a:pt x="2171" y="3933"/>
                  </a:lnTo>
                  <a:lnTo>
                    <a:pt x="2171" y="4590"/>
                  </a:lnTo>
                  <a:lnTo>
                    <a:pt x="0" y="4590"/>
                  </a:lnTo>
                  <a:lnTo>
                    <a:pt x="0" y="5248"/>
                  </a:lnTo>
                  <a:lnTo>
                    <a:pt x="2171" y="5248"/>
                  </a:lnTo>
                  <a:lnTo>
                    <a:pt x="2171" y="5901"/>
                  </a:lnTo>
                  <a:lnTo>
                    <a:pt x="0" y="5901"/>
                  </a:lnTo>
                  <a:lnTo>
                    <a:pt x="0" y="6558"/>
                  </a:lnTo>
                  <a:lnTo>
                    <a:pt x="2171" y="6558"/>
                  </a:lnTo>
                  <a:lnTo>
                    <a:pt x="2171" y="7215"/>
                  </a:lnTo>
                  <a:lnTo>
                    <a:pt x="0" y="7215"/>
                  </a:lnTo>
                  <a:lnTo>
                    <a:pt x="0" y="7867"/>
                  </a:lnTo>
                  <a:lnTo>
                    <a:pt x="2171" y="7867"/>
                  </a:lnTo>
                  <a:lnTo>
                    <a:pt x="2171" y="8524"/>
                  </a:lnTo>
                  <a:lnTo>
                    <a:pt x="0" y="8524"/>
                  </a:lnTo>
                  <a:lnTo>
                    <a:pt x="0" y="9182"/>
                  </a:lnTo>
                  <a:lnTo>
                    <a:pt x="2171" y="9182"/>
                  </a:lnTo>
                  <a:lnTo>
                    <a:pt x="2171" y="9834"/>
                  </a:lnTo>
                  <a:lnTo>
                    <a:pt x="0" y="9834"/>
                  </a:lnTo>
                  <a:lnTo>
                    <a:pt x="0" y="10491"/>
                  </a:lnTo>
                  <a:lnTo>
                    <a:pt x="2171" y="10491"/>
                  </a:lnTo>
                  <a:lnTo>
                    <a:pt x="2171" y="11148"/>
                  </a:lnTo>
                  <a:lnTo>
                    <a:pt x="0" y="11148"/>
                  </a:lnTo>
                  <a:lnTo>
                    <a:pt x="0" y="11801"/>
                  </a:lnTo>
                  <a:lnTo>
                    <a:pt x="2171" y="11801"/>
                  </a:lnTo>
                  <a:lnTo>
                    <a:pt x="2171" y="12458"/>
                  </a:lnTo>
                  <a:lnTo>
                    <a:pt x="0" y="12458"/>
                  </a:lnTo>
                  <a:lnTo>
                    <a:pt x="0" y="13115"/>
                  </a:lnTo>
                  <a:lnTo>
                    <a:pt x="2171" y="13115"/>
                  </a:lnTo>
                  <a:lnTo>
                    <a:pt x="2171" y="13768"/>
                  </a:lnTo>
                  <a:lnTo>
                    <a:pt x="0" y="13768"/>
                  </a:lnTo>
                  <a:lnTo>
                    <a:pt x="0" y="14426"/>
                  </a:lnTo>
                  <a:lnTo>
                    <a:pt x="2171" y="14426"/>
                  </a:lnTo>
                  <a:lnTo>
                    <a:pt x="2171" y="15083"/>
                  </a:lnTo>
                  <a:lnTo>
                    <a:pt x="0" y="15083"/>
                  </a:lnTo>
                  <a:lnTo>
                    <a:pt x="0" y="15740"/>
                  </a:lnTo>
                  <a:lnTo>
                    <a:pt x="2171" y="15740"/>
                  </a:lnTo>
                  <a:lnTo>
                    <a:pt x="2171" y="16392"/>
                  </a:lnTo>
                  <a:lnTo>
                    <a:pt x="0" y="16392"/>
                  </a:lnTo>
                  <a:lnTo>
                    <a:pt x="0" y="17049"/>
                  </a:lnTo>
                  <a:lnTo>
                    <a:pt x="2171" y="17049"/>
                  </a:lnTo>
                  <a:lnTo>
                    <a:pt x="2171" y="17707"/>
                  </a:lnTo>
                  <a:lnTo>
                    <a:pt x="0" y="17707"/>
                  </a:lnTo>
                  <a:lnTo>
                    <a:pt x="0" y="18359"/>
                  </a:lnTo>
                  <a:lnTo>
                    <a:pt x="2171" y="18359"/>
                  </a:lnTo>
                  <a:lnTo>
                    <a:pt x="2171" y="19016"/>
                  </a:lnTo>
                  <a:lnTo>
                    <a:pt x="0" y="19016"/>
                  </a:lnTo>
                  <a:lnTo>
                    <a:pt x="0" y="19016"/>
                  </a:lnTo>
                  <a:lnTo>
                    <a:pt x="2171" y="19016"/>
                  </a:lnTo>
                  <a:lnTo>
                    <a:pt x="2171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lectronic Theses and Dissertations (ETDS)</a:t>
            </a:r>
            <a:br>
              <a:rPr sz="1800"/>
            </a:br>
            <a:br>
              <a:rPr sz="18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tudent Work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05080" y="4923000"/>
            <a:ext cx="45385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earch and Graduat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-24-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Obje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19810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o use computer based technology to improve the content and availability of theses and disser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66680" y="19810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pand the availability of knowledge contained in ET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ve the student access to tools to create improved ET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mprove movement of ETD drafts between the student and the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ow will ETDs be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3600" y="157320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TDs wi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duced using standard word processing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ivered as portable document format (pdf)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ed by the gradu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aloged and  archived by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wnloaded by UMI from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os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08000" y="1878120"/>
            <a:ext cx="7461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ave the student money without a significant increase in eff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ave shelf space in the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ake access to ETDs more rapid and less expen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38240" y="220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has usage chang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50840" y="1413000"/>
            <a:ext cx="7772400" cy="42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theses submitted 1990 to 94 the combined avg circ per copy is 2.24/y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dissertations submitted 90 to 94 the  combined avg circ per copy is 3.2/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July and August 1996 there were 1190 inquirys to the ETD abstracts and 324 inquirys to the ET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Key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19810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udents will be able to produce more creative ET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holars will have better access to information in ET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irginia tech will be recognized as the institution which developed and implemented the ETD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680" y="5716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tatus of the Proj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8000" y="1324080"/>
            <a:ext cx="7772400" cy="48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roved by CGS&amp;P for implementation spring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bmission software is now in place at 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bmission workshops for students and faculty are und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 50 ETDs have been submitted b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is being expanded to other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s</dc:creator>
  <dc:description/>
  <dc:language>en-US</dc:language>
  <cp:lastModifiedBy>rgs</cp:lastModifiedBy>
  <cp:revision>0</cp:revision>
  <dc:subject/>
  <dc:title>ELECTRONIC THESES AND DISSERTATIONS (ETDS)</dc:title>
</cp:coreProperties>
</file>