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664644-D724-461E-A908-45A1300EF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600200"/>
            <a:ext cx="777240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tional Digital Library of Theses and Disser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71600" y="3200400"/>
            <a:ext cx="640080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ETD Project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ginia Tech, Blacksburg, 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td.vt.edu/etd/    etd@vt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60560" y="203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vailable to Help Oth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43000" y="1523880"/>
            <a:ext cx="78930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 site with all you might ne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submission sy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guidelines, style sheets, training materials, FAQs, PR in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GML DTD for ETD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GML to HTML (web generato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X, Word templates, conver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edia educ. mater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28040" y="592776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304920"/>
            <a:ext cx="8915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Universities that have Expressed Interest in th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8600" y="1981080"/>
            <a:ext cx="430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ssippi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land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as A&amp;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C Charlot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981080"/>
            <a:ext cx="4070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Pennsylvan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hington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st Virginia Uni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iam &amp; 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8040" y="5851440"/>
            <a:ext cx="1333440" cy="7239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151000" y="5837400"/>
            <a:ext cx="4543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IC Considering Jo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Universities (to be) Visited b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Virginia Tech Sta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62000" y="1752480"/>
            <a:ext cx="2976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b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mson 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um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rgia 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higan 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e Un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tgers Un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800600" y="17524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ford Un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Alab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Al. Bi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Geor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Ill. U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Tenn. K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266760"/>
            <a:ext cx="80773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Universities Approving Involvement &amp; Accepting ET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1600200"/>
            <a:ext cx="8185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ving invol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C Stat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Rhodes University (South Afri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Vanderbilt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pting ET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University of Virgini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achelor’s theses plus some grad student requested wor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Virginia T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628040" y="585144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90720" y="1522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o are the sponsors and cooperato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23880" y="1676520"/>
            <a:ext cx="6141960" cy="44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b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or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S, CSGS, C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A, SOLI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 Dept. of Education (FIP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139760" y="32220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at are steps toward futu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82600" y="1488960"/>
            <a:ext cx="7666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RA/SOLINET Monticello Electronic Library will include theses and dissert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concept is being extended to the National Digital Library of Theses and Dissertations     (with FIPSE support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otiations underway with U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480" y="30492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y might your university want to be involv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160640" y="1949400"/>
            <a:ext cx="75344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mprove graduate edu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lock university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ave money for students and for the univers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uild an important digital library that will help others get bui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90720" y="26676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How can your university get involv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192320" y="1568520"/>
            <a:ext cx="75344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ning/implementation 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Graduate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omputing / Information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Institutional Research / Educ. Te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 Virginia Tech 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uild interest and consen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Start trial / allow optional sub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762120" y="19044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at are some challeng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11080" y="1492200"/>
            <a:ext cx="8178840" cy="38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ing students to submit in SGM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aining importance to publish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ial and technical steer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ng at national scale and over research career of grad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ing digital library tech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ility, sustainability,            us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2120" y="1904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Trai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8080" y="1600200"/>
            <a:ext cx="82612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ulty (e.g., as part of FD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d Students - when 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ic Workshops with De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 Train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: Word to PD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ture: Scanning, Photo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ing: Exchange, Aesop; from pie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X, Distill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14440" y="198108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Arial"/>
              </a:rPr>
              <a:t>PIs:</a:t>
            </a:r>
            <a:br>
              <a:rPr sz="1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Ed Fox - Computer Scien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John Eaton - Graduate School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Gail McMillan - Librar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Arial"/>
              </a:rPr>
              <a:t>GRAs:</a:t>
            </a:r>
            <a:br>
              <a:rPr sz="1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eill Kipp, Paul Mather (CS);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im McGonigle (Psychology)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Arial"/>
              </a:rPr>
              <a:t>Ugrad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Emilio Arce, Laura Weis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Arial"/>
              </a:rPr>
              <a:t>Staff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eter Haggerty, James Powell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2898720" y="306360"/>
            <a:ext cx="3498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ETD Tea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04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33520" y="1600200"/>
            <a:ext cx="848988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Events: Start, Use DL, Attend Workshop, Submit, Exit Interview, &gt; 1 Y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Statistics: Baseline Circulation, DL Use from Log Analysis + Intervie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 of  ETD Project: time, expenses (workflow, process, staffing, studen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: training, doc, support,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ing: literacy, epub, DL ski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144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ocal  Pl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752480"/>
            <a:ext cx="848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s of Grad School, Library, Computing: form a project 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grass roots sup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dvisory committee: represent? tech experti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hampions to spread by word of m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Publicity to reach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Senates, Commissions, Deans,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Services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, phone, listser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09480" y="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ocal  Plan -  cont’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480" y="160020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 technical set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rchive, backup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or 3rd party): space, refr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WW site; PURL/handle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s and distributed infra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Student accounts, space +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dobe software, scanners, multimedia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 workflow, revisit staff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144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VT  Support  Off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76520"/>
            <a:ext cx="84582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, listservs (Grad school, Library, Computing/technology, Problems/bug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, documentation, tech sup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ations: Adobe, Microsof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: instruments,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ossible temporary storage / archiv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id -  in setting up a national          service and archiv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81000" y="1779480"/>
            <a:ext cx="7400880" cy="30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ding universities to help improve the availability and content of theses and disser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ting future scholars so they can publish electronically and effectively use digital libra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343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at are we do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79280"/>
            <a:ext cx="82263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y are we doing i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39680" y="164628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students can be more creative and expressive in their scholarsh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the knowledge contained in TDs can be easily and widely acce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students can become information literate and be prepared for a future as researchers in the Information 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400" y="147600"/>
            <a:ext cx="79833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at are the benefi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09600" y="868320"/>
            <a:ext cx="7461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the student money without a significant increase in eff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shelf space in the libr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the National Digital Library of Theses and Disser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access to ETDs more rapid and less expens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147600"/>
            <a:ext cx="79833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at are the long term goal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09600" y="868320"/>
            <a:ext cx="7461360" cy="48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K US students / year getting grad degrees are exposed / involv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Ds are rich hypermedia wor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d education is more effective, students more produ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y publishing is revitaliz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, technology transfer are faster and be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66680" y="1634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How are ETDs being done at Virginia Te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96920" y="1125360"/>
            <a:ext cx="7772400" cy="41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d using standard word processing packages as PDF f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LaTeX class, outline fo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ord template, PDFwri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ed by the Graduate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loged and  archived by the libr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loaded by UMI from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31960" y="2793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tatus of the Local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720" y="1501920"/>
            <a:ext cx="78930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ved by university governance Spring 1996; required starting 1/1/97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ssion &amp; access software in pl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ssion workshops for students (and faculty) occur of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ulty training as part of Faculty Development Initia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12800" y="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How has usage chang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598760"/>
            <a:ext cx="8342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Virginia Tech theses submitted 1990-94, the combined avg circulation per copy is 2.24/yr; 3.2 for disser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July-August 1996, there were 1190 inquiries to the 50 ETD abstracts and 324 to fulltext (10-fold increa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35K accesses have been made to project homep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LTIMEDIA LAB</dc:creator>
  <dc:description/>
  <dc:language>en-US</dc:language>
  <cp:lastModifiedBy>MULTIMEDIA LAB</cp:lastModifiedBy>
  <cp:revision>0</cp:revision>
  <dc:subject/>
  <dc:title>National Digital Library of Theses and Dissertations</dc:title>
</cp:coreProperties>
</file>