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A019C4-39EF-4565-890F-557592BDD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00200"/>
            <a:ext cx="777240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Digital Library of Theses and Disser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71600" y="32004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ETD Project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td.vt.edu/etd/    etd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(to be) Visited b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irginia Tech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62000" y="1752480"/>
            <a:ext cx="297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mson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ia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igan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gers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800600" y="17524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 Jose State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ford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la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l. Bi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Ill. Urb.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Tenn. K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Wisc. M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480" y="266760"/>
            <a:ext cx="80773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Approving Involvement &amp; Accepting ET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3520" y="1600200"/>
            <a:ext cx="818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ing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C Stat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Rhodes University (South Afr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Vanderbilt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ing ET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University of Virgin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achelor’s theses plus some grad student requested wor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28040" y="585144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3880" y="1676520"/>
            <a:ext cx="6141960" cy="44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o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S, CSGS, C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A, SOL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Dept. of Education (FI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30492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60640" y="19494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graduate education / better prepare you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lock university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ave money for students and for the university / improve work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uild an important digital library supported by SURA, FIP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60560" y="203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1523880"/>
            <a:ext cx="7893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 with all you might n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ubmission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uidelines, style sheets, training materials, FAQs, PR in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DTD for ET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to HTML (web generat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, Word templates, conver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educ. 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8040" y="592776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2667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How can your university get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92320" y="1568520"/>
            <a:ext cx="7534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planning/implemen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puting /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stitutional Research / Educ. T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us letter, give us contact 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 Virginia Tech 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uild interest and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Start trial / allow optional sub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 0 Invol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, local publi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ce provided as requeste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phone, listserv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Acrobat in book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allo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e/access through Virginia Tech, OCLC, and/or U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 1 Involvement = Level 0 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ur software, change practices in graduate school and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grass roots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dvisory committee: representative? expe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hampions to spread by word of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pproval: Senates, Commissions, Deans,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ublicity to reach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 2 Involvement = Level 1 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electronic sub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laborato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 evaluation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servers: search, U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firm arrangement with UMI and/or OCLC regarding archival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T  Support  Of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76520"/>
            <a:ext cx="84582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listservs (Grad school, Library, Computing/technology, Problems/bug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, documentation, tech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ations: Adobe, Microso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: instruments,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ssible temporary storage / archiv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 -  in setting up a national          service and arch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4440" y="19810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d Fox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John Eaton - Graduate School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ail McMillan - Librar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ill Kipp, Paul Mather (CS)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im McGonigle (Psychology)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Ugrad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milio Arce, Laura Wei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Staff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eter Haggerty, James Powel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898720" y="306360"/>
            <a:ext cx="3498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ETD Te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62120" y="1904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else are we working 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11080" y="1492200"/>
            <a:ext cx="81788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students to submit in SGM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ing importance to publis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ial and technical steer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ng at national scale and over research career of grad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ing digital library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ing scalability, sustainability,            usability - and an arch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600200"/>
            <a:ext cx="777240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more information or assistance, contact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371600" y="32004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ETD Project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td.vt.edu/etd/    etd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led to today’s vis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52388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7 mtg in Ann Arbor: UMI, VT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 mtg in Washington: CNI, CGS, UMI, VT and 10 universities with 3 rep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mtg in Atlanta to start Monticello Electronic Library (MEL): SURA, SOLI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 mtg in Blacksburg re ETD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funding by SURA and US Dept. of Education (FIPSE) for regional, national projects (NDLT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703520"/>
            <a:ext cx="8458200" cy="410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ing universities to revitalize grad educ., publishing and IPR efforts: to help improve the availability and content of theses and disser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ALL future scholars so they can publish electronically and effectively use digital libraries (i.e., are Information Literate and can be more express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343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09600" y="868320"/>
            <a:ext cx="7461360" cy="49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tudents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helf space in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the National Digital Library of Theses and Dissertations: with faster, broader, and less expensiv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catalog, local server, and: university consortia, WWW eng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8080" y="868320"/>
            <a:ext cx="78328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K US students / year getting grad degrees are exposed / inv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K/yr rich hypermedia ETDs that may turn into electronic portfol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matic increase in knowledge sharing: lit. reviews, bibliographies,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long access: browse, search, prior searches, citation lin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96920" y="1125360"/>
            <a:ext cx="777240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using standard word processing packages as PDF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aTeX class, outline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ord template, PDF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by the Graduat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ed and  archived by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ed by UMI from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196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90720" y="1501920"/>
            <a:ext cx="78930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by university governance Spring 1996; required starting 1/1/9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&amp; access software in p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workshops for students (and faculty) occur of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training as part of Faculty Development Initi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280" y="304920"/>
            <a:ext cx="8915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that have Expressed Interest in th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19810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iga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ssippi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l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A&amp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 Chapel H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1981080"/>
            <a:ext cx="407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 Charlo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Pennsylva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S.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hingto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st Virginia Uni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iam &amp; 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8040" y="585144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878120" y="5989680"/>
            <a:ext cx="5087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IC Considering Jo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LTIMEDIA LAB</dc:creator>
  <dc:description/>
  <dc:language>en-US</dc:language>
  <cp:lastModifiedBy>MULTIMEDIA LAB</cp:lastModifiedBy>
  <cp:revision>0</cp:revision>
  <dc:subject/>
  <dc:title>National Digital Library of Theses and Dissertations</dc:title>
</cp:coreProperties>
</file>