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1D457A-C0DE-41DD-A5E9-ECC0D7A2C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3530"/>
                </a:gs>
                <a:gs pos="50000">
                  <a:srgbClr val="006b61"/>
                </a:gs>
                <a:gs pos="100000">
                  <a:srgbClr val="00353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5a1068"/>
                </a:gs>
                <a:gs pos="50000">
                  <a:srgbClr val="811795"/>
                </a:gs>
                <a:gs pos="100000">
                  <a:srgbClr val="5a1068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33640" y="177948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ing computer-based technology to help improve the content and availabilit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ucating future scholars so they can publish electronically and effectively use digital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3430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Southern Universiti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Involv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25760" y="1785960"/>
            <a:ext cx="65152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bu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em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ssissippi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th Caroli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. North Carolina 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derbilt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Other Universiti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Interest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1785960"/>
            <a:ext cx="68454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io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. of Illinois Urbana-Ch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Ut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week - a university in S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1904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11360" y="1965240"/>
            <a:ext cx="5154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rginia 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SGS/CGS and C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pt. of Ed. (FIP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versity Micro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ob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39760" y="3222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at are steps toward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1488960"/>
            <a:ext cx="7666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th Carolina State University is implementing a start-up pl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URA/SOLINET Monticello Electronic Library will include theses and disser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 concept is being extended to the National Digital Library of Theses and Dissertations          (with FIPSE support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6000" y="19494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improve graduat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save money for students and for the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build an important digital library that will help others get 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92320" y="1568520"/>
            <a:ext cx="7534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/implement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ing /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itutional Research / Educ.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apt Virginia Tech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lle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d interest and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11795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trial / allow optional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680" y="190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at are some challe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1080" y="1492200"/>
            <a:ext cx="81788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ining students to submit in SG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plaining importance to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nagerial and technical ste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aluating at national scale and over research career of gra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roving digital library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lability, sustainability,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3800" y="-15840"/>
            <a:ext cx="8086680" cy="687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55520" y="-15840"/>
            <a:ext cx="80866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23920" y="198108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Ed Fox - Computer Science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John Eaton - Graduate School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 Gail McMillan -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Neill Kipp, Paul Mather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365200" y="228600"/>
            <a:ext cx="548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6b61"/>
                </a:solidFill>
                <a:latin typeface="Arial"/>
                <a:ea typeface="Arial"/>
              </a:rPr>
              <a:t>ETD Contribu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39760" y="1792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 students can be more creative and expressive in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 the knowledge contained in TDs can be easily and widely ac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 students can become information literate and be prepared for a future in the Information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09600" y="868320"/>
            <a:ext cx="746136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shelf space in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ild the National Digital Librar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9600" y="868320"/>
            <a:ext cx="746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00K students / year getting grad degrees are exposed /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TDs are rich hypermedia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rad education is more effective, students more produ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versity publishing is revit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nowledge, technology transfer are faster and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6920" y="11253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duced using standard word processing packages as PDF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ed by the Graduat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loged and  archived by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wnloaded by UMI from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501920"/>
            <a:ext cx="789300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roved by university governance for implementation in Spring 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bmission software now in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bmission workshops for students and faculty occur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 50 ETDs have been sub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ject is being expanded to involve other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70000" y="17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8240" y="1598760"/>
            <a:ext cx="803124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Virginia Tech theses submitted 1990-94, the combined avg circulation per copy is 2.24/y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Virginia Tech dissertations submitted 1990-94 the  combined avg circulation per copy is 3.2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b61"/>
              </a:buClr>
              <a:buFont typeface="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July-August 1996, there were 1190 inquiries to the 50 ETD abstracts and 324 to full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501920"/>
            <a:ext cx="78930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WW site with all you might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utomated submission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GML DTD for ET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GML to HTML (web gener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TeX, Word templates, conve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media educ.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Virginia Tech</cp:lastModifiedBy>
  <cp:revision>0</cp:revision>
  <dc:subject/>
  <dc:title>ELECTRONIC THESES AND DISSERTATIONS (ETDS)</dc:title>
</cp:coreProperties>
</file>