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4" name="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8149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646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2064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07784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65640" cy="1063800"/>
          </a:xfrm>
          <a:prstGeom prst="rect">
            <a:avLst/>
          </a:prstGeom>
          <a:ln w="0">
            <a:noFill/>
          </a:ln>
        </p:spPr>
      </p:pic>
      <p:pic>
        <p:nvPicPr>
          <p:cNvPr id="34" name="" descr=""/>
          <p:cNvPicPr/>
          <p:nvPr/>
        </p:nvPicPr>
        <p:blipFill>
          <a:blip r:embed="rId3"/>
          <a:stretch/>
        </p:blipFill>
        <p:spPr>
          <a:xfrm>
            <a:off x="7496280" y="5562720"/>
            <a:ext cx="1646280" cy="1293840"/>
          </a:xfrm>
          <a:prstGeom prst="rect">
            <a:avLst/>
          </a:prstGeom>
          <a:ln w="0">
            <a:noFill/>
          </a:ln>
        </p:spPr>
      </p:pic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35916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2721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729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62064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9907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Formative Usability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81080" y="4495680"/>
            <a:ext cx="5410080" cy="9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. Rex Har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n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496280" y="5562720"/>
            <a:ext cx="1646280" cy="1293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6564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sability Specif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430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ive data -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ility attribute:  initial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ing instrument:  specific benchmark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e to be measured:  time to complete (or number err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level:  90 s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level:  60 s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sability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1430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jective data -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ility attribute:  initial im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ing instrument:  specific questionn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e to be measured:  average score over users,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level:  7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level:  8.5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ideo Tape Clips of EN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430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SION v.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ility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30400" y="3124080"/>
            <a:ext cx="34257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he Qualitative Side of Usability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430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al protocol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incident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ility problem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ideo Tape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430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incident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11640" y="2633760"/>
            <a:ext cx="29368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ideo Tape Clips of EN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430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06720" y="3124080"/>
            <a:ext cx="31384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ool Support For Formative Eval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430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existing user interface development tools used for constructing user interfac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L is a tool to sup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ctivities in user interactio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quantitative and qualitative data gath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before, during, and after data collection for formativ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DEAL -- What it Looks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143000" y="762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art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will evaluate the user interface sooner or later . . 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’s have them do it sooner, so we c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the changes to ensure usabi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36720" y="1890720"/>
            <a:ext cx="36511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2206800" cy="3262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738520" y="2374920"/>
            <a:ext cx="16812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blem:  poor 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oal:  ensuring us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proach:  iterative refi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interaction de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 of usability evaluation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itative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ative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 support --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84440" y="3008160"/>
            <a:ext cx="364968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roblem:  Poor Us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49% to 99% of interactive system code supports the user interfac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Myers &amp; Rosson, 199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 quality user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s of hardware &amp; software vs. "personwar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rs, the interface is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 vs.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: Lack of understanding of the process for developing usable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Goal:  Ensuring Us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ss and Improve Usability of a User Interactio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ss?  Yes, it’s meas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ilit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performance (e.g., time on task, error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, usefulness (usability in the lar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pproach:  Iterative Re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rate user interactio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-centere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y and continual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valuat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What’s User Interaction Desig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3962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 software not best place to start (What “widget” can we us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prototype allows evaluation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on design, not U I soft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2417760"/>
            <a:ext cx="2286000" cy="164160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the user interaction design (view of user &amp; interac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400800" y="2417760"/>
            <a:ext cx="2286000" cy="164160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the user interface software (view of system &amp; 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9320" y="1828800"/>
            <a:ext cx="7467480" cy="45720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the whole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3200400"/>
            <a:ext cx="28954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718080" y="2697120"/>
            <a:ext cx="2179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I softwa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verview of Usability Evaluation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430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tica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to design description or 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uristic, inspection, theory-bas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irica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ur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430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ive, empi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es usability lab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participant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the most out of even on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are helping us evaluate the system . . 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041640" y="3870360"/>
            <a:ext cx="259704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1430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he Quantitative Side of Usability Eval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430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easure usability of a user interactio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measure us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trol, manage develop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know when to stop ite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usability specif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itative usability goals against which user interaction design i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ally defined metrics for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uthorized User</dc:creator>
  <dc:description/>
  <dc:language>en-US</dc:language>
  <cp:lastModifiedBy>Authorized User</cp:lastModifiedBy>
  <cp:revision>0</cp:revision>
  <dc:subject/>
  <dc:title>No Slide Title</dc:title>
</cp:coreProperties>
</file>