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10FC-859A-4305-947B-094FE2CD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8E74-077E-4C20-B3F9-38FDA3DC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9BAB-28F9-4234-AB00-8E9AEAF87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BE4E-8A39-4BEB-8DF4-D2F3DC7E3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A50D-956A-411A-A92E-470085FD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428F-67B7-44AC-9965-27DE30F8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6406-AA68-41AA-8B16-F563F632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10D8-30BF-44A9-82B3-55FF79AE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FC89-46C9-4465-869E-139953AA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A55A-856A-4C39-A702-45291C9E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B847-696F-41D4-A2B5-BF7A52E1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D8A4-D73F-4F2A-AA70-428ACF22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D6C4-28F8-4BBA-987F-4E385242CF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6705720" cy="68580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6204 WWW: Beyond The Basic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afd00"/>
                </a:solidFill>
                <a:latin typeface="Colonna MT"/>
              </a:rPr>
              <a:t>The World Wide We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Colonna MT"/>
              </a:rPr>
              <a:t>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afd00"/>
                </a:solidFill>
                <a:latin typeface="Colonna MT"/>
              </a:rPr>
              <a:t>Object Technolog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hish B. Sh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hish@csgrad.cs.vt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The Java Programming Language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25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Java has opened up a whole new array of possibilities in the field of distributed object oriented computing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The main </a:t>
            </a:r>
            <a:r>
              <a:rPr b="1" lang="en-US" sz="1700" spc="-1" strike="noStrike">
                <a:solidFill>
                  <a:srgbClr val="fafd00"/>
                </a:solidFill>
                <a:latin typeface="Arial"/>
              </a:rPr>
              <a:t>advantages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of Java </a:t>
            </a:r>
            <a:r>
              <a:rPr b="1" lang="en-US" sz="1700" spc="-1" strike="noStrike">
                <a:solidFill>
                  <a:srgbClr val="fafd00"/>
                </a:solidFill>
                <a:latin typeface="Arial"/>
              </a:rPr>
              <a:t>for distributed computing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ome from the capability to </a:t>
            </a:r>
            <a:r>
              <a:rPr b="1" lang="en-US" sz="1700" spc="-1" strike="noStrike">
                <a:solidFill>
                  <a:srgbClr val="fafd00"/>
                </a:solidFill>
                <a:latin typeface="Arial"/>
              </a:rPr>
              <a:t>download behavior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It allows clients to dynamically gain an intelligence they did not originally have by downloading classes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It simplifies software upgrade issues in large distributed systems. It becomes a lot easier to upgrade client software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The canonical bytecode and JVM interpreter simplify software development for heterogeneous platforms. A single application can run on multiple platforms without recompilatio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In terms of a full-fledged distributed object architecture </a:t>
            </a:r>
            <a:r>
              <a:rPr b="1" lang="en-US" sz="1700" spc="-1" strike="noStrike">
                <a:solidFill>
                  <a:srgbClr val="fafd00"/>
                </a:solidFill>
                <a:latin typeface="Arial"/>
              </a:rPr>
              <a:t>Java lacks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the following -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lient/server method invocation paradig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Object persistence and streamable storag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Distribution services such as security, transactions and concurrenc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Integration of different applets inside an HTML pag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Java: Recent Initiative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vaSoft is in the process of developing some new APIs  for inclusion in JDK 1.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APIs  address the current shortcomings of Java and make it a more suitable medium for distributed compu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va Enterprise A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va Database Connectivity (JDB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ote Method Invocation Specification (RM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 Serialization Spec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va ID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va Core Reflection A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va Commerce A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va Security A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istributed Component Object Model (DCOM)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oft’s standard for distribute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ta version of DCOM for Windows 95 announced recen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so called Network 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ension of the Component Object Model which forms the object model for the Windows plat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ed on Open Software Foundation’s DCE-RPC spec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s the basis for ActiveX 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5335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ompound Document Framewor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ound document framework acts as 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ain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n which a  continuous stream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ous kinds of dat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be placed and ea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 of content has associated controls th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 used to modify the content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-pla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form user interfac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 algn="ctr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nDoc (CI Labs, OM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LE (Microsof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ava Beans (JavaSof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Compound Document Frameworks: An Overview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ound document data can be any of the follow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vies, sounds, and ani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documents and spreadshe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base access compon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worked calend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stical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R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fferen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mponent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ore different types of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framework provid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rganized environmen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running a collection or components and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tocols for interaction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tween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ructured storage capabili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at enables storage of various types of components in a single document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cripting and automation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cility through which appropriate actions can be specified for specific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OpenDoc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ound document standard proposed by Component Integration Labs (CI Labs) formed in 1993 by Apple, IBM and ot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MG has adopted OpenDoc as the official compound document standard for CORBA-compliant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ponentGlu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Novell provides a bidirectional gateway between OpenDoc and O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40240" y="4654440"/>
            <a:ext cx="292320" cy="36828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4724280"/>
            <a:ext cx="152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10080" y="4800600"/>
            <a:ext cx="152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447920" y="3352680"/>
            <a:ext cx="5716440" cy="2363760"/>
            <a:chOff x="1447920" y="3352680"/>
            <a:chExt cx="5716440" cy="2363760"/>
          </a:xfrm>
        </p:grpSpPr>
        <p:sp>
          <p:nvSpPr>
            <p:cNvPr id="77" name=""/>
            <p:cNvSpPr/>
            <p:nvPr/>
          </p:nvSpPr>
          <p:spPr>
            <a:xfrm>
              <a:off x="1447920" y="3886200"/>
              <a:ext cx="5716440" cy="1830240"/>
            </a:xfrm>
            <a:custGeom>
              <a:avLst/>
              <a:gdLst/>
              <a:ahLst/>
              <a:rect l="l" t="t" r="r" b="b"/>
              <a:pathLst>
                <a:path w="3601" h="1153">
                  <a:moveTo>
                    <a:pt x="0" y="0"/>
                  </a:moveTo>
                  <a:lnTo>
                    <a:pt x="0" y="1152"/>
                  </a:lnTo>
                  <a:lnTo>
                    <a:pt x="3600" y="1152"/>
                  </a:lnTo>
                  <a:lnTo>
                    <a:pt x="3600" y="816"/>
                  </a:lnTo>
                  <a:lnTo>
                    <a:pt x="574" y="816"/>
                  </a:lnTo>
                  <a:lnTo>
                    <a:pt x="574" y="0"/>
                  </a:lnTo>
                  <a:lnTo>
                    <a:pt x="0" y="0"/>
                  </a:lnTo>
                </a:path>
              </a:pathLst>
            </a:custGeom>
            <a:solidFill>
              <a:srgbClr val="f57b4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44760" y="3892680"/>
              <a:ext cx="1130400" cy="120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64080" y="3892680"/>
              <a:ext cx="1130040" cy="120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83040" y="3892680"/>
              <a:ext cx="1130400" cy="120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102360" y="3892680"/>
              <a:ext cx="1054080" cy="120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60680" y="5257800"/>
              <a:ext cx="5235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man Old Style"/>
                </a:rPr>
                <a:t>System Object Model (SOM) or CORBA-compliant OR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19920" y="3932280"/>
              <a:ext cx="11466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Bookman Old Style"/>
                </a:rPr>
                <a:t>Compoun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Bookman Old Style"/>
                </a:rPr>
                <a:t>Docum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Bookman Old Style"/>
                </a:rPr>
                <a:t>Managem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85760" y="3932280"/>
              <a:ext cx="9453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Bookman Old Style"/>
                </a:rPr>
                <a:t>Bento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Bookman Old Style"/>
                </a:rPr>
                <a:t>Structure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Bookman Old Style"/>
                </a:rPr>
                <a:t>Storage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Bookman Old Style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13360" y="3962520"/>
              <a:ext cx="8539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Bookman Old Style"/>
                </a:rPr>
                <a:t>Unifor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Bookman Old Style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Bookman Old Style"/>
                </a:rPr>
                <a:t>Transf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10080" y="487692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35680" y="4654440"/>
              <a:ext cx="215640" cy="21600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21480" y="4654440"/>
              <a:ext cx="215640" cy="21600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68640" y="4730760"/>
              <a:ext cx="596880" cy="6336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68640" y="4807080"/>
              <a:ext cx="596880" cy="13968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68640" y="4959360"/>
              <a:ext cx="596880" cy="6336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00920" y="3932280"/>
              <a:ext cx="10627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Bookman Old Style"/>
                </a:rPr>
                <a:t>Ope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Bookman Old Style"/>
                </a:rPr>
                <a:t>Script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Bookman Old Style"/>
                </a:rPr>
                <a:t>Architectu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254640" y="4578480"/>
              <a:ext cx="139680" cy="13968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54640" y="4807080"/>
              <a:ext cx="139680" cy="13968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88160" y="4654440"/>
              <a:ext cx="63360" cy="63720"/>
            </a:xfrm>
            <a:prstGeom prst="ellipse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88160" y="4883040"/>
              <a:ext cx="63360" cy="63720"/>
            </a:xfrm>
            <a:prstGeom prst="ellipse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07280" y="4654440"/>
              <a:ext cx="368280" cy="63720"/>
            </a:xfrm>
            <a:prstGeom prst="rightArrow">
              <a:avLst>
                <a:gd name="adj1" fmla="val 50000"/>
                <a:gd name="adj2" fmla="val 289010"/>
              </a:avLst>
            </a:prstGeom>
            <a:solidFill>
              <a:srgbClr val="081d5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07280" y="4883040"/>
              <a:ext cx="368280" cy="63720"/>
            </a:xfrm>
            <a:prstGeom prst="rightArrow">
              <a:avLst>
                <a:gd name="adj1" fmla="val 50000"/>
                <a:gd name="adj2" fmla="val 289010"/>
              </a:avLst>
            </a:prstGeom>
            <a:solidFill>
              <a:srgbClr val="081d5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84560" y="3352680"/>
              <a:ext cx="2662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ookman Old Style"/>
                </a:rPr>
                <a:t>OpenDoc Architectu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340240" y="4578480"/>
            <a:ext cx="292320" cy="368280"/>
            <a:chOff x="5340240" y="4578480"/>
            <a:chExt cx="292320" cy="368280"/>
          </a:xfrm>
        </p:grpSpPr>
        <p:sp>
          <p:nvSpPr>
            <p:cNvPr id="101" name=""/>
            <p:cNvSpPr/>
            <p:nvPr/>
          </p:nvSpPr>
          <p:spPr>
            <a:xfrm>
              <a:off x="5340240" y="4578480"/>
              <a:ext cx="292320" cy="3682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464832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10080" y="472428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10080" y="480060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10080" y="487692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Object Linking and Embedding (OLE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LE is the object-based foundation for Window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consists of a number of interfaces which define a set of related func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ows creation of custom controls (OCXs) which are similar to OpenDoc par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LE Tools: MFC, Visual C++, Visual Bas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447920" y="3352680"/>
            <a:ext cx="5716440" cy="2363760"/>
            <a:chOff x="1447920" y="3352680"/>
            <a:chExt cx="5716440" cy="2363760"/>
          </a:xfrm>
        </p:grpSpPr>
        <p:sp>
          <p:nvSpPr>
            <p:cNvPr id="109" name=""/>
            <p:cNvSpPr/>
            <p:nvPr/>
          </p:nvSpPr>
          <p:spPr>
            <a:xfrm>
              <a:off x="1447920" y="3886200"/>
              <a:ext cx="5716440" cy="1830240"/>
            </a:xfrm>
            <a:custGeom>
              <a:avLst/>
              <a:gdLst/>
              <a:ahLst/>
              <a:rect l="l" t="t" r="r" b="b"/>
              <a:pathLst>
                <a:path w="3601" h="1153">
                  <a:moveTo>
                    <a:pt x="0" y="0"/>
                  </a:moveTo>
                  <a:lnTo>
                    <a:pt x="0" y="1152"/>
                  </a:lnTo>
                  <a:lnTo>
                    <a:pt x="3600" y="1152"/>
                  </a:lnTo>
                  <a:lnTo>
                    <a:pt x="3600" y="816"/>
                  </a:lnTo>
                  <a:lnTo>
                    <a:pt x="574" y="816"/>
                  </a:lnTo>
                  <a:lnTo>
                    <a:pt x="574" y="0"/>
                  </a:lnTo>
                  <a:lnTo>
                    <a:pt x="0" y="0"/>
                  </a:lnTo>
                </a:path>
              </a:pathLst>
            </a:custGeom>
            <a:solidFill>
              <a:srgbClr val="f57b4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44760" y="3892680"/>
              <a:ext cx="1130400" cy="120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64080" y="3892680"/>
              <a:ext cx="1130040" cy="120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83040" y="3892680"/>
              <a:ext cx="1130400" cy="120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02360" y="3892680"/>
              <a:ext cx="1054080" cy="120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60680" y="5257800"/>
              <a:ext cx="5235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man Old Style"/>
                </a:rPr>
                <a:t>Component Object Model (COM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19920" y="3932280"/>
              <a:ext cx="11466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Bookman Old Style"/>
                </a:rPr>
                <a:t>Compoun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Bookman Old Style"/>
                </a:rPr>
                <a:t>Docum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Bookman Old Style"/>
                </a:rPr>
                <a:t>Managem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64160" y="3932280"/>
              <a:ext cx="9882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Bookman Old Style"/>
                </a:rPr>
                <a:t>Compoun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Bookman Old Style"/>
                </a:rPr>
                <a:t>Fi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Bookman Old Style"/>
                </a:rPr>
                <a:t>(DocFiles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13360" y="3962520"/>
              <a:ext cx="8539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Bookman Old Style"/>
                </a:rPr>
                <a:t>Unifor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Bookman Old Style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Bookman Old Style"/>
                </a:rPr>
                <a:t>Transf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10080" y="487692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35680" y="4654440"/>
              <a:ext cx="215640" cy="21600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21480" y="4654440"/>
              <a:ext cx="215640" cy="21600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68640" y="4730760"/>
              <a:ext cx="596880" cy="6336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68640" y="4807080"/>
              <a:ext cx="596880" cy="13968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68640" y="4959360"/>
              <a:ext cx="596880" cy="6336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13880" y="3932280"/>
              <a:ext cx="10353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Bookman Old Style"/>
                </a:rPr>
                <a:t>O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Bookman Old Style"/>
                </a:rPr>
                <a:t>Autom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54640" y="4578480"/>
              <a:ext cx="139680" cy="13968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54640" y="4807080"/>
              <a:ext cx="139680" cy="13968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8160" y="4654440"/>
              <a:ext cx="63360" cy="63720"/>
            </a:xfrm>
            <a:prstGeom prst="ellipse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88160" y="4883040"/>
              <a:ext cx="63360" cy="63720"/>
            </a:xfrm>
            <a:prstGeom prst="ellipse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07280" y="4654440"/>
              <a:ext cx="368280" cy="63720"/>
            </a:xfrm>
            <a:prstGeom prst="rightArrow">
              <a:avLst>
                <a:gd name="adj1" fmla="val 50000"/>
                <a:gd name="adj2" fmla="val 289010"/>
              </a:avLst>
            </a:prstGeom>
            <a:solidFill>
              <a:srgbClr val="081d5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07280" y="4883040"/>
              <a:ext cx="368280" cy="63720"/>
            </a:xfrm>
            <a:prstGeom prst="rightArrow">
              <a:avLst>
                <a:gd name="adj1" fmla="val 50000"/>
                <a:gd name="adj2" fmla="val 289010"/>
              </a:avLst>
            </a:prstGeom>
            <a:solidFill>
              <a:srgbClr val="081d5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84560" y="3352680"/>
              <a:ext cx="2662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OLE Architec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340240" y="4578480"/>
            <a:ext cx="292320" cy="368280"/>
            <a:chOff x="5340240" y="4578480"/>
            <a:chExt cx="292320" cy="368280"/>
          </a:xfrm>
        </p:grpSpPr>
        <p:sp>
          <p:nvSpPr>
            <p:cNvPr id="133" name=""/>
            <p:cNvSpPr/>
            <p:nvPr/>
          </p:nvSpPr>
          <p:spPr>
            <a:xfrm>
              <a:off x="5340240" y="4578480"/>
              <a:ext cx="292320" cy="3682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10080" y="464832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10080" y="472428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10080" y="480060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10080" y="487692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Java Bean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onent Architecture for Java in JDK 1.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will allow mor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ynamic interaction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tween Java applications and appl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chitecture &amp;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tform neutral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I for creating and using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usabl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Java components called ‘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ean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’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API provides following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onent interface publishing and discov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nt hand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 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yout and property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 builder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so specifies a structured storage mechanism called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AR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hancements to AWT for supporting drag-and-drop, cut-and-pas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ndor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Current Development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crosoft is pushing ActiveX technology. Provides ActiveX controls with VJ+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BM has announced Arabica for supporting Java applets in an OpenDoc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ava Beans API  will provide an architecture neutral component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Theme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ntroduction to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ys in which object technology can make the world wide web a more dynamic and intelligent medium for communic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ous distributed object architectures and compound document framework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status of WWW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Distributed object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can Object technology do for the WW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digms for Distributed Computing and Mobil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R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ed 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ound Document Architec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nDo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 Linking and Embedding (O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va Be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Develop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Current Status of WWW technology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1222200"/>
          <a:ext cx="7658280" cy="56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22200"/>
                    <a:ext cx="7658280" cy="56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Distributed Object Technology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cribe behavior as well as associa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herently self mana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capsulation, Inheritance, Polymorphis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tributed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s that have self contained intellig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teroperat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cro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ng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wo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gu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s and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vendor Hardware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so known as ‘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mponent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What can Object Technology do for the WWW?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urn static web documents into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ive compound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de seamles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egr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f various information 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de a secure framework for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lectronic commerc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support long-lived and complex 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ort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oaming ag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able server and network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ad balanc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ucture information in OO and Relational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808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Distributed Object Architec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building client/server applications using distributed objects which are packaged as independent pieces of code and can be accessed by  local or remote clients via method invoca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de independence from operating systems, hardware platforms and implementation languag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de services such as security, transactions and persist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RBA (OM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ava (JavaSof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tributed COM (Microsof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Arial"/>
              </a:rPr>
              <a:t>Common Object Request Broker Architecture (CORBA)</a:t>
            </a:r>
            <a:endParaRPr b="0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25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ORBA is a set of standards proposed by the Object Management Group (OMG) for interoperability and portability of distributed object oriented applications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25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ORBA-compliant applications can communicate with each other regardless of location, implementation language, underlying operating system and hardware architecture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25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omposed of five major components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Object Request Broker (ORB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Interface Definition Language (IDL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Interface Repositor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Object Adapter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2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ORBA Servic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20000"/>
              </a:lnSpc>
              <a:spcBef>
                <a:spcPts val="425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1" lang="en-US" sz="1700" spc="-1" strike="noStrike">
                <a:solidFill>
                  <a:srgbClr val="fafd00"/>
                </a:solidFill>
                <a:latin typeface="Arial"/>
              </a:rPr>
              <a:t>ORB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is the middleware that mediates the interactions between client applications needing services and server applications capable of providing them. Using the services provided by the ORB a client object can transparently invoke a method on a server object, which can be on the same machine or across a network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CORBA (contd.)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D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s the language in which object interfaces are defined and advertised. It is purely declarative in the sense that an IDL interface definition is independent of the actual object implement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terface Repository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an on-line database of object definitions that can be queried at run-time for dynamic method calls, for locating potentially reusable software components and for type-checking of method sign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bject Adapter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vides the run-time environment for the server application. It provides the mechanism for an object’s implementation to access the services provided by the ORB and handles incoming client cal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RBA Service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gment the functionality provided by the ORB. CORBA defines services for persistence, transactions, concurrency, database queries, licensing, etc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BA 2.0 also defines a standard for inter-ORB communication, called the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terne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ter-ORB Protocol (IIOP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 IIOP is basically TCP/IP with some CORBA-defined message exchanges that serve as a common backbone protoco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14T16:22:57Z</dcterms:created>
  <dc:creator>Ashish Shah</dc:creator>
  <dc:description/>
  <dc:language>en-US</dc:language>
  <cp:lastModifiedBy>Marc Abrams</cp:lastModifiedBy>
  <cp:lastPrinted>1996-10-15T09:13:02Z</cp:lastPrinted>
  <dcterms:modified xsi:type="dcterms:W3CDTF">1997-04-25T20:16:18Z</dcterms:modified>
  <cp:revision>41</cp:revision>
  <dc:subject>WWW: Beyond the Basics</dc:subject>
  <dc:title>WWW and Object Technology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1168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2632256</vt:r8>
  </property>
  <property fmtid="{D5CDD505-2E9C-101B-9397-08002B2CF9AE}" pid="10" name="MailAddress">
    <vt:lpwstr>abrams@vt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Users\Marc\VPI\CS6204F96\WWWObjects\WWWObjects(PPT97)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16777215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2632256</vt:r8>
  </property>
</Properties>
</file>