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3A3-FF9D-4F3F-A429-77AA2C5F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94-C45B-4A32-A33A-CBE2A16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E78-DC4F-4CF4-A040-57D28FC2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D6D-67D9-4981-9A0F-124EB9FC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31C2-0042-4299-8CF0-B7DFB7D3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8A6F-F690-4797-BA92-255D17D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2C7-8C2E-47C7-947B-2906640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C100-46C9-4C18-B4D5-0F2C22E8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F2F7-1AA1-4E72-B003-7BE8EF10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79920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F16C-16A9-47F8-957E-0D4CD1E0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9A6-0589-46E0-9E0E-F38958D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B5D-DB80-4221-9A56-5D2E8537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446E-7AA8-415C-B2EE-833FF31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4EE-7380-4D9A-A690-BB56782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D4B1-819D-449A-B826-F685BAF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516-9AC2-455A-951E-DEED6336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3F6-29EF-4E0F-A5D0-6747B044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E2D-BEDA-400C-A65A-178ADA1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8A8-F1B6-48B1-BC72-B69F7E6C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450-F341-48D1-AB7B-CAD194E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9920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6A0-8DEA-4F96-88C6-0F61DEE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194-72D3-4593-95BC-DE928F1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36A-3770-489A-9B16-00725345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B63-A38E-42AA-B397-1076884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1905120" y="631332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The original contents by ND Barnette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regenerated with PowerPoint by JW Hw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524-C10C-4ADF-8454-3BE281A2F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DA3-2C1C-4E33-AA2D-F5D4C38CE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i.cs.vt.edu/~netinfo" TargetMode="External"/><Relationship Id="rId3" Type="http://schemas.openxmlformats.org/officeDocument/2006/relationships/hyperlink" Target="http://ei.cs.vt.edu/~netinfo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1447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00"/>
                </a:solidFill>
                <a:latin typeface="Times New Roman"/>
              </a:rPr>
              <a:t>CS 1604</a:t>
            </a:r>
            <a:br>
              <a:rPr sz="4400"/>
            </a:br>
            <a:r>
              <a:rPr b="0" lang="ko-KR" sz="4400" spc="-1" strike="noStrike">
                <a:solidFill>
                  <a:srgbClr val="ffcc00"/>
                </a:solidFill>
                <a:latin typeface="Times New Roman"/>
              </a:rPr>
              <a:t>Introduction to the Internet</a:t>
            </a:r>
            <a:br>
              <a:rPr sz="4400"/>
            </a:br>
            <a:r>
              <a:rPr b="0" lang="ko-KR" sz="2800" spc="-1" strike="noStrike">
                <a:solidFill>
                  <a:srgbClr val="ffcc00"/>
                </a:solidFill>
                <a:latin typeface="Times New Roman"/>
              </a:rPr>
              <a:t>http://ei.cs.vt.edu/~netinf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Jae-Woong Hw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s1604@vt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nline Chat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n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may be logged on the system during the office hours – no need to come to the office during office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a password to log in – the password will be announced through the listserv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structor’s e-mail addr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Please use    cs1604@vt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NOT    jaeh@vt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I am instructing and TA’ing 3classes for this semester.  Unless you identify which class you belong to whenever you send a message to me, I may be confused…  (^_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Office Hours: MCB 128, 11:00 – 12:00 Mon, 5:30 – 6:30 Fri, or by appointmen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whatnow" descr=""/>
          <p:cNvPicPr/>
          <p:nvPr/>
        </p:nvPicPr>
        <p:blipFill>
          <a:blip r:embed="rId5"/>
          <a:stretch/>
        </p:blipFill>
        <p:spPr>
          <a:xfrm>
            <a:off x="7216920" y="685800"/>
            <a:ext cx="19270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important guidel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cours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start now (only available for the first we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5 % for the final g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now – refer to the course schedules under the class home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wser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wish to turn “ON” the underlining option for the links (not to miss important lin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chan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Read the course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Keep track of the announcements from the class homepage and listser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Study the related materials before quizes will be available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Use listserv or chat system for questions and discussions (not for quiz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Take quizes while they are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nal Wor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LUCK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self-study, self-paced web base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quired in-class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class materials are available on the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related technologi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majors are NOT allowed to take this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-add: The capacity for this class is increased. So, you should be able to add yourse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xtbo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Course Textbook and CD-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Times New Roman"/>
              </a:rPr>
              <a:t>In-line/On-line: Fundamentals of the Internet and World Wide Web,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 Raymond Greenlaw and Ellen Hepp, WCB/McGraw-Hill, ©1999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CD-ROM: </a:t>
            </a:r>
            <a:r>
              <a:rPr b="1" lang="ko-KR" sz="2800" spc="-1" strike="noStrike">
                <a:solidFill>
                  <a:srgbClr val="ffffff"/>
                </a:solidFill>
                <a:latin typeface="Times New Roman"/>
              </a:rPr>
              <a:t>Internet A Knowledge Odyssey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</a:rPr>
              <a:t>, Russ Haynal, MindQ, ©1997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not required, but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.More referenc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2.5%: pre-cours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2.5%: post-course surve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60%: 12 quizes (5% for each qui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10%: project (homepage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25%: final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rucial Info and Too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Class homepage – all class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98d43"/>
                </a:solidFill>
                <a:uFillTx/>
                <a:latin typeface="Times New Roman"/>
                <a:hlinkClick r:id="rId2"/>
              </a:rPr>
              <a:t>http://ei.cs.vt.edu/~</a:t>
            </a:r>
            <a:r>
              <a:rPr b="0" lang="ko-KR" sz="2000" spc="-1" strike="noStrike" u="sng">
                <a:solidFill>
                  <a:srgbClr val="f98d43"/>
                </a:solidFill>
                <a:uFillTx/>
                <a:latin typeface="Times New Roman"/>
                <a:hlinkClick r:id="rId3"/>
              </a:rPr>
              <a:t>net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ebCT - online q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E-mail - cont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Listserv – e-mail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cs1604_1363@listserv.vt.ed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WW filebox - homepag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Online chat system - onlin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Instructor’s e-mail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cs1604@vt.edu (not jaeh@vt.ed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Office Hours: MCB 128, 11:00 – 12:00 Mon, 5:30 – 6:30 Fri, or by appoin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 homep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ei.cs.vt.edu/~net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iss important 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 follow the schedule to access the online notes and stay on track through the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00"/>
                </a:solidFill>
                <a:latin typeface="Times New Roman"/>
              </a:rPr>
              <a:t>WebCT – online quiz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Linked from the class home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Login id &amp; password (PID &amp; SS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Please let me know if you can not log into the system A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Online WebCT Quiz system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Each quiz is basically a 10 question multiple choice q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Open-web-book-note, but close-fi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Basically from on-line material but some are from readings and on-line web li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Study materials before taking a q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A quiz can be started and worked upon any number of times, but can be submitted only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stserv (mailing list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s1604_1363@listserv.vt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E-mail discu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A kind of goup email ac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Only for class re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NO DISCUSSION on quizes – VA TECH Honor code vi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Message fil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00"/>
                </a:solidFill>
                <a:latin typeface="Times New Roman"/>
              </a:rPr>
              <a:t>WWW Filebox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Class homepage developmen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Storage for your home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Must request the WWW Filebox using the class homepage links (about the proj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Request as soon as possible – it takes 3 days to over a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9:15:14Z</dcterms:created>
  <dc:creator>jae</dc:creator>
  <dc:description/>
  <dc:language>en-US</dc:language>
  <cp:lastModifiedBy>jae</cp:lastModifiedBy>
  <dcterms:modified xsi:type="dcterms:W3CDTF">2000-01-19T03:10:47Z</dcterms:modified>
  <cp:revision>14</cp:revision>
  <dc:subject/>
  <dc:title>CS 1604 Introduction to the Internet http://ei.cs.vt.edu/~netinfo</dc:title>
</cp:coreProperties>
</file>