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DA4-69D4-49C0-B832-188F6776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5A1-7FB5-4925-9929-EE7929E9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8F7-1F56-4A10-B30B-830CE30B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661-4A32-4A0B-B829-BC041906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451-33AF-4828-9B3F-F1CF3C8B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2CA-BC1E-4F88-85A7-ABEB17BC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5D9-F454-4AAD-94F0-A9EF427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FAF-7BF4-4019-8E6E-0AD48C5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BA62-B1F6-4E27-920A-435FE103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C19-84BB-4E30-9AFD-DC78C609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2C93-AA49-4B41-AA16-DFBE602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C3D-FA51-4156-96C3-552FCA8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9391-F557-4ADB-821C-0EF8B65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693C-0241-45FC-9399-C065648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78E-7FC2-4CEB-B607-762D38A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B96D-71A8-494E-A0CD-0890B81F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44AE-D2A6-488D-BA10-DE1C02C9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6CF-7C6C-46F7-A1B1-09E39BCA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CD2-9A00-42A2-A27A-AB97502B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C2D-16F1-43CD-A8AC-80493BA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25E-79BF-4A51-AC1B-9DC2A7C0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254-0995-433D-8497-6E0F434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708-F329-4F59-A774-5AE7158C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7DD-32DD-45E6-A4E5-7CE7F76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2286000" y="637704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r>
              <a:rPr b="0" lang="ko-KR" sz="1400" spc="-1" strike="noStrike">
                <a:solidFill>
                  <a:srgbClr val="003366"/>
                </a:solidFill>
                <a:latin typeface="Arial"/>
              </a:rPr>
              <a:t>The original contents by ND Barnette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Arial"/>
              </a:rPr>
              <a:t>regenerated with PowerPoint by JW Hw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D6FE-3CFE-49DD-A25C-E37456F0DB2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A1B2-6AB1-4803-A33A-B58BAD0801A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i.cs.vt.edu/~netinfo" TargetMode="External"/><Relationship Id="rId2" Type="http://schemas.openxmlformats.org/officeDocument/2006/relationships/hyperlink" Target="http://ei.cs.vt.edu/~netinfo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S 1604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troduction to the Interne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http://ei.cs.vt.edu/~netinf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Spring, 2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3366"/>
                </a:solidFill>
                <a:latin typeface="Arial"/>
              </a:rPr>
              <a:t>WWW Filebox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Class homepage development proj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Storage for your homep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Must request the WWW Filebox using the class homepage links (about the projec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Request as soon as possible – it takes 3 days to over a wee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nline Chat syst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onlin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structor may be logged on the system during the office hours – no need to come to the office during office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eed a password to log in – the password will be announced through the listserv next wee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structor’s e-mail addr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Please use    cs1604@vt.ed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NOT    jaeh@vt.ed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I am instructing and TA’ing 3 classes for this semester.  Unless you identify which class you belong to whenever you send a message to me, I may be confus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4" name="whatnow" descr=""/>
          <p:cNvPicPr/>
          <p:nvPr/>
        </p:nvPicPr>
        <p:blipFill>
          <a:blip r:embed="rId1"/>
          <a:stretch/>
        </p:blipFill>
        <p:spPr>
          <a:xfrm>
            <a:off x="7216920" y="685800"/>
            <a:ext cx="19270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ther important guideli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course surv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ed to start now (only available for the first wee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5 % for the final g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vailable now – refer to the course schedules under the class home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wser se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wish to turn “ON” the underlining option for the links (not to miss important link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chan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Read the course sched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Keep track of the announcements from the class homepage and listser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Study the related materials before quizes will be available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Use listserv or chat system for questions and discussions (not for quiz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Take quizes while they are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inal Wor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OOD LUCK 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struct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Jae-Woong Hwa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Arial"/>
              </a:rPr>
              <a:t>Email: cs1604@vt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Arial"/>
              </a:rPr>
              <a:t>Office 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11-12 Mon, 5:30 – 6:30 Fri or by appoin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Mcb 12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Arial"/>
              </a:rPr>
              <a:t>http://csgrad.cs.vt.edu/~jhwa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self-study, self-paced web based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quired in-class me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class materials are available on the w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 related technologies and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 majors are NOT allowed to take this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ce-add: The capacity for this class is increased. So, you should be able to add yourself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extboo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66"/>
                </a:solidFill>
                <a:latin typeface="Arial"/>
              </a:rPr>
              <a:t>Course Textbook and CD-R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Arial"/>
              </a:rPr>
              <a:t>In-line/On-line: Fundamentals of the Internet and World Wide Web,</a:t>
            </a: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 Raymond Greenlaw and Ellen Hepp, WCB/McGraw-Hill, ©1999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CD-ROM: </a:t>
            </a:r>
            <a:r>
              <a:rPr b="1" lang="ko-KR" sz="2000" spc="-1" strike="noStrike">
                <a:solidFill>
                  <a:srgbClr val="003366"/>
                </a:solidFill>
                <a:latin typeface="Arial"/>
              </a:rPr>
              <a:t>Internet A Knowledge Odyssey</a:t>
            </a: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, Russ Haynal, MindQ, ©1997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not required, but recomme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More references at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http://ei.cs.vt.edu/~netin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d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2.5%: pre-course surv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2.5%: post-course surve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60%: 12 quizes (5% for each quiz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10%: project (homepage developmen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25%: final ex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rucial Info and Too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Class homepage – all class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i.cs.vt.edu/~</a:t>
            </a:r>
            <a:r>
              <a:rPr b="0" lang="ko-KR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netin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WebCT - online qui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E-mail - cont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Listserv – e-mail disc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Arial"/>
              </a:rPr>
              <a:t>cs1604_1363@listserv.vt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WWW filebox - homepage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Arial"/>
              </a:rPr>
              <a:t>Online chat system - online disc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omep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ttp://ei.cs.vt.edu/~netinf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ss important announc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ease follow the schedule to access the online notes and stay on track through the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ll class materi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3366"/>
                </a:solidFill>
                <a:latin typeface="Arial"/>
              </a:rPr>
              <a:t>WebCT – online quiz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Linked from the class home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Login id &amp; password (PID &amp; SS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Online WebCT Quiz system tuto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Each quiz is basically a 10 question multiple choice qui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Open-web-book-note, but close-fi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Basically from on-line material but some are from readings and on-line web lin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Study materials before taking a qui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Arial"/>
              </a:rPr>
              <a:t>A quiz can be started and worked upon any number of times, but can be submitted only o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serv (mailing list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cs1604_1363@listserv.vt.ed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E-mail discuss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A kind of goup email accou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Only for class rel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NO DISCUSSION on quizes – VA TECH Honor code viol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66"/>
                </a:solidFill>
                <a:latin typeface="Arial"/>
              </a:rPr>
              <a:t>Message filte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9:15:14Z</dcterms:created>
  <dc:creator>jae</dc:creator>
  <dc:description/>
  <dc:language>en-US</dc:language>
  <cp:lastModifiedBy>jae</cp:lastModifiedBy>
  <dcterms:modified xsi:type="dcterms:W3CDTF">2000-02-23T22:07:03Z</dcterms:modified>
  <cp:revision>15</cp:revision>
  <dc:subject/>
  <dc:title>CS 1604 Introduction to the Internet http://ei.cs.vt.edu/~netinfo</dc:title>
</cp:coreProperties>
</file>