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" y="434340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5720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0292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1048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5040" y="3633840"/>
            <a:ext cx="8629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1.0                               10E6                      10E12                      10E18                            10E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581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84360" y="3405240"/>
            <a:ext cx="48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0880" y="50292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7680" y="5310360"/>
            <a:ext cx="182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ong radio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724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55960" y="546264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4724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84560" y="5996160"/>
            <a:ext cx="806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h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724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65440" y="5462640"/>
            <a:ext cx="87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M,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098960" y="5996160"/>
            <a:ext cx="1314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4724280"/>
            <a:ext cx="533880" cy="1371960"/>
          </a:xfrm>
          <a:custGeom>
            <a:avLst/>
            <a:gdLst/>
            <a:ahLst/>
            <a:rect l="0" t="0" r="r" b="b"/>
            <a:pathLst>
              <a:path fill="none" w="1483" h="3811">
                <a:moveTo>
                  <a:pt x="0" y="0"/>
                </a:moveTo>
                <a:lnTo>
                  <a:pt x="0" y="1905"/>
                </a:lnTo>
                <a:lnTo>
                  <a:pt x="1483" y="1905"/>
                </a:lnTo>
                <a:lnTo>
                  <a:pt x="1483" y="3811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79840" y="500544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13360" y="561492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isibl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4724280"/>
            <a:ext cx="457560" cy="914760"/>
          </a:xfrm>
          <a:custGeom>
            <a:avLst/>
            <a:gdLst/>
            <a:ahLst/>
            <a:rect l="0" t="0" r="r" b="b"/>
            <a:pathLst>
              <a:path fill="none" w="1271" h="2541">
                <a:moveTo>
                  <a:pt x="0" y="0"/>
                </a:moveTo>
                <a:lnTo>
                  <a:pt x="0" y="846"/>
                </a:lnTo>
                <a:lnTo>
                  <a:pt x="1271" y="846"/>
                </a:lnTo>
                <a:lnTo>
                  <a:pt x="1271" y="2541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75480" y="599616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724280"/>
            <a:ext cx="762480" cy="1371960"/>
          </a:xfrm>
          <a:custGeom>
            <a:avLst/>
            <a:gdLst/>
            <a:ahLst/>
            <a:rect l="0" t="0" r="r" b="b"/>
            <a:pathLst>
              <a:path fill="none" w="2118" h="3811">
                <a:moveTo>
                  <a:pt x="0" y="0"/>
                </a:moveTo>
                <a:lnTo>
                  <a:pt x="0" y="635"/>
                </a:lnTo>
                <a:lnTo>
                  <a:pt x="2118" y="635"/>
                </a:lnTo>
                <a:lnTo>
                  <a:pt x="2118" y="3811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37240" y="500544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99360" y="5462640"/>
            <a:ext cx="1346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924680" y="4572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1360" y="2651040"/>
            <a:ext cx="412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ctromagnetic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65040" y="60480"/>
            <a:ext cx="7246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LITTLE HISTORY ON WIRELESS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5040" y="944640"/>
            <a:ext cx="81723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 TO THE NINETEENTH CENTURY, SCIENTISTS THOU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LIGHT WAS THE ONLY WAVELENGTH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-15840" y="-15840"/>
            <a:ext cx="70675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7b00e4"/>
                </a:solidFill>
                <a:latin typeface="Arial"/>
                <a:ea typeface="Arial"/>
              </a:rPr>
              <a:t>Backoff Time=INT(CW*Random())*slo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W=Integer between CWmin and CW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()=Random number between 0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 time= Constant value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057400"/>
            <a:ext cx="152280" cy="365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057400"/>
            <a:ext cx="152280" cy="365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057400"/>
            <a:ext cx="152280" cy="365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057400"/>
            <a:ext cx="152280" cy="365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514600"/>
            <a:ext cx="6172200" cy="0"/>
          </a:xfrm>
          <a:custGeom>
            <a:avLst/>
            <a:gdLst/>
            <a:ahLst/>
            <a:rect l="0" t="0" r="r" b="b"/>
            <a:pathLst>
              <a:path fill="none" w="17145" h="0">
                <a:moveTo>
                  <a:pt x="0" y="0"/>
                </a:moveTo>
                <a:lnTo>
                  <a:pt x="17145" y="0"/>
                </a:lnTo>
                <a:lnTo>
                  <a:pt x="1714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6172200" cy="0"/>
          </a:xfrm>
          <a:custGeom>
            <a:avLst/>
            <a:gdLst/>
            <a:ahLst/>
            <a:rect l="0" t="0" r="r" b="b"/>
            <a:pathLst>
              <a:path fill="none" w="17145" h="0">
                <a:moveTo>
                  <a:pt x="0" y="0"/>
                </a:moveTo>
                <a:lnTo>
                  <a:pt x="17145" y="0"/>
                </a:lnTo>
                <a:lnTo>
                  <a:pt x="1714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267080"/>
            <a:ext cx="6172200" cy="0"/>
          </a:xfrm>
          <a:custGeom>
            <a:avLst/>
            <a:gdLst/>
            <a:ahLst/>
            <a:rect l="0" t="0" r="r" b="b"/>
            <a:pathLst>
              <a:path fill="none" w="17145" h="0">
                <a:moveTo>
                  <a:pt x="0" y="0"/>
                </a:moveTo>
                <a:lnTo>
                  <a:pt x="17145" y="0"/>
                </a:lnTo>
                <a:lnTo>
                  <a:pt x="1714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257800"/>
            <a:ext cx="6172200" cy="0"/>
          </a:xfrm>
          <a:custGeom>
            <a:avLst/>
            <a:gdLst/>
            <a:ahLst/>
            <a:rect l="0" t="0" r="r" b="b"/>
            <a:pathLst>
              <a:path fill="none" w="17145" h="0">
                <a:moveTo>
                  <a:pt x="0" y="0"/>
                </a:moveTo>
                <a:lnTo>
                  <a:pt x="17145" y="0"/>
                </a:lnTo>
                <a:lnTo>
                  <a:pt x="1714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2096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2240" y="220824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2209680"/>
            <a:ext cx="106668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965240" y="182736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2760" y="2589120"/>
            <a:ext cx="107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12760" y="3503520"/>
            <a:ext cx="107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760" y="4494240"/>
            <a:ext cx="107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760" y="5560920"/>
            <a:ext cx="107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3200400"/>
            <a:ext cx="121932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65240" y="2817720"/>
            <a:ext cx="928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4038480"/>
            <a:ext cx="4572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0384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22440" y="403704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3962520"/>
            <a:ext cx="106668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641760" y="357984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32004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70360" y="281772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3200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5029200"/>
            <a:ext cx="4572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50292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241960" y="464652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3124080"/>
            <a:ext cx="106668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13360" y="274176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9080" y="6080040"/>
            <a:ext cx="453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 of DFWMAC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2952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223040" y="792000"/>
            <a:ext cx="1257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609480"/>
            <a:ext cx="3581280" cy="38098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57200" y="1638360"/>
            <a:ext cx="700200" cy="214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44720" y="2936880"/>
            <a:ext cx="403200" cy="425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006880" y="345960"/>
            <a:ext cx="403200" cy="425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102120" y="3013200"/>
            <a:ext cx="403200" cy="425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540400" y="2784600"/>
            <a:ext cx="403200" cy="425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1882800" y="727200"/>
            <a:ext cx="403200" cy="425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33920" y="76320"/>
            <a:ext cx="3352680" cy="3657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803240" y="1273320"/>
            <a:ext cx="438120" cy="4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319720" y="1714680"/>
            <a:ext cx="700200" cy="214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5765760" y="1425600"/>
            <a:ext cx="438120" cy="403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937040" y="2011320"/>
            <a:ext cx="153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98560" y="1935000"/>
            <a:ext cx="153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752480" y="1981080"/>
            <a:ext cx="2743200" cy="990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9080" y="4632480"/>
            <a:ext cx="7794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 will enable a station to seemlessly move from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of operation to the 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1295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486400" y="1295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1905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22240" y="1935000"/>
            <a:ext cx="1454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22240" y="239220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8195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2767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4191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648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98560" y="2849400"/>
            <a:ext cx="974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98560" y="3306600"/>
            <a:ext cx="692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2240" y="37638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98560" y="4221000"/>
            <a:ext cx="882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98560" y="4678200"/>
            <a:ext cx="792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733920"/>
            <a:ext cx="28954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4191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191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4648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4648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905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28195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32767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05720" y="4191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4648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89880" y="1935000"/>
            <a:ext cx="1454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613560" y="2392200"/>
            <a:ext cx="1692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2160" y="2849400"/>
            <a:ext cx="100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18480" y="3306600"/>
            <a:ext cx="692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51240" y="37638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147080" y="37638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336840" y="4221000"/>
            <a:ext cx="882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336840" y="4678200"/>
            <a:ext cx="792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32480" y="42210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708440" y="4678200"/>
            <a:ext cx="1087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765840" y="42210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42160" y="4678200"/>
            <a:ext cx="1087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48006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48769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32280" y="3032280"/>
            <a:ext cx="2960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(Bri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46280" y="1050840"/>
            <a:ext cx="2173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384960" y="1050840"/>
            <a:ext cx="188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46280" y="60480"/>
            <a:ext cx="3409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to Wir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46280" y="441360"/>
            <a:ext cx="10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2760" y="212760"/>
            <a:ext cx="84837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connectivity provides a new layer of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ervices to environments and users that can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well served by traditional coaxial or fiber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dvantage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                                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e of installation                      Environment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e of modif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roughput (is 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ncr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onnec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reliabl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an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ily seg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 range of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480" y="-15840"/>
            <a:ext cx="9015480" cy="55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technologies and radio communications w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ught together for the first time in 1971 at th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awa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OHA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it was called was a reliable BI-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s network, in a star topology, betwe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 computer and each of the remot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1985, the FCC made commercial development of radi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d LAN components possible by authorizing the pub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the Industrial, Scientific and Medical (ISM) E-M 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band resides between 902 MHZ and 5.85 GHZ,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just above the cellular phone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36440" y="136440"/>
            <a:ext cx="916452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1990, NCR &amp; Motorola began shipp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ve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adapters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al months later companies such as Proxim, Xirco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ata and others joined in and the need for 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me ev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itute for Electrical and Electronic Engine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E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 working group, responsible for development of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 such as Ethernet (802.3) &amp; Token Ring (80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ed the 802.11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ndard should be completed in 1997, but m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ufacturers today are building equipment based u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802.11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-15840" y="-15840"/>
            <a:ext cx="8704440" cy="66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oday, there are three regions of E-M spectrum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utilized for network commun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nfrare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length is in the range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900 nanomet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rared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has to also exist a direct line of sight betwe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and the receiver, although angles of +/-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grees can be tolerated; furthermore, signal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be bounced on smooth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rared signals can operate at relatively high sp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ducts operate at 16 Mb/s, but the limits as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calculated by today’s transmitter / receive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round 100 Mb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15840" y="-15840"/>
            <a:ext cx="9194760" cy="66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dio signal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regions of the E-M spectrum utilized by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ves: 902-928 Mhz, 2.4-2.484 Ghz and 5.725-5.850 G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popular methods of transmitting / rece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ver a frequency spectrum. These methods we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 military in the 1970’s for secure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HSS- Frequency hopping spread spectrum involves divi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ge of radio spectrum into individual channels.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and the reviver follow a predetermined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hop from one channel to the next to send and rece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SSS- Direct sequence spread spectrum trans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ur over a continuos band of frequencies. A unique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pplied to the input signal, and the receiver use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to recover th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-15840" y="-15840"/>
            <a:ext cx="83311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of the goals for wireless connectivity is to make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parent at the application / user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s look at the open systems Interconnect (OSI)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0512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03848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97180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43828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57200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37160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98560" y="14778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98560" y="2011320"/>
            <a:ext cx="1708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4880" y="2544840"/>
            <a:ext cx="113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98560" y="3002040"/>
            <a:ext cx="1298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98560" y="3611520"/>
            <a:ext cx="1157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98560" y="414504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98560" y="4678200"/>
            <a:ext cx="1200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163044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32080" y="2468520"/>
            <a:ext cx="17082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7160" y="2697120"/>
            <a:ext cx="11304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0840" y="3154320"/>
            <a:ext cx="12985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50840" y="3763800"/>
            <a:ext cx="11574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50840" y="42973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3640" y="4830840"/>
            <a:ext cx="1046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3581280"/>
            <a:ext cx="28195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27560" y="3710160"/>
            <a:ext cx="220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link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4419720"/>
            <a:ext cx="28195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257800"/>
            <a:ext cx="28195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327560" y="4014720"/>
            <a:ext cx="126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 80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27560" y="4471920"/>
            <a:ext cx="2787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327560" y="4853160"/>
            <a:ext cx="279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2.3,802.4,802.5,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403880" y="5386320"/>
            <a:ext cx="170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90920" y="3505320"/>
            <a:ext cx="1752480" cy="5331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181480"/>
            <a:ext cx="1752480" cy="9144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89880" y="4251240"/>
            <a:ext cx="155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23040" y="5394240"/>
            <a:ext cx="1420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-15840" y="-171360"/>
            <a:ext cx="9161640" cy="70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undation protocol is at the medium Access 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AC) level of the Data Link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8901f3"/>
                </a:solidFill>
                <a:latin typeface="Arial"/>
                <a:ea typeface="Arial"/>
              </a:rPr>
              <a:t>Remember, this specifies which nodes will have access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8901f3"/>
                </a:solidFill>
                <a:latin typeface="Arial"/>
                <a:ea typeface="Arial"/>
              </a:rPr>
              <a:t>medium of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C-part of the 802.11 standard is named Distribu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 Wireless Medium Access Protocol (DFWMAC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s based on a CSMA/CA type access protocol with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ating back-off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order to understand this scheme lets review Etherne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MA/CD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s will listen to the medium (wired) for a free slo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 their packets. When two or more nodes begi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 simultaneously, a collision occurs and th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backlogged. The packets are then re-transmitted wi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q=1/2^i;     i=no. of collisions for tha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480" y="-901800"/>
            <a:ext cx="8923320" cy="77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SMA/CA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Senses the medium, if busy then waits unt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done plus an additional time (DIF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will then calculates randomly a slot within a 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 to start transmitting, and finally it start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tdown to that time s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ing the countdown if another station begins trans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will freeze its counter until that transmission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isions can now occur if and only if two stations p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e slot within the Contention Window to transmit; if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urs both stations will recalculate a future slot with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bly larger Contention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rhood Moslehi</dc:creator>
  <dc:description/>
  <dc:language>en-US</dc:language>
  <cp:lastModifiedBy>Farhood Moslehi</cp:lastModifiedBy>
  <cp:revision>0</cp:revision>
  <dc:subject/>
  <dc:title>No Slide Title</dc:title>
</cp:coreProperties>
</file>